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A42-1C88-4B95-A945-233D943B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05D-920F-4E21-BB04-220B341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DD5-4AA9-44D0-A6E7-C06D7615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188-F426-4EC0-936D-859C0079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1E4-86F1-4395-A9F9-E03089A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B6D-A014-4086-87F3-96258482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8D-356C-48FA-9EC3-98A3715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264-0AAD-4F48-95EA-7419D567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DAB-1DA2-4595-8F13-1D4CE4E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A6C-203A-4E06-A9BB-7A4C9AE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CC1-FF99-47DD-B7EC-7E7A9B4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7A7-66F7-44D4-BBC0-74030F8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72D-3F13-4AB6-82E4-04A24F42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52280"/>
            <a:ext cx="4343400" cy="601992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6019920"/>
              <a:gd name="textAreaBottom" fmla="*/ 5807880 h 6019920"/>
            </a:gdLst>
            <a:ahLst/>
            <a:rect l="textAreaLeft" t="textAreaTop" r="textAreaRight" b="textAreaBottom"/>
            <a:pathLst>
              <a:path w="21600" h="29937">
                <a:moveTo>
                  <a:pt x="3600" y="0"/>
                </a:moveTo>
                <a:arcTo wR="3600" hR="3600" stAng="16200000" swAng="-5400000"/>
                <a:lnTo>
                  <a:pt x="0" y="26337"/>
                </a:lnTo>
                <a:arcTo wR="3600" hR="3600" stAng="10800000" swAng="-5400000"/>
                <a:lnTo>
                  <a:pt x="18000" y="29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763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Trousse de réduction d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100160"/>
            <a:ext cx="3886200" cy="3886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Cognez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vous la tê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Times New Roman"/>
              </a:rPr>
              <a:t>ic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818240"/>
            <a:ext cx="4419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de d'emplo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1) Placez sur une surface D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) Suivez directives dans le cer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3) Répétez Étape 2 au besoin, ou jusqu'à l'inconsci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) Si inconscient, cessez activité de réduction de str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13:19:18Z</dcterms:created>
  <dc:creator>sjj</dc:creator>
  <dc:description/>
  <dc:language>en-US</dc:language>
  <cp:lastModifiedBy>sjj</cp:lastModifiedBy>
  <dcterms:modified xsi:type="dcterms:W3CDTF">2019-01-18T13:53:01Z</dcterms:modified>
  <cp:revision>2</cp:revision>
  <dc:subject/>
  <dc:title>PowerPoint Presentation</dc:title>
</cp:coreProperties>
</file>