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1E4-3077-4A62-BF98-E0BDFF1C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3AF-FDD2-4810-8432-55299326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E2D-C133-40A6-A0C5-C13C7A5C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62E-8DDD-4D22-BC21-C9E9A62C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9BD-C640-4BC4-9857-65F2BAF6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001-14BB-4A50-B716-B4BE1457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91A-AB3B-4CE1-BD94-F6B0B3A9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289-2A3D-4989-8660-E0E26069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40E-7499-4444-B9F1-72DCE351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838-920F-4CB3-8E32-25F470F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E91-F868-423C-BC93-86539294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C88-06C6-430F-B0D6-4E34947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69B9-35F3-4B0A-BC45-42A6E054F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533520"/>
            <a:ext cx="3962160" cy="5271840"/>
            <a:chOff x="609480" y="533520"/>
            <a:chExt cx="3962160" cy="5271840"/>
          </a:xfrm>
        </p:grpSpPr>
        <p:pic>
          <p:nvPicPr>
            <p:cNvPr id="42" name="penance" descr=""/>
            <p:cNvPicPr/>
            <p:nvPr/>
          </p:nvPicPr>
          <p:blipFill>
            <a:blip r:embed="rId1"/>
            <a:stretch/>
          </p:blipFill>
          <p:spPr>
            <a:xfrm>
              <a:off x="668160" y="609480"/>
              <a:ext cx="3887640" cy="50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09480" y="533520"/>
              <a:ext cx="3962160" cy="5271840"/>
            </a:xfrm>
            <a:custGeom>
              <a:avLst/>
              <a:gdLst>
                <a:gd name="textAreaLeft" fmla="*/ 193320 w 3962160"/>
                <a:gd name="textAreaRight" fmla="*/ 3768840 w 3962160"/>
                <a:gd name="textAreaTop" fmla="*/ 193320 h 5271840"/>
                <a:gd name="textAreaBottom" fmla="*/ 5078520 h 5271840"/>
              </a:gdLst>
              <a:ahLst/>
              <a:rect l="textAreaLeft" t="textAreaTop" r="textAreaRight" b="textAreaBottom"/>
              <a:pathLst>
                <a:path w="21600" h="28739">
                  <a:moveTo>
                    <a:pt x="3600" y="0"/>
                  </a:moveTo>
                  <a:arcTo wR="3600" hR="3600" stAng="16200000" swAng="-5400000"/>
                  <a:lnTo>
                    <a:pt x="0" y="25139"/>
                  </a:lnTo>
                  <a:arcTo wR="3600" hR="3600" stAng="10800000" swAng="-5400000"/>
                  <a:lnTo>
                    <a:pt x="18000" y="28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07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724280" y="762120"/>
            <a:ext cx="3505320" cy="4800600"/>
          </a:xfrm>
          <a:custGeom>
            <a:avLst/>
            <a:gdLst>
              <a:gd name="textAreaLeft" fmla="*/ 147600 w 3505320"/>
              <a:gd name="textAreaRight" fmla="*/ 3357720 w 3505320"/>
              <a:gd name="textAreaTop" fmla="*/ 147600 h 4800600"/>
              <a:gd name="textAreaBottom" fmla="*/ 4653000 h 4800600"/>
            </a:gdLst>
            <a:ahLst/>
            <a:rect l="textAreaLeft" t="textAreaTop" r="textAreaRight" b="textAreaBottom"/>
            <a:pathLst>
              <a:path w="21600" h="29581">
                <a:moveTo>
                  <a:pt x="3111" y="0"/>
                </a:moveTo>
                <a:arcTo wR="3111" hR="3111" stAng="16200000" swAng="-5400000"/>
                <a:lnTo>
                  <a:pt x="0" y="26470"/>
                </a:lnTo>
                <a:arcTo wR="3111" hR="3111" stAng="10800000" swAng="-5400000"/>
                <a:lnTo>
                  <a:pt x="18489" y="29581"/>
                </a:lnTo>
                <a:arcTo wR="3111" hR="3111" stAng="5400000" swAng="-5400000"/>
                <a:lnTo>
                  <a:pt x="21600" y="3111"/>
                </a:lnTo>
                <a:arcTo wR="3111" hR="3111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752480"/>
            <a:ext cx="3276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yant dit cela,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[Jésus]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souffla sur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[les Apôtres]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et leur dit: «Recevez l'Esprit Saint. Ceux à qui vous remettrez les péchés, ils leur seront remis; ceux à qui vous les retiendrez, ils leur seront retenus.»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[Jn 20:22]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48200" y="2971800"/>
            <a:ext cx="2976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69000" y="3124080"/>
            <a:ext cx="3132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Que Dieu notre Père vous montre sa miséricorde ; par la mort et la résurrection de son Fils, il a réconcilié le monde avec lui et il a envoyé l’Esprit Saint pour la rémission des péchés : par le ministère de l’Église, qu’il vous donne le pardon et la paix. Et moi, au nom du Père et du Fils et du Saint-Esprit, je vous pardonne tous vos péchés 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[CÉC, #1449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914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914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72400" y="5105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5105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21932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Le Fils de l’homme a le pouvoir de remettre les péchés sur la terre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Mc 2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609480" y="533520"/>
            <a:ext cx="3962160" cy="5271840"/>
            <a:chOff x="609480" y="533520"/>
            <a:chExt cx="3962160" cy="5271840"/>
          </a:xfrm>
        </p:grpSpPr>
        <p:pic>
          <p:nvPicPr>
            <p:cNvPr id="54" name="penance" descr=""/>
            <p:cNvPicPr/>
            <p:nvPr/>
          </p:nvPicPr>
          <p:blipFill>
            <a:blip r:embed="rId1"/>
            <a:stretch/>
          </p:blipFill>
          <p:spPr>
            <a:xfrm>
              <a:off x="668160" y="609480"/>
              <a:ext cx="3887640" cy="50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09480" y="533520"/>
              <a:ext cx="3962160" cy="5271840"/>
            </a:xfrm>
            <a:custGeom>
              <a:avLst/>
              <a:gdLst>
                <a:gd name="textAreaLeft" fmla="*/ 193320 w 3962160"/>
                <a:gd name="textAreaRight" fmla="*/ 3768840 w 3962160"/>
                <a:gd name="textAreaTop" fmla="*/ 193320 h 5271840"/>
                <a:gd name="textAreaBottom" fmla="*/ 5078520 h 5271840"/>
              </a:gdLst>
              <a:ahLst/>
              <a:rect l="textAreaLeft" t="textAreaTop" r="textAreaRight" b="textAreaBottom"/>
              <a:pathLst>
                <a:path w="21600" h="28739">
                  <a:moveTo>
                    <a:pt x="3600" y="0"/>
                  </a:moveTo>
                  <a:arcTo wR="3600" hR="3600" stAng="16200000" swAng="-5400000"/>
                  <a:lnTo>
                    <a:pt x="0" y="25139"/>
                  </a:lnTo>
                  <a:arcTo wR="3600" hR="3600" stAng="10800000" swAng="-5400000"/>
                  <a:lnTo>
                    <a:pt x="18000" y="28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07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724280" y="762120"/>
            <a:ext cx="3505320" cy="4800600"/>
          </a:xfrm>
          <a:custGeom>
            <a:avLst/>
            <a:gdLst>
              <a:gd name="textAreaLeft" fmla="*/ 147600 w 3505320"/>
              <a:gd name="textAreaRight" fmla="*/ 3357720 w 3505320"/>
              <a:gd name="textAreaTop" fmla="*/ 147600 h 4800600"/>
              <a:gd name="textAreaBottom" fmla="*/ 4653000 h 4800600"/>
            </a:gdLst>
            <a:ahLst/>
            <a:rect l="textAreaLeft" t="textAreaTop" r="textAreaRight" b="textAreaBottom"/>
            <a:pathLst>
              <a:path w="21600" h="29581">
                <a:moveTo>
                  <a:pt x="3111" y="0"/>
                </a:moveTo>
                <a:arcTo wR="3111" hR="3111" stAng="16200000" swAng="-5400000"/>
                <a:lnTo>
                  <a:pt x="0" y="26470"/>
                </a:lnTo>
                <a:arcTo wR="3111" hR="3111" stAng="10800000" swAng="-5400000"/>
                <a:lnTo>
                  <a:pt x="18489" y="29581"/>
                </a:lnTo>
                <a:arcTo wR="3111" hR="3111" stAng="5400000" swAng="-5400000"/>
                <a:lnTo>
                  <a:pt x="21600" y="3111"/>
                </a:lnTo>
                <a:arcTo wR="3111" hR="3111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1752480"/>
            <a:ext cx="3276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nd when he had said this, he breathed on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hem and said to them, "Receive the holy Spirit. Whose sins you forgive are forgiven them, and whose sins you retain are retained."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[Jn 20:22]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48200" y="2971800"/>
            <a:ext cx="2976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69000" y="3124080"/>
            <a:ext cx="3132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God, the Father of mercies,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through the death and the resurrection of his Son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has reconciled the world to himself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nd sent the Holy Spirit among us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for the forgiveness of sins;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through the ministry of the Church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may God give you pardon and peace,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nd I absolve you from your sins in the name of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he Father, and of the Son and of the Holy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pirit.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[CCC, #1449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914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914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5105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105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21932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Son of Man has authority to forgive sins on earth 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Mc 2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50:49Z</dcterms:created>
  <dc:creator> </dc:creator>
  <dc:description/>
  <dc:language>en-US</dc:language>
  <cp:lastModifiedBy> </cp:lastModifiedBy>
  <dcterms:modified xsi:type="dcterms:W3CDTF">2013-05-17T21:52:55Z</dcterms:modified>
  <cp:revision>6</cp:revision>
  <dc:subject/>
  <dc:title>PowerPoint Presentation</dc:title>
</cp:coreProperties>
</file>