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7737D-A140-43F5-909B-30D736818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13971-899B-4EF7-8435-A12D0770A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B3B09-F176-409B-90DF-EA339FE81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C25AE-2C86-4678-9296-14CADD94C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D9650-7DB0-4DD2-87EA-11E2B30A3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B2418-8BFA-4F07-8957-561AA64FE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33B46-0171-4CB7-A909-343A37BBE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B362D-8216-4073-AC77-C13805E3E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3901D-AD8B-4CC2-9856-4B62BA58C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31499-1D3A-480D-8B67-15396DC4B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B2EB2-1D53-49EB-B4D9-B007CF377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0C2E1-706A-4682-9154-623E6BE8B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38ED6-A291-4C24-A2F8-472D4CC00A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38080" y="944640"/>
            <a:ext cx="396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Times New Roman"/>
              </a:rPr>
              <a:t>1/4" Male mono </a:t>
            </a:r>
            <a:r>
              <a:rPr b="0" lang="fr-CA" sz="1400" spc="-1" strike="noStrike">
                <a:solidFill>
                  <a:srgbClr val="ff0000"/>
                </a:solidFill>
                <a:latin typeface="Times New Roman"/>
              </a:rPr>
              <a:t>["Interpretation Console Jack"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>
            <a:stCxn id="41" idx="2"/>
            <a:endCxn id="43" idx="0"/>
          </p:cNvCxnSpPr>
          <p:nvPr/>
        </p:nvCxnSpPr>
        <p:spPr>
          <a:xfrm flipH="1">
            <a:off x="1409760" y="1251720"/>
            <a:ext cx="1409760" cy="425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44" name=""/>
          <p:cNvGrpSpPr/>
          <p:nvPr/>
        </p:nvGrpSpPr>
        <p:grpSpPr>
          <a:xfrm>
            <a:off x="1066680" y="2197080"/>
            <a:ext cx="456840" cy="76320"/>
            <a:chOff x="1066680" y="2197080"/>
            <a:chExt cx="456840" cy="76320"/>
          </a:xfrm>
        </p:grpSpPr>
        <p:sp>
          <p:nvSpPr>
            <p:cNvPr id="45" name=""/>
            <p:cNvSpPr/>
            <p:nvPr/>
          </p:nvSpPr>
          <p:spPr>
            <a:xfrm>
              <a:off x="1238040" y="2197080"/>
              <a:ext cx="285480" cy="7632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066680" y="2222280"/>
              <a:ext cx="171360" cy="25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523800" y="2712960"/>
            <a:ext cx="3286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Times New Roman"/>
              </a:rPr>
              <a:t>1/8" Male stereo ["Williams Sound console jack"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" name=""/>
          <p:cNvCxnSpPr>
            <a:stCxn id="47" idx="0"/>
          </p:cNvCxnSpPr>
          <p:nvPr/>
        </p:nvCxnSpPr>
        <p:spPr>
          <a:xfrm flipH="1" flipV="1">
            <a:off x="1447200" y="2361960"/>
            <a:ext cx="720000" cy="351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9" name=""/>
          <p:cNvSpPr/>
          <p:nvPr/>
        </p:nvSpPr>
        <p:spPr>
          <a:xfrm>
            <a:off x="5334120" y="5440320"/>
            <a:ext cx="3278160" cy="60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Times New Roman"/>
              </a:rPr>
              <a:t>1/4" Male stereo (90 degree angle is nice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ff0000"/>
                </a:solidFill>
                <a:latin typeface="Times New Roman"/>
              </a:rPr>
              <a:t>["Compressor Jack"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" name=""/>
          <p:cNvCxnSpPr>
            <a:stCxn id="49" idx="0"/>
            <a:endCxn id="51" idx="2"/>
          </p:cNvCxnSpPr>
          <p:nvPr/>
        </p:nvCxnSpPr>
        <p:spPr>
          <a:xfrm flipV="1">
            <a:off x="6973200" y="4906800"/>
            <a:ext cx="9028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 flipV="1">
            <a:off x="7772400" y="1782360"/>
            <a:ext cx="0" cy="2895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00200" y="1782720"/>
            <a:ext cx="61722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286000" y="1981080"/>
            <a:ext cx="152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Times New Roman"/>
              </a:rPr>
              <a:t>Just take the tip from the stereo Williams Sound ja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" name=""/>
          <p:cNvCxnSpPr/>
          <p:nvPr/>
        </p:nvCxnSpPr>
        <p:spPr>
          <a:xfrm flipH="1" flipV="1">
            <a:off x="2056680" y="2056680"/>
            <a:ext cx="22932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 flipV="1">
            <a:off x="7696080" y="1935000"/>
            <a:ext cx="0" cy="2819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041880" y="2057400"/>
            <a:ext cx="1578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Times New Roman"/>
              </a:rPr>
              <a:t>Connect to the ring of the compressor ja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" name=""/>
          <p:cNvCxnSpPr>
            <a:stCxn id="57" idx="2"/>
          </p:cNvCxnSpPr>
          <p:nvPr/>
        </p:nvCxnSpPr>
        <p:spPr>
          <a:xfrm>
            <a:off x="6831000" y="2516400"/>
            <a:ext cx="789840" cy="456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9" name=""/>
          <p:cNvSpPr/>
          <p:nvPr/>
        </p:nvSpPr>
        <p:spPr>
          <a:xfrm>
            <a:off x="1238400" y="3241800"/>
            <a:ext cx="285480" cy="759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512720" y="223992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981080" y="1828800"/>
            <a:ext cx="0" cy="411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962520" y="1935000"/>
            <a:ext cx="3733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3962520" y="1934640"/>
            <a:ext cx="0" cy="2210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523880" y="3284640"/>
            <a:ext cx="2286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5800" y="4572000"/>
            <a:ext cx="228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Times New Roman"/>
              </a:rPr>
              <a:t>1/4" Female mono (optiona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6" name=""/>
          <p:cNvCxnSpPr>
            <a:stCxn id="65" idx="0"/>
          </p:cNvCxnSpPr>
          <p:nvPr/>
        </p:nvCxnSpPr>
        <p:spPr>
          <a:xfrm flipH="1" flipV="1">
            <a:off x="1539360" y="4342680"/>
            <a:ext cx="289800" cy="229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7" name=""/>
          <p:cNvSpPr/>
          <p:nvPr/>
        </p:nvSpPr>
        <p:spPr>
          <a:xfrm>
            <a:off x="380880" y="3505320"/>
            <a:ext cx="335304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Times New Roman"/>
              </a:rPr>
              <a:t>1/8" Female stereo (tip and ring on same cable) </a:t>
            </a:r>
            <a:r>
              <a:rPr b="0" lang="fr-CA" sz="1400" spc="-1" strike="noStrike">
                <a:solidFill>
                  <a:srgbClr val="ff0000"/>
                </a:solidFill>
                <a:latin typeface="Times New Roman"/>
              </a:rPr>
              <a:t>["Headphone Jack"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512720" y="4146480"/>
            <a:ext cx="2449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165320" y="4038480"/>
            <a:ext cx="380880" cy="228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648320" y="2316240"/>
            <a:ext cx="30456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1" name=""/>
          <p:cNvCxnSpPr>
            <a:stCxn id="70" idx="1"/>
            <a:endCxn id="72" idx="0"/>
          </p:cNvCxnSpPr>
          <p:nvPr/>
        </p:nvCxnSpPr>
        <p:spPr>
          <a:xfrm flipH="1" flipV="1">
            <a:off x="4267080" y="2086920"/>
            <a:ext cx="426240" cy="274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"/>
          <p:cNvSpPr/>
          <p:nvPr/>
        </p:nvSpPr>
        <p:spPr>
          <a:xfrm>
            <a:off x="4267080" y="1706400"/>
            <a:ext cx="0" cy="3812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543800" y="4297320"/>
            <a:ext cx="3808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553080" y="4419720"/>
            <a:ext cx="30492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75" idx="6"/>
            <a:endCxn id="74" idx="0"/>
          </p:cNvCxnSpPr>
          <p:nvPr/>
        </p:nvCxnSpPr>
        <p:spPr>
          <a:xfrm flipV="1">
            <a:off x="6858000" y="4297320"/>
            <a:ext cx="686160" cy="275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 rot="16200000">
            <a:off x="2286000" y="3458880"/>
            <a:ext cx="457200" cy="3353040"/>
          </a:xfrm>
          <a:custGeom>
            <a:avLst/>
            <a:gdLst>
              <a:gd name="textAreaLeft" fmla="*/ 292320 w 457200"/>
              <a:gd name="textAreaRight" fmla="*/ 457560 w 457200"/>
              <a:gd name="textAreaTop" fmla="*/ 87120 h 3353040"/>
              <a:gd name="textAreaBottom" fmla="*/ 3265920 h 3353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103120" y="228600"/>
            <a:ext cx="506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Schematic for Audio Compressor C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838080" y="5440320"/>
            <a:ext cx="33530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Times New Roman"/>
              </a:rPr>
              <a:t>Try to keep distances short between Point A and all connectors, to avoid having an octopus-like blob of wi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800600" y="3352680"/>
            <a:ext cx="1981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Times New Roman"/>
              </a:rPr>
              <a:t>Between Points A and B, just one cable, about 4 feet lo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1" name=""/>
          <p:cNvCxnSpPr/>
          <p:nvPr/>
        </p:nvCxnSpPr>
        <p:spPr>
          <a:xfrm flipV="1">
            <a:off x="1371240" y="3351960"/>
            <a:ext cx="5400" cy="359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2" name=""/>
          <p:cNvSpPr/>
          <p:nvPr/>
        </p:nvSpPr>
        <p:spPr>
          <a:xfrm>
            <a:off x="5486400" y="990720"/>
            <a:ext cx="2362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Times New Roman"/>
              </a:rPr>
              <a:t>Connect to the tip of the compressor ja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3" name=""/>
          <p:cNvCxnSpPr>
            <a:stCxn id="82" idx="2"/>
          </p:cNvCxnSpPr>
          <p:nvPr/>
        </p:nvCxnSpPr>
        <p:spPr>
          <a:xfrm flipH="1">
            <a:off x="5866560" y="1449720"/>
            <a:ext cx="8013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84" name=""/>
          <p:cNvGrpSpPr/>
          <p:nvPr/>
        </p:nvGrpSpPr>
        <p:grpSpPr>
          <a:xfrm>
            <a:off x="7685280" y="4678200"/>
            <a:ext cx="609480" cy="228600"/>
            <a:chOff x="7685280" y="4678200"/>
            <a:chExt cx="609480" cy="228600"/>
          </a:xfrm>
        </p:grpSpPr>
        <p:sp>
          <p:nvSpPr>
            <p:cNvPr id="51" name=""/>
            <p:cNvSpPr/>
            <p:nvPr/>
          </p:nvSpPr>
          <p:spPr>
            <a:xfrm flipH="1">
              <a:off x="7685280" y="4678200"/>
              <a:ext cx="380880" cy="22860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8065800" y="4754160"/>
              <a:ext cx="228600" cy="7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" name=""/>
          <p:cNvSpPr/>
          <p:nvPr/>
        </p:nvSpPr>
        <p:spPr>
          <a:xfrm>
            <a:off x="1546200" y="4083120"/>
            <a:ext cx="22636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809880" y="3276720"/>
            <a:ext cx="0" cy="815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535040" y="183996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990720" y="1676520"/>
            <a:ext cx="609480" cy="228600"/>
            <a:chOff x="990720" y="1676520"/>
            <a:chExt cx="609480" cy="228600"/>
          </a:xfrm>
        </p:grpSpPr>
        <p:sp>
          <p:nvSpPr>
            <p:cNvPr id="43" name=""/>
            <p:cNvSpPr/>
            <p:nvPr/>
          </p:nvSpPr>
          <p:spPr>
            <a:xfrm>
              <a:off x="1219320" y="1676520"/>
              <a:ext cx="380880" cy="22860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990720" y="1752480"/>
              <a:ext cx="228600" cy="7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1" name=""/>
          <p:cNvCxnSpPr>
            <a:stCxn id="80" idx="0"/>
            <a:endCxn id="70" idx="5"/>
          </p:cNvCxnSpPr>
          <p:nvPr/>
        </p:nvCxnSpPr>
        <p:spPr>
          <a:xfrm flipH="1" flipV="1">
            <a:off x="4908240" y="2576160"/>
            <a:ext cx="883080" cy="77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0" idx="2"/>
            <a:endCxn id="75" idx="2"/>
          </p:cNvCxnSpPr>
          <p:nvPr/>
        </p:nvCxnSpPr>
        <p:spPr>
          <a:xfrm>
            <a:off x="5790960" y="3811680"/>
            <a:ext cx="762480" cy="760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838080" y="94464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Times New Roman"/>
              </a:rPr>
              <a:t>1/4" M mo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4" name=""/>
          <p:cNvCxnSpPr>
            <a:stCxn id="93" idx="2"/>
            <a:endCxn id="95" idx="0"/>
          </p:cNvCxnSpPr>
          <p:nvPr/>
        </p:nvCxnSpPr>
        <p:spPr>
          <a:xfrm>
            <a:off x="1409400" y="121932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96" name=""/>
          <p:cNvGrpSpPr/>
          <p:nvPr/>
        </p:nvGrpSpPr>
        <p:grpSpPr>
          <a:xfrm>
            <a:off x="1066680" y="2197080"/>
            <a:ext cx="456840" cy="76320"/>
            <a:chOff x="1066680" y="2197080"/>
            <a:chExt cx="456840" cy="76320"/>
          </a:xfrm>
        </p:grpSpPr>
        <p:sp>
          <p:nvSpPr>
            <p:cNvPr id="97" name=""/>
            <p:cNvSpPr/>
            <p:nvPr/>
          </p:nvSpPr>
          <p:spPr>
            <a:xfrm>
              <a:off x="1238040" y="2197080"/>
              <a:ext cx="285480" cy="7632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066680" y="2222280"/>
              <a:ext cx="171360" cy="25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" name=""/>
          <p:cNvSpPr/>
          <p:nvPr/>
        </p:nvSpPr>
        <p:spPr>
          <a:xfrm>
            <a:off x="804960" y="263196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Times New Roman"/>
              </a:rPr>
              <a:t>1/8" M stere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99" idx="0"/>
            <a:endCxn id="97" idx="2"/>
          </p:cNvCxnSpPr>
          <p:nvPr/>
        </p:nvCxnSpPr>
        <p:spPr>
          <a:xfrm flipV="1">
            <a:off x="1375920" y="2273400"/>
            <a:ext cx="5400" cy="358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1" name=""/>
          <p:cNvSpPr/>
          <p:nvPr/>
        </p:nvSpPr>
        <p:spPr>
          <a:xfrm>
            <a:off x="7153200" y="5440320"/>
            <a:ext cx="14590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Times New Roman"/>
              </a:rPr>
              <a:t>1/4" M stere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Times New Roman"/>
              </a:rPr>
              <a:t>(coudé si possib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2" name=""/>
          <p:cNvCxnSpPr>
            <a:stCxn id="101" idx="0"/>
            <a:endCxn id="103" idx="2"/>
          </p:cNvCxnSpPr>
          <p:nvPr/>
        </p:nvCxnSpPr>
        <p:spPr>
          <a:xfrm flipH="1" flipV="1">
            <a:off x="7875360" y="4905000"/>
            <a:ext cx="8640" cy="535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4" name=""/>
          <p:cNvSpPr/>
          <p:nvPr/>
        </p:nvSpPr>
        <p:spPr>
          <a:xfrm flipV="1">
            <a:off x="7772400" y="1782360"/>
            <a:ext cx="0" cy="2895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600200" y="1782720"/>
            <a:ext cx="61722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133720" y="944640"/>
            <a:ext cx="1523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Times New Roman"/>
              </a:rPr>
              <a:t>Prendre seulement le "tip" du stere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7" name=""/>
          <p:cNvCxnSpPr/>
          <p:nvPr/>
        </p:nvCxnSpPr>
        <p:spPr>
          <a:xfrm flipH="1">
            <a:off x="2001600" y="1357200"/>
            <a:ext cx="838800" cy="656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8" name=""/>
          <p:cNvSpPr/>
          <p:nvPr/>
        </p:nvSpPr>
        <p:spPr>
          <a:xfrm flipV="1">
            <a:off x="7696080" y="1935000"/>
            <a:ext cx="0" cy="2819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226200" y="3459240"/>
            <a:ext cx="1295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Times New Roman"/>
              </a:rPr>
              <a:t>Connecter au "ring" du stere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2"/>
          </p:cNvCxnSpPr>
          <p:nvPr/>
        </p:nvCxnSpPr>
        <p:spPr>
          <a:xfrm>
            <a:off x="6873480" y="3916080"/>
            <a:ext cx="801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1" name=""/>
          <p:cNvSpPr/>
          <p:nvPr/>
        </p:nvSpPr>
        <p:spPr>
          <a:xfrm>
            <a:off x="1238400" y="3241800"/>
            <a:ext cx="285480" cy="759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512720" y="223992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981080" y="1828800"/>
            <a:ext cx="0" cy="411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743200" y="1935000"/>
            <a:ext cx="49528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2743200" y="1934640"/>
            <a:ext cx="0" cy="2210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523880" y="328464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95240" y="458964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Times New Roman"/>
              </a:rPr>
              <a:t>1/4" F mo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0"/>
          </p:cNvCxnSpPr>
          <p:nvPr/>
        </p:nvCxnSpPr>
        <p:spPr>
          <a:xfrm flipV="1">
            <a:off x="1366560" y="4230000"/>
            <a:ext cx="5400" cy="359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9" name=""/>
          <p:cNvSpPr/>
          <p:nvPr/>
        </p:nvSpPr>
        <p:spPr>
          <a:xfrm>
            <a:off x="380880" y="3505320"/>
            <a:ext cx="2286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Times New Roman"/>
              </a:rPr>
              <a:t>1/8" F stere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Times New Roman"/>
              </a:rPr>
              <a:t>("tip" et "ring" sur même fi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512720" y="4146480"/>
            <a:ext cx="1219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165320" y="4003560"/>
            <a:ext cx="380880" cy="228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8120" y="2316240"/>
            <a:ext cx="30456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3" name=""/>
          <p:cNvCxnSpPr>
            <a:stCxn id="122" idx="0"/>
            <a:endCxn id="124" idx="0"/>
          </p:cNvCxnSpPr>
          <p:nvPr/>
        </p:nvCxnSpPr>
        <p:spPr>
          <a:xfrm flipH="1" flipV="1">
            <a:off x="2971080" y="2115720"/>
            <a:ext cx="229320" cy="200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2971800" y="1706400"/>
            <a:ext cx="0" cy="3812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543800" y="4297320"/>
            <a:ext cx="3808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8077320" y="3611520"/>
            <a:ext cx="30456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8" name=""/>
          <p:cNvCxnSpPr>
            <a:stCxn id="127" idx="4"/>
            <a:endCxn id="126" idx="0"/>
          </p:cNvCxnSpPr>
          <p:nvPr/>
        </p:nvCxnSpPr>
        <p:spPr>
          <a:xfrm flipH="1">
            <a:off x="7951680" y="3916440"/>
            <a:ext cx="2782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 rot="16200000">
            <a:off x="1600200" y="4068720"/>
            <a:ext cx="457200" cy="2133360"/>
          </a:xfrm>
          <a:custGeom>
            <a:avLst/>
            <a:gdLst>
              <a:gd name="textAreaLeft" fmla="*/ 292320 w 457200"/>
              <a:gd name="textAreaRight" fmla="*/ 457560 w 457200"/>
              <a:gd name="textAreaTop" fmla="*/ 55440 h 2133360"/>
              <a:gd name="textAreaBottom" fmla="*/ 2077920 h 2133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288080" y="228600"/>
            <a:ext cx="637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Schéma de filage pour cable de compresseur aud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62120" y="5440320"/>
            <a:ext cx="2209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Times New Roman"/>
              </a:rPr>
              <a:t>"Bouquet de connecteurs" le moins "tentaculaire" possible (distances courtes entre connecteurs et point 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657600" y="5516640"/>
            <a:ext cx="2514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Times New Roman"/>
              </a:rPr>
              <a:t>Entre points A et B, un seul cable, d'une longueur d'environ 4 pie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19920" y="6278400"/>
            <a:ext cx="251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Times New Roman"/>
              </a:rPr>
              <a:t>Stefan Jetchick, 418-922-70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4" name=""/>
          <p:cNvCxnSpPr/>
          <p:nvPr/>
        </p:nvCxnSpPr>
        <p:spPr>
          <a:xfrm flipV="1">
            <a:off x="1371240" y="3351960"/>
            <a:ext cx="5400" cy="359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5" name=""/>
          <p:cNvSpPr/>
          <p:nvPr/>
        </p:nvSpPr>
        <p:spPr>
          <a:xfrm>
            <a:off x="7772400" y="2209680"/>
            <a:ext cx="1295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Times New Roman"/>
              </a:rPr>
              <a:t>Connecter au "tip" du stere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6" name=""/>
          <p:cNvCxnSpPr>
            <a:stCxn id="135" idx="2"/>
          </p:cNvCxnSpPr>
          <p:nvPr/>
        </p:nvCxnSpPr>
        <p:spPr>
          <a:xfrm flipH="1">
            <a:off x="7783200" y="2666520"/>
            <a:ext cx="637200" cy="578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37" name=""/>
          <p:cNvGrpSpPr/>
          <p:nvPr/>
        </p:nvGrpSpPr>
        <p:grpSpPr>
          <a:xfrm>
            <a:off x="7685280" y="4678200"/>
            <a:ext cx="609480" cy="228600"/>
            <a:chOff x="7685280" y="4678200"/>
            <a:chExt cx="609480" cy="228600"/>
          </a:xfrm>
        </p:grpSpPr>
        <p:sp>
          <p:nvSpPr>
            <p:cNvPr id="103" name=""/>
            <p:cNvSpPr/>
            <p:nvPr/>
          </p:nvSpPr>
          <p:spPr>
            <a:xfrm flipH="1">
              <a:off x="7685280" y="4678200"/>
              <a:ext cx="380880" cy="22860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>
              <a:off x="8065800" y="4754160"/>
              <a:ext cx="228600" cy="7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" name=""/>
          <p:cNvSpPr/>
          <p:nvPr/>
        </p:nvSpPr>
        <p:spPr>
          <a:xfrm>
            <a:off x="1546200" y="4083120"/>
            <a:ext cx="9032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438280" y="3276720"/>
            <a:ext cx="0" cy="815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35040" y="183996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990720" y="1676520"/>
            <a:ext cx="609480" cy="228600"/>
            <a:chOff x="990720" y="1676520"/>
            <a:chExt cx="609480" cy="228600"/>
          </a:xfrm>
        </p:grpSpPr>
        <p:sp>
          <p:nvSpPr>
            <p:cNvPr id="95" name=""/>
            <p:cNvSpPr/>
            <p:nvPr/>
          </p:nvSpPr>
          <p:spPr>
            <a:xfrm>
              <a:off x="1219320" y="1676520"/>
              <a:ext cx="380880" cy="22860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990720" y="1752480"/>
              <a:ext cx="228600" cy="7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11T13:20:05Z</dcterms:created>
  <dc:creator> </dc:creator>
  <dc:description/>
  <dc:language>en-US</dc:language>
  <cp:lastModifiedBy>sjj</cp:lastModifiedBy>
  <dcterms:modified xsi:type="dcterms:W3CDTF">2017-04-19T20:14:54Z</dcterms:modified>
  <cp:revision>10</cp:revision>
  <dc:subject/>
  <dc:title>PowerPoint Presentation</dc:title>
</cp:coreProperties>
</file>