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F3C-E0DA-4FBC-B3EF-1B8626E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383-6C62-43C8-A747-E10F06A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BD1-B978-4644-8B40-D99BEACF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E9A-3C2D-46F5-9915-D4DA640B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196-11F6-433F-8020-ED3AC77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A48-808C-4E76-8E47-4B1DD2C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5C9-5FA7-45DC-ADC3-82BE60E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21B-2F20-4BB2-B2BF-FB6AC94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C7D-BF15-43C0-9143-4DF8266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FD1-C51C-4361-B9AF-571987F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D19-70F4-47E1-9798-A5FACB9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A98-D95B-4345-84F1-755CD18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5D65-2F1A-42E6-8F2E-AF02E8F1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438280"/>
            <a:ext cx="4953240" cy="3124440"/>
          </a:xfrm>
          <a:custGeom>
            <a:avLst/>
            <a:gdLst/>
            <a:ahLst/>
            <a:rect l="l" t="t" r="r" b="b"/>
            <a:pathLst>
              <a:path w="3120" h="1968">
                <a:moveTo>
                  <a:pt x="3120" y="1968"/>
                </a:moveTo>
                <a:lnTo>
                  <a:pt x="3120" y="144"/>
                </a:lnTo>
                <a:lnTo>
                  <a:pt x="0" y="0"/>
                </a:lnTo>
                <a:lnTo>
                  <a:pt x="0" y="1344"/>
                </a:lnTo>
                <a:lnTo>
                  <a:pt x="3120" y="1968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2514600"/>
            <a:ext cx="2590560" cy="3048120"/>
          </a:xfrm>
          <a:custGeom>
            <a:avLst/>
            <a:gdLst/>
            <a:ahLst/>
            <a:rect l="l" t="t" r="r" b="b"/>
            <a:pathLst>
              <a:path w="1632" h="1920">
                <a:moveTo>
                  <a:pt x="1632" y="1200"/>
                </a:moveTo>
                <a:lnTo>
                  <a:pt x="0" y="1920"/>
                </a:lnTo>
                <a:lnTo>
                  <a:pt x="0" y="96"/>
                </a:lnTo>
                <a:lnTo>
                  <a:pt x="1632" y="0"/>
                </a:lnTo>
                <a:lnTo>
                  <a:pt x="1632" y="1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33412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334120" y="4419360"/>
            <a:ext cx="2590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2514240"/>
            <a:ext cx="2590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80520" y="4572000"/>
            <a:ext cx="4953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80520" y="2437920"/>
            <a:ext cx="4953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880" y="24379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924680" y="2514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0880" y="2361960"/>
            <a:ext cx="26672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048120" y="2361960"/>
            <a:ext cx="2590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334120" y="1523520"/>
            <a:ext cx="1447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743880" y="1523880"/>
            <a:ext cx="22478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523880"/>
            <a:ext cx="10670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990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320" y="990360"/>
            <a:ext cx="30456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666520" y="990720"/>
            <a:ext cx="381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523880"/>
            <a:ext cx="3657600" cy="1143000"/>
          </a:xfrm>
          <a:custGeom>
            <a:avLst/>
            <a:gdLst/>
            <a:ahLst/>
            <a:rect l="l" t="t" r="r" b="b"/>
            <a:pathLst>
              <a:path w="2304" h="672">
                <a:moveTo>
                  <a:pt x="1632" y="576"/>
                </a:moveTo>
                <a:lnTo>
                  <a:pt x="0" y="672"/>
                </a:lnTo>
                <a:lnTo>
                  <a:pt x="864" y="0"/>
                </a:lnTo>
                <a:lnTo>
                  <a:pt x="2304" y="0"/>
                </a:lnTo>
                <a:lnTo>
                  <a:pt x="1632" y="57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990720"/>
            <a:ext cx="2971800" cy="1447560"/>
          </a:xfrm>
          <a:custGeom>
            <a:avLst/>
            <a:gdLst/>
            <a:ahLst/>
            <a:rect l="l" t="t" r="r" b="b"/>
            <a:pathLst>
              <a:path w="1872" h="912">
                <a:moveTo>
                  <a:pt x="1872" y="864"/>
                </a:moveTo>
                <a:lnTo>
                  <a:pt x="192" y="912"/>
                </a:lnTo>
                <a:lnTo>
                  <a:pt x="0" y="0"/>
                </a:lnTo>
                <a:lnTo>
                  <a:pt x="1632" y="0"/>
                </a:lnTo>
                <a:lnTo>
                  <a:pt x="1872" y="86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ata" descr=""/>
          <p:cNvPicPr/>
          <p:nvPr/>
        </p:nvPicPr>
        <p:blipFill>
          <a:blip r:embed="rId1"/>
          <a:stretch/>
        </p:blipFill>
        <p:spPr>
          <a:xfrm>
            <a:off x="6429240" y="2666880"/>
            <a:ext cx="581040" cy="97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21474600">
            <a:off x="6351120" y="2590920"/>
            <a:ext cx="838440" cy="152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666880"/>
            <a:ext cx="4419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8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ÉCHISM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L'ÉGLIS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HOLIQU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86400" y="3579840"/>
            <a:ext cx="236232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ww.vatican.v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 rot="21210600">
            <a:off x="6324120" y="3581280"/>
            <a:ext cx="838440" cy="152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438280"/>
            <a:ext cx="4953240" cy="3124440"/>
          </a:xfrm>
          <a:custGeom>
            <a:avLst/>
            <a:gdLst/>
            <a:ahLst/>
            <a:rect l="l" t="t" r="r" b="b"/>
            <a:pathLst>
              <a:path w="3120" h="1968">
                <a:moveTo>
                  <a:pt x="3120" y="1968"/>
                </a:moveTo>
                <a:lnTo>
                  <a:pt x="3120" y="144"/>
                </a:lnTo>
                <a:lnTo>
                  <a:pt x="0" y="0"/>
                </a:lnTo>
                <a:lnTo>
                  <a:pt x="0" y="1344"/>
                </a:lnTo>
                <a:lnTo>
                  <a:pt x="3120" y="1968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514600"/>
            <a:ext cx="2590560" cy="3048120"/>
          </a:xfrm>
          <a:custGeom>
            <a:avLst/>
            <a:gdLst/>
            <a:ahLst/>
            <a:rect l="l" t="t" r="r" b="b"/>
            <a:pathLst>
              <a:path w="1632" h="1920">
                <a:moveTo>
                  <a:pt x="1632" y="1200"/>
                </a:moveTo>
                <a:lnTo>
                  <a:pt x="0" y="1920"/>
                </a:lnTo>
                <a:lnTo>
                  <a:pt x="0" y="96"/>
                </a:lnTo>
                <a:lnTo>
                  <a:pt x="1632" y="0"/>
                </a:lnTo>
                <a:lnTo>
                  <a:pt x="1632" y="1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4419360"/>
            <a:ext cx="2590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334120" y="2514240"/>
            <a:ext cx="2590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80520" y="4572000"/>
            <a:ext cx="4953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80520" y="2437920"/>
            <a:ext cx="4953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0880" y="243792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924680" y="2514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0880" y="2361960"/>
            <a:ext cx="26672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048120" y="2361960"/>
            <a:ext cx="2590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34120" y="1523520"/>
            <a:ext cx="14475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43880" y="1523880"/>
            <a:ext cx="22478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924680" y="1523880"/>
            <a:ext cx="10670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990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320" y="990360"/>
            <a:ext cx="30456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666520" y="990720"/>
            <a:ext cx="381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523880"/>
            <a:ext cx="3657600" cy="1143000"/>
          </a:xfrm>
          <a:custGeom>
            <a:avLst/>
            <a:gdLst/>
            <a:ahLst/>
            <a:rect l="l" t="t" r="r" b="b"/>
            <a:pathLst>
              <a:path w="2304" h="672">
                <a:moveTo>
                  <a:pt x="1632" y="576"/>
                </a:moveTo>
                <a:lnTo>
                  <a:pt x="0" y="672"/>
                </a:lnTo>
                <a:lnTo>
                  <a:pt x="864" y="0"/>
                </a:lnTo>
                <a:lnTo>
                  <a:pt x="2304" y="0"/>
                </a:lnTo>
                <a:lnTo>
                  <a:pt x="1632" y="57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990720"/>
            <a:ext cx="2971800" cy="1447560"/>
          </a:xfrm>
          <a:custGeom>
            <a:avLst/>
            <a:gdLst/>
            <a:ahLst/>
            <a:rect l="l" t="t" r="r" b="b"/>
            <a:pathLst>
              <a:path w="1872" h="912">
                <a:moveTo>
                  <a:pt x="1872" y="864"/>
                </a:moveTo>
                <a:lnTo>
                  <a:pt x="192" y="912"/>
                </a:lnTo>
                <a:lnTo>
                  <a:pt x="0" y="0"/>
                </a:lnTo>
                <a:lnTo>
                  <a:pt x="1632" y="0"/>
                </a:lnTo>
                <a:lnTo>
                  <a:pt x="1872" y="86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tata" descr=""/>
          <p:cNvPicPr/>
          <p:nvPr/>
        </p:nvPicPr>
        <p:blipFill>
          <a:blip r:embed="rId1"/>
          <a:stretch/>
        </p:blipFill>
        <p:spPr>
          <a:xfrm>
            <a:off x="6429240" y="2666880"/>
            <a:ext cx="581040" cy="97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rot="21474600">
            <a:off x="6351120" y="2590920"/>
            <a:ext cx="838440" cy="1522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666880"/>
            <a:ext cx="4419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8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CHISM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CATHOLIC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URCH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86400" y="3579840"/>
            <a:ext cx="236232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ww.vatican.v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 rot="21210600">
            <a:off x="6324120" y="3581280"/>
            <a:ext cx="838440" cy="1526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4:42:50Z</dcterms:created>
  <dc:creator>Stefan Jetchick</dc:creator>
  <dc:description/>
  <dc:language>en-US</dc:language>
  <cp:lastModifiedBy>Stefan Jetchick</cp:lastModifiedBy>
  <dcterms:modified xsi:type="dcterms:W3CDTF">2005-11-02T17:19:47Z</dcterms:modified>
  <cp:revision>18</cp:revision>
  <dc:subject/>
  <dc:title>PowerPoint Presentation</dc:title>
</cp:coreProperties>
</file>