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E77A-A907-4EC6-B830-748C5B2A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7A7B-B00E-441A-B091-A984FAE7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2529-E965-405C-9BC3-FDDDE908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6600-9B15-4E0C-909E-B9110DE2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2B1C-A3AB-487A-8CDC-B4D945E5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8AED-E397-4947-9529-732B6B68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586-62AF-45F9-AFF1-47C6ED87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09FC-EACE-473C-BFFE-FE62625B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F819-4B9A-4324-BB98-A86B4EB0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24E-3EE5-4163-B666-BE5FB01C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938D-9750-473D-B580-176A2959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42B4-644D-43EE-869C-0AE930C1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B0C0-9B09-4AAA-8810-8F3656E98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89200" y="31050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 Black"/>
              </a:rPr>
              <a:t>The P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99920" y="493380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 Black"/>
              </a:rPr>
              <a:t>Some b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 Black"/>
              </a:rPr>
              <a:t>shephe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971800" y="1098720"/>
            <a:ext cx="3123360" cy="501480"/>
            <a:chOff x="2971800" y="1098720"/>
            <a:chExt cx="3123360" cy="501480"/>
          </a:xfrm>
        </p:grpSpPr>
        <p:sp>
          <p:nvSpPr>
            <p:cNvPr id="44" name=""/>
            <p:cNvSpPr/>
            <p:nvPr/>
          </p:nvSpPr>
          <p:spPr>
            <a:xfrm rot="5400000">
              <a:off x="5372280" y="877320"/>
              <a:ext cx="501480" cy="944280"/>
            </a:xfrm>
            <a:custGeom>
              <a:avLst/>
              <a:gdLst>
                <a:gd name="textAreaLeft" fmla="*/ 0 w 501480"/>
                <a:gd name="textAreaRight" fmla="*/ 501480 w 501480"/>
                <a:gd name="textAreaTop" fmla="*/ 0 h 944280"/>
                <a:gd name="textAreaBottom" fmla="*/ 944640 h 94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971800" y="1098720"/>
              <a:ext cx="2469960" cy="1501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943360" y="662040"/>
            <a:ext cx="259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Divine words : "He that heareth you, heareth me" [Luke, 10, 1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960920" y="2743200"/>
            <a:ext cx="3296520" cy="533520"/>
            <a:chOff x="1960920" y="2743200"/>
            <a:chExt cx="3296520" cy="533520"/>
          </a:xfrm>
        </p:grpSpPr>
        <p:sp>
          <p:nvSpPr>
            <p:cNvPr id="48" name=""/>
            <p:cNvSpPr/>
            <p:nvPr/>
          </p:nvSpPr>
          <p:spPr>
            <a:xfrm flipH="1" rot="16200000">
              <a:off x="2192040" y="2511360"/>
              <a:ext cx="533520" cy="996840"/>
            </a:xfrm>
            <a:custGeom>
              <a:avLst/>
              <a:gdLst>
                <a:gd name="textAreaLeft" fmla="*/ 360 w 533520"/>
                <a:gd name="textAreaRight" fmla="*/ 534240 w 533520"/>
                <a:gd name="textAreaTop" fmla="*/ 0 h 996840"/>
                <a:gd name="textAreaBottom" fmla="*/ 997200 h 9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650320" y="2743200"/>
              <a:ext cx="2607120" cy="1598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3063960" y="224640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asty and nutritious teachings of the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1880" y="2286000"/>
            <a:ext cx="6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 Black"/>
              </a:rPr>
              <a:t>Jes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616040" y="3276720"/>
          <a:ext cx="1203480" cy="166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3276720"/>
                    <a:ext cx="1203480" cy="16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495680" y="3581280"/>
          <a:ext cx="2333880" cy="270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581280"/>
                    <a:ext cx="2333880" cy="27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2895480" y="3689280"/>
            <a:ext cx="2537640" cy="501840"/>
            <a:chOff x="2895480" y="3689280"/>
            <a:chExt cx="2537640" cy="501840"/>
          </a:xfrm>
        </p:grpSpPr>
        <p:sp>
          <p:nvSpPr>
            <p:cNvPr id="57" name=""/>
            <p:cNvSpPr/>
            <p:nvPr/>
          </p:nvSpPr>
          <p:spPr>
            <a:xfrm rot="5400000">
              <a:off x="4798440" y="3556440"/>
              <a:ext cx="501840" cy="76716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767160"/>
                <a:gd name="textAreaBottom" fmla="*/ 767520 h 76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5480" y="3689280"/>
              <a:ext cx="2007000" cy="150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3276720" y="342900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Bland and toxic ca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30680" y="554364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 Black"/>
              </a:rPr>
              <a:t>Sick f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3657600"/>
            <a:ext cx="1524240" cy="762120"/>
          </a:xfrm>
          <a:prstGeom prst="wedgeEllipseCallout">
            <a:avLst>
              <a:gd name="adj1" fmla="val -6666"/>
              <a:gd name="adj2" fmla="val 764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Mommy, my stomach hur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00200" y="152280"/>
          <a:ext cx="1278000" cy="215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152280"/>
                    <a:ext cx="1278000" cy="21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220px-Ombrellino-keys.svg" descr=""/>
          <p:cNvPicPr/>
          <p:nvPr/>
        </p:nvPicPr>
        <p:blipFill>
          <a:blip r:embed="rId7"/>
          <a:stretch/>
        </p:blipFill>
        <p:spPr>
          <a:xfrm>
            <a:off x="5419800" y="1654200"/>
            <a:ext cx="807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3:24:05Z</dcterms:created>
  <dc:creator>Stefan Jetchick</dc:creator>
  <dc:description/>
  <dc:language>en-US</dc:language>
  <cp:lastModifiedBy>sjj</cp:lastModifiedBy>
  <dcterms:modified xsi:type="dcterms:W3CDTF">2017-03-27T20:05:21Z</dcterms:modified>
  <cp:revision>48</cp:revision>
  <dc:subject/>
  <dc:title>PowerPoint Presentation</dc:title>
</cp:coreProperties>
</file>