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916-0C76-413A-BC88-42A7ED09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1AF-C28D-42A8-92A1-238684F0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9BD-E394-4C0D-A4EE-8BC216BA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3DC-0829-48C4-AC07-7A8EBC93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0A9-D1CE-4D27-954B-420580A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602-F4F3-45A3-9CFD-7820D7AD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82E-5BC2-48F9-87BC-D4FEBBB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1F0-FE1C-4A92-A73C-5FB3507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23A-6EFD-46E7-94B6-AC54FBF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A37-3C3E-4EA5-ACEA-83B86A2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52C-412B-477A-90DD-D1D3015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C4B-08C5-4A29-8096-16C282D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D04-A90E-4124-B932-A01A51C29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3"/>
            <a:endCxn id="43" idx="1"/>
          </p:cNvCxnSpPr>
          <p:nvPr/>
        </p:nvCxnSpPr>
        <p:spPr>
          <a:xfrm>
            <a:off x="2993400" y="2592000"/>
            <a:ext cx="23522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7840" y="19810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ut être 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1040" y="1981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cun être n'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5200" y="434340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que être est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67320" y="434340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que être n'est pas 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520" y="25909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1480" y="19810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que (précède dans la connaiss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3040" y="29257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680" y="3306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5560" y="254484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ég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98320" y="365760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C COMMUNICATION D'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2280" y="289548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communication d'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46200" y="4068720"/>
            <a:ext cx="16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C DÉP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49800" y="327672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dép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9810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24764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1480" y="28576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32004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333400" y="2362320"/>
            <a:ext cx="152280" cy="914400"/>
          </a:xfrm>
          <a:custGeom>
            <a:avLst/>
            <a:gdLst>
              <a:gd name="textAreaLeft" fmla="*/ 96840 w 152280"/>
              <a:gd name="textAreaRight" fmla="*/ 1522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5240" y="266688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0960" y="2743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4760" y="2743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8920" y="2743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60" y="71280"/>
            <a:ext cx="11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2, 13, 14,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280" y="3048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267080" y="3137040"/>
                <a:ext cx="330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177280" y="468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724280"/>
            <a:ext cx="3581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3240" y="137160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= masse *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276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s * 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2400" y="281952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s  =  kilogrammes *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6840" y="60948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uxième loi de Newt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50080" y="22860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unités du Système Intern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5760" y="1371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ail =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4920" y="281952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les  =  Newtons *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4680" y="6094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travail (ou l'énerg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0080" y="22860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unités du Système Intern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0200" y="137160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44920" y="1562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00" y="71280"/>
            <a:ext cx="50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1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400" y="2286000"/>
            <a:ext cx="6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dé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2760" y="185904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ndétermin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ou nég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63000" y="28195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étermin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ou posit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8720" y="335772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prop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8000" y="2595600"/>
            <a:ext cx="8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mm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ou obsc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272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8960" y="3801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0402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f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60840" y="29718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81360" y="4259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ssenti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81720" y="34974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descrip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2160" y="3429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6560" y="47163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m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6560" y="395460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incom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7000" y="38862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60" y="71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532800" y="306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4640" y="3049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6400" y="7272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6920" y="914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22800" y="6858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7" idx="3"/>
            <a:endCxn id="59" idx="1"/>
          </p:cNvCxnSpPr>
          <p:nvPr/>
        </p:nvCxnSpPr>
        <p:spPr>
          <a:xfrm>
            <a:off x="2995560" y="25909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0360" y="1905120"/>
            <a:ext cx="13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1400" y="190512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7720" y="434340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ex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34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Dieu n'existe p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93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08560" y="3844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5280" y="236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1440" y="384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3" idx="3"/>
            <a:endCxn id="75" idx="1"/>
          </p:cNvCxnSpPr>
          <p:nvPr/>
        </p:nvCxnSpPr>
        <p:spPr>
          <a:xfrm>
            <a:off x="2995560" y="25909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819960" y="2446200"/>
            <a:ext cx="779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2987640" y="4095720"/>
            <a:ext cx="2348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3676680" y="3951360"/>
            <a:ext cx="110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s-contr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/>
          <p:nvPr/>
        </p:nvCxnSpPr>
        <p:spPr>
          <a:xfrm flipV="1">
            <a:off x="3139920" y="2777400"/>
            <a:ext cx="19821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3063960" y="2777760"/>
            <a:ext cx="2134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3601800" y="3235320"/>
            <a:ext cx="1084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dicto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7480" y="1523880"/>
            <a:ext cx="152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tout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0680" y="1495440"/>
            <a:ext cx="152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tout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3434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quelque homm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'être pas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41972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quelque homme d'être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286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quelque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429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tout homme de n'ê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286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nécess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 quelque hom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it 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429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st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à tout homme d'ê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étaphysic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44080" y="27432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ut être spirit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6880" y="274320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0040" y="27432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ort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6960" y="34290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, l'âme hu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6880" y="342900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88960" y="3429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e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5520" y="403848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c l'âme hum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6880" y="403848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9680" y="403848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orte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58600" y="24112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520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58600" y="3097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4480" y="30970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8960" y="37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5200" y="3706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3040" y="2666880"/>
            <a:ext cx="56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3840" y="2666880"/>
            <a:ext cx="54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3200" y="2666880"/>
            <a:ext cx="47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8080" y="2666880"/>
            <a:ext cx="5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"/>
          <p:cNvCxnSpPr>
            <a:stCxn id="115" idx="1"/>
            <a:endCxn id="116" idx="2"/>
          </p:cNvCxnSpPr>
          <p:nvPr/>
        </p:nvCxnSpPr>
        <p:spPr>
          <a:xfrm flipH="1" flipV="1">
            <a:off x="4368600" y="1204200"/>
            <a:ext cx="11520" cy="473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686520" y="304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040" y="38088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arbre de Porphy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2000" y="8380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re suprê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160" y="2209680"/>
            <a:ext cx="64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6360" y="2209680"/>
            <a:ext cx="977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-v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2280" y="2819520"/>
            <a:ext cx="72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égé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360" y="3352680"/>
            <a:ext cx="10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naiss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5600" y="3276720"/>
            <a:ext cx="139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-connaiss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22640" y="3886200"/>
            <a:ext cx="69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49800" y="4267080"/>
            <a:ext cx="128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oué de 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0000" y="4267080"/>
            <a:ext cx="1590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n doué de r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24800" y="4952880"/>
            <a:ext cx="734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o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9080" y="5348160"/>
            <a:ext cx="148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èce inf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2720" y="6324480"/>
            <a:ext cx="86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vi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191120" y="4495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83000" y="1523880"/>
            <a:ext cx="177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bsta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corporel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3142800" y="2514240"/>
            <a:ext cx="1243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2" idx="2"/>
            <a:endCxn id="124" idx="0"/>
          </p:cNvCxnSpPr>
          <p:nvPr/>
        </p:nvCxnSpPr>
        <p:spPr>
          <a:xfrm>
            <a:off x="3204720" y="3657240"/>
            <a:ext cx="1167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5" idx="2"/>
            <a:endCxn id="127" idx="0"/>
          </p:cNvCxnSpPr>
          <p:nvPr/>
        </p:nvCxnSpPr>
        <p:spPr>
          <a:xfrm>
            <a:off x="3092400" y="4572000"/>
            <a:ext cx="13010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9" idx="0"/>
            <a:endCxn id="130" idx="2"/>
          </p:cNvCxnSpPr>
          <p:nvPr/>
        </p:nvCxnSpPr>
        <p:spPr>
          <a:xfrm flipV="1">
            <a:off x="3143160" y="1828440"/>
            <a:ext cx="1231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22" idx="0"/>
            <a:endCxn id="121" idx="2"/>
          </p:cNvCxnSpPr>
          <p:nvPr/>
        </p:nvCxnSpPr>
        <p:spPr>
          <a:xfrm flipV="1">
            <a:off x="3204720" y="3123360"/>
            <a:ext cx="1181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5" idx="0"/>
            <a:endCxn id="124" idx="0"/>
          </p:cNvCxnSpPr>
          <p:nvPr/>
        </p:nvCxnSpPr>
        <p:spPr>
          <a:xfrm flipV="1">
            <a:off x="3092400" y="3885840"/>
            <a:ext cx="1280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0" idx="2"/>
            <a:endCxn id="120" idx="0"/>
          </p:cNvCxnSpPr>
          <p:nvPr/>
        </p:nvCxnSpPr>
        <p:spPr>
          <a:xfrm>
            <a:off x="4373640" y="1828800"/>
            <a:ext cx="1372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1" idx="2"/>
            <a:endCxn id="123" idx="0"/>
          </p:cNvCxnSpPr>
          <p:nvPr/>
        </p:nvCxnSpPr>
        <p:spPr>
          <a:xfrm>
            <a:off x="4385880" y="3124080"/>
            <a:ext cx="13388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24" idx="0"/>
            <a:endCxn id="126" idx="0"/>
          </p:cNvCxnSpPr>
          <p:nvPr/>
        </p:nvCxnSpPr>
        <p:spPr>
          <a:xfrm>
            <a:off x="4371480" y="3886200"/>
            <a:ext cx="1374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0520" y="31896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bauche de classification générale des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5480" y="990720"/>
            <a:ext cx="6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76840" y="373392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5600" y="106668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éologie 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8380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1400" y="99072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yclopé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37440" y="914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838080"/>
            <a:ext cx="76320" cy="22860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89720" y="83808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r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olo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7621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ividuel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238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153280" y="914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64008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ordination essent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3086280" y="4381200"/>
            <a:ext cx="152280" cy="3886200"/>
          </a:xfrm>
          <a:custGeom>
            <a:avLst/>
            <a:gdLst>
              <a:gd name="textAreaLeft" fmla="*/ 97200 w 152280"/>
              <a:gd name="textAreaRight" fmla="*/ 152640 w 152280"/>
              <a:gd name="textAreaTop" fmla="*/ 28440 h 3886200"/>
              <a:gd name="textAreaBottom" fmla="*/ 38577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153280" y="1676520"/>
            <a:ext cx="152640" cy="4419360"/>
          </a:xfrm>
          <a:custGeom>
            <a:avLst/>
            <a:gdLst>
              <a:gd name="textAreaLeft" fmla="*/ 97560 w 152640"/>
              <a:gd name="textAreaRight" fmla="*/ 153000 w 152640"/>
              <a:gd name="textAreaTop" fmla="*/ 32400 h 4419360"/>
              <a:gd name="textAreaBottom" fmla="*/ 43869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629400" y="5028840"/>
            <a:ext cx="152280" cy="25909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080 h 2590920"/>
              <a:gd name="textAreaBottom" fmla="*/ 257184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4008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ordination accide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152280" cy="2895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240 h 2895480"/>
              <a:gd name="textAreaBottom" fmla="*/ 2874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6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e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640" y="2530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e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640" y="4038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er deg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'abs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676520"/>
            <a:ext cx="152280" cy="533160"/>
          </a:xfrm>
          <a:custGeom>
            <a:avLst/>
            <a:gdLst>
              <a:gd name="textAreaLeft" fmla="*/ 97200 w 152280"/>
              <a:gd name="textAreaRight" fmla="*/ 152640 w 152280"/>
              <a:gd name="textAreaTop" fmla="*/ 3600 h 533160"/>
              <a:gd name="textAreaBottom" fmla="*/ 52956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3623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5400 h 761760"/>
              <a:gd name="textAreaBottom" fmla="*/ 7563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2640" y="10666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a Sainte Trinit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74640" y="17827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ta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03480" y="17827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'être en tant qu'êt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18446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170172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89720" y="162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'histo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'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 la relig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vol d'une ébauche de classification générale des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0320" y="990720"/>
            <a:ext cx="6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3760" y="358128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914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6320" y="6324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, erreur, ignoranc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1600200"/>
            <a:ext cx="152280" cy="4419720"/>
          </a:xfrm>
          <a:custGeom>
            <a:avLst/>
            <a:gdLst>
              <a:gd name="textAreaLeft" fmla="*/ 97200 w 152280"/>
              <a:gd name="textAreaRight" fmla="*/ 152640 w 152280"/>
              <a:gd name="textAreaTop" fmla="*/ 32400 h 4419720"/>
              <a:gd name="textAreaBottom" fmla="*/ 43873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838080"/>
            <a:ext cx="228600" cy="5257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8520 h 5257800"/>
              <a:gd name="textAreaBottom" fmla="*/ 521928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8000" y="3344760"/>
            <a:ext cx="6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4680" y="6248520"/>
            <a:ext cx="62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8600" y="61722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61466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5238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9907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éologie catho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600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6480 h 914400"/>
              <a:gd name="textAreaBottom" fmla="*/ 9079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39600" y="1905120"/>
            <a:ext cx="69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éné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5000" y="3886200"/>
            <a:ext cx="106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 «positive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590920"/>
            <a:ext cx="152640" cy="3429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5200 h 3429000"/>
              <a:gd name="textAreaBottom" fmla="*/ 34038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1905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895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é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3131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que expérimentale, chimie, biologie, psychologie, sociologi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39876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62576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6120 h 838080"/>
              <a:gd name="textAreaBottom" fmla="*/ 8319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5"/>
                  <a:pt x="10800" y="510"/>
                </a:cubicBezTo>
                <a:lnTo>
                  <a:pt x="10800" y="10290"/>
                </a:lnTo>
                <a:cubicBezTo>
                  <a:pt x="10800" y="10545"/>
                  <a:pt x="5400" y="10800"/>
                  <a:pt x="0" y="10800"/>
                </a:cubicBezTo>
                <a:cubicBezTo>
                  <a:pt x="5400" y="10800"/>
                  <a:pt x="10800" y="11055"/>
                  <a:pt x="10800" y="11310"/>
                </a:cubicBezTo>
                <a:lnTo>
                  <a:pt x="10800" y="21090"/>
                </a:lnTo>
                <a:cubicBezTo>
                  <a:pt x="10800" y="213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163044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ale (ou Éth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7000" y="185904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ta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8800" y="208764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osophie de la nature (ou Phys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6640" y="23162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0" y="712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53920" y="232236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2680" y="231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4280" y="32306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3400" y="322416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iss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48120" y="2590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25146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954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95680" y="264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66688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3160" y="277344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Ê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10:21Z</dcterms:created>
  <dc:creator>Stefan Jetchick</dc:creator>
  <dc:description/>
  <dc:language>en-US</dc:language>
  <cp:lastModifiedBy> </cp:lastModifiedBy>
  <dcterms:modified xsi:type="dcterms:W3CDTF">2007-06-22T14:44:45Z</dcterms:modified>
  <cp:revision>29</cp:revision>
  <dc:subject/>
  <dc:title>PowerPoint Presentation</dc:title>
</cp:coreProperties>
</file>