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4D7-462E-4DEA-8937-B3A164E8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24B-CCBB-4998-B84F-DC78D0D6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1C9-D010-4C67-A02F-A1E7D3A4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E41-BD73-408E-853B-507B57B6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832-67FE-4F2A-A747-35F1C07E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144-F37D-4794-80BD-E2220013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551-7429-49B9-91DF-12F9E164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8DA-9D02-4C18-B6E4-FA147744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7B2-4509-478E-962F-2A35289E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881-CC0E-4CD2-A365-8D79810A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6B2-0150-4310-866B-83A2E39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F3E-414B-494D-9614-B763334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059F-17B5-4344-B6D6-5EFBC0DFB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2209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838080"/>
            <a:ext cx="76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05240" y="71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nglic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85800" cy="711000"/>
          </a:xfrm>
          <a:prstGeom prst="rect">
            <a:avLst/>
          </a:prstGeom>
          <a:ln w="0">
            <a:noFill/>
          </a:ln>
        </p:spPr>
      </p:pic>
      <p:pic>
        <p:nvPicPr>
          <p:cNvPr id="45" name="medio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SSPX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618840" cy="6127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393440" y="839880"/>
            <a:ext cx="1321560" cy="1789200"/>
            <a:chOff x="4393440" y="839880"/>
            <a:chExt cx="1321560" cy="1789200"/>
          </a:xfrm>
        </p:grpSpPr>
        <p:sp>
          <p:nvSpPr>
            <p:cNvPr id="48" name=""/>
            <p:cNvSpPr/>
            <p:nvPr/>
          </p:nvSpPr>
          <p:spPr>
            <a:xfrm>
              <a:off x="5029200" y="19432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611000">
              <a:off x="4762080" y="74880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022560" y="827280"/>
            <a:ext cx="1321200" cy="1788480"/>
            <a:chOff x="3022560" y="827280"/>
            <a:chExt cx="1321200" cy="1788480"/>
          </a:xfrm>
        </p:grpSpPr>
        <p:sp>
          <p:nvSpPr>
            <p:cNvPr id="51" name=""/>
            <p:cNvSpPr/>
            <p:nvPr/>
          </p:nvSpPr>
          <p:spPr>
            <a:xfrm flipH="1">
              <a:off x="3022200" y="1930320"/>
              <a:ext cx="6858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989000">
              <a:off x="3897360" y="73584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" name=""/>
          <p:cNvCxnSpPr/>
          <p:nvPr/>
        </p:nvCxnSpPr>
        <p:spPr>
          <a:xfrm flipH="1" rot="16200000">
            <a:off x="2866680" y="2161080"/>
            <a:ext cx="780120" cy="1639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5" idx="3"/>
            <a:endCxn id="46" idx="2"/>
          </p:cNvCxnSpPr>
          <p:nvPr/>
        </p:nvCxnSpPr>
        <p:spPr>
          <a:xfrm flipV="1">
            <a:off x="4657680" y="2593800"/>
            <a:ext cx="1671840" cy="802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80440" y="3625920"/>
            <a:ext cx="29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s officiels de Vatican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Le juste milie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114300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t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à droite (FSSP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25760" y="99072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t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à ga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rypto-prote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8480" y="2209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838080"/>
            <a:ext cx="76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5240" y="71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nglic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85800" cy="711000"/>
          </a:xfrm>
          <a:prstGeom prst="rect">
            <a:avLst/>
          </a:prstGeom>
          <a:ln w="0">
            <a:noFill/>
          </a:ln>
        </p:spPr>
      </p:pic>
      <p:pic>
        <p:nvPicPr>
          <p:cNvPr id="62" name="medio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SSPX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618840" cy="6127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393440" y="839880"/>
            <a:ext cx="1321560" cy="1789200"/>
            <a:chOff x="4393440" y="839880"/>
            <a:chExt cx="1321560" cy="1789200"/>
          </a:xfrm>
        </p:grpSpPr>
        <p:sp>
          <p:nvSpPr>
            <p:cNvPr id="65" name=""/>
            <p:cNvSpPr/>
            <p:nvPr/>
          </p:nvSpPr>
          <p:spPr>
            <a:xfrm>
              <a:off x="5029200" y="19432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611000">
              <a:off x="4762080" y="74880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22560" y="827280"/>
            <a:ext cx="1321200" cy="1788480"/>
            <a:chOff x="3022560" y="827280"/>
            <a:chExt cx="1321200" cy="1788480"/>
          </a:xfrm>
        </p:grpSpPr>
        <p:sp>
          <p:nvSpPr>
            <p:cNvPr id="68" name=""/>
            <p:cNvSpPr/>
            <p:nvPr/>
          </p:nvSpPr>
          <p:spPr>
            <a:xfrm flipH="1">
              <a:off x="3022200" y="1930320"/>
              <a:ext cx="6858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989000">
              <a:off x="3897360" y="73584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" name=""/>
          <p:cNvCxnSpPr/>
          <p:nvPr/>
        </p:nvCxnSpPr>
        <p:spPr>
          <a:xfrm flipH="1" rot="16200000">
            <a:off x="2866680" y="2161080"/>
            <a:ext cx="780120" cy="1639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2" idx="3"/>
            <a:endCxn id="63" idx="2"/>
          </p:cNvCxnSpPr>
          <p:nvPr/>
        </p:nvCxnSpPr>
        <p:spPr>
          <a:xfrm flipV="1">
            <a:off x="4657680" y="2593080"/>
            <a:ext cx="1672560" cy="8024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120120" y="362592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icial Vatican II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e Golden M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5440" y="1143000"/>
            <a:ext cx="187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ation too f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right (SSP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5240" y="9907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ation too f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rypto-Prote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2:04:04Z</dcterms:created>
  <dc:creator>Stefan Jetchick</dc:creator>
  <dc:description/>
  <dc:language>en-US</dc:language>
  <cp:lastModifiedBy>Stefan Jetchick</cp:lastModifiedBy>
  <dcterms:modified xsi:type="dcterms:W3CDTF">2006-03-24T03:03:48Z</dcterms:modified>
  <cp:revision>5</cp:revision>
  <dc:subject/>
  <dc:title>PowerPoint Presentation</dc:title>
</cp:coreProperties>
</file>