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E0D-3DF9-4992-9F95-07391970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553-AB3C-4D05-B211-371943AE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B76-11BB-4BA4-A60B-EBA8A43D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0423-EDBF-4919-9F43-7643D3C4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EEED-EDDB-452A-9640-2908320F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BCB-DF40-425D-B1D0-BE6575FB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4823-2BF3-48F8-B669-B3C62132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34B-D59F-4272-A88D-A7366A73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5EA6-5C85-49D7-8D1F-1161476B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E41-987C-4B1E-BD95-DE4AF7C2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E4E-6D3A-4D9B-AE5F-647B833D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03DD-2009-41E0-9A48-0347E8C7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82E5-DDA8-4778-9CB8-83B55368E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234320" y="826920"/>
            <a:ext cx="4495320" cy="990720"/>
            <a:chOff x="4234320" y="826920"/>
            <a:chExt cx="4495320" cy="990720"/>
          </a:xfrm>
        </p:grpSpPr>
        <p:sp>
          <p:nvSpPr>
            <p:cNvPr id="42" name=""/>
            <p:cNvSpPr/>
            <p:nvPr/>
          </p:nvSpPr>
          <p:spPr>
            <a:xfrm flipH="1">
              <a:off x="4233960" y="839520"/>
              <a:ext cx="91404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691880" y="839520"/>
              <a:ext cx="27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7434360" y="826920"/>
              <a:ext cx="1295280" cy="241200"/>
            </a:xfrm>
            <a:custGeom>
              <a:avLst/>
              <a:gdLst/>
              <a:ahLst/>
              <a:rect l="l" t="t" r="r" b="b"/>
              <a:pathLst>
                <a:path w="816" h="56">
                  <a:moveTo>
                    <a:pt x="816" y="8"/>
                  </a:moveTo>
                  <a:cubicBezTo>
                    <a:pt x="620" y="4"/>
                    <a:pt x="424" y="0"/>
                    <a:pt x="288" y="8"/>
                  </a:cubicBezTo>
                  <a:cubicBezTo>
                    <a:pt x="152" y="16"/>
                    <a:pt x="76" y="36"/>
                    <a:pt x="0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4691160" y="1068120"/>
              <a:ext cx="4038480" cy="749520"/>
            </a:xfrm>
            <a:custGeom>
              <a:avLst/>
              <a:gdLst/>
              <a:ahLst/>
              <a:rect l="l" t="t" r="r" b="b"/>
              <a:pathLst>
                <a:path w="2544" h="568">
                  <a:moveTo>
                    <a:pt x="0" y="0"/>
                  </a:moveTo>
                  <a:cubicBezTo>
                    <a:pt x="316" y="196"/>
                    <a:pt x="632" y="392"/>
                    <a:pt x="1056" y="480"/>
                  </a:cubicBezTo>
                  <a:cubicBezTo>
                    <a:pt x="1480" y="568"/>
                    <a:pt x="2012" y="548"/>
                    <a:pt x="2544" y="528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4691160" y="860400"/>
              <a:ext cx="533160" cy="89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09480" y="838080"/>
            <a:ext cx="45720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52320" y="826920"/>
            <a:ext cx="4496040" cy="990720"/>
            <a:chOff x="652320" y="826920"/>
            <a:chExt cx="4496040" cy="990720"/>
          </a:xfrm>
        </p:grpSpPr>
        <p:sp>
          <p:nvSpPr>
            <p:cNvPr id="49" name=""/>
            <p:cNvSpPr/>
            <p:nvPr/>
          </p:nvSpPr>
          <p:spPr>
            <a:xfrm flipV="1">
              <a:off x="4233960" y="8906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947960" y="180504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652320" y="1576440"/>
              <a:ext cx="1295640" cy="241200"/>
            </a:xfrm>
            <a:custGeom>
              <a:avLst/>
              <a:gdLst/>
              <a:ahLst/>
              <a:rect l="l" t="t" r="r" b="b"/>
              <a:pathLst>
                <a:path w="816" h="56">
                  <a:moveTo>
                    <a:pt x="816" y="8"/>
                  </a:moveTo>
                  <a:cubicBezTo>
                    <a:pt x="620" y="4"/>
                    <a:pt x="424" y="0"/>
                    <a:pt x="288" y="8"/>
                  </a:cubicBezTo>
                  <a:cubicBezTo>
                    <a:pt x="152" y="16"/>
                    <a:pt x="76" y="36"/>
                    <a:pt x="0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652320" y="826560"/>
              <a:ext cx="4038840" cy="749520"/>
            </a:xfrm>
            <a:custGeom>
              <a:avLst/>
              <a:gdLst/>
              <a:ahLst/>
              <a:rect l="l" t="t" r="r" b="b"/>
              <a:pathLst>
                <a:path w="2544" h="568">
                  <a:moveTo>
                    <a:pt x="0" y="0"/>
                  </a:moveTo>
                  <a:cubicBezTo>
                    <a:pt x="316" y="196"/>
                    <a:pt x="632" y="392"/>
                    <a:pt x="1056" y="480"/>
                  </a:cubicBezTo>
                  <a:cubicBezTo>
                    <a:pt x="1480" y="568"/>
                    <a:pt x="2012" y="548"/>
                    <a:pt x="2544" y="528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4157640" y="890640"/>
              <a:ext cx="533520" cy="89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343400" y="1262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59480" y="1306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2209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905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12733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200400"/>
            <a:ext cx="45720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3962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600200" y="37339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0384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124080"/>
            <a:ext cx="152280" cy="655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124080"/>
            <a:ext cx="759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03680" y="3689280"/>
            <a:ext cx="185760" cy="4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03680" y="3124080"/>
            <a:ext cx="185760" cy="4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724280" y="25909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852720" y="3733920"/>
            <a:ext cx="1143000" cy="75600"/>
            <a:chOff x="3852720" y="3733920"/>
            <a:chExt cx="1143000" cy="75600"/>
          </a:xfrm>
        </p:grpSpPr>
        <p:sp>
          <p:nvSpPr>
            <p:cNvPr id="70" name=""/>
            <p:cNvSpPr/>
            <p:nvPr/>
          </p:nvSpPr>
          <p:spPr>
            <a:xfrm>
              <a:off x="3854160" y="3771720"/>
              <a:ext cx="1141560" cy="37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2720" y="3733920"/>
              <a:ext cx="35640" cy="37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60080" y="3733920"/>
              <a:ext cx="35640" cy="37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245120" y="3395520"/>
            <a:ext cx="44956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73280"/>
            <a:ext cx="144360" cy="1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3222720"/>
            <a:ext cx="144360" cy="1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762120"/>
            <a:ext cx="11430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1143000"/>
            <a:ext cx="914400" cy="42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1219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25920" y="3124080"/>
            <a:ext cx="54000" cy="5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55920" y="3124080"/>
            <a:ext cx="54000" cy="5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580920" y="26668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22860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3716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914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580920" y="1371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066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10280" y="2743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7162920" y="3123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1219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41911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388620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733920"/>
            <a:ext cx="6098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5105520"/>
            <a:ext cx="45720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5562720"/>
            <a:ext cx="152280" cy="65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5029200"/>
            <a:ext cx="75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03680" y="5594400"/>
            <a:ext cx="185760" cy="4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03680" y="5029200"/>
            <a:ext cx="185760" cy="4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52720" y="6172200"/>
            <a:ext cx="1143000" cy="76320"/>
            <a:chOff x="3852720" y="6172200"/>
            <a:chExt cx="1143000" cy="76320"/>
          </a:xfrm>
        </p:grpSpPr>
        <p:sp>
          <p:nvSpPr>
            <p:cNvPr id="99" name=""/>
            <p:cNvSpPr/>
            <p:nvPr/>
          </p:nvSpPr>
          <p:spPr>
            <a:xfrm>
              <a:off x="3854160" y="6210360"/>
              <a:ext cx="1141560" cy="3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52720" y="6172200"/>
              <a:ext cx="35640" cy="3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0080" y="6172200"/>
              <a:ext cx="35640" cy="3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245120" y="5300640"/>
            <a:ext cx="44956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5378400"/>
            <a:ext cx="144360" cy="1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5127480"/>
            <a:ext cx="144360" cy="1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25920" y="5029200"/>
            <a:ext cx="54000" cy="5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55920" y="5029200"/>
            <a:ext cx="54000" cy="5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191120" y="5638680"/>
            <a:ext cx="45720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72760" y="5790240"/>
            <a:ext cx="442800" cy="1368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192920" y="5963760"/>
            <a:ext cx="450000" cy="820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70240" y="6087240"/>
            <a:ext cx="336960" cy="813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60199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1523520" y="25909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09480" y="3059280"/>
            <a:ext cx="1625760" cy="311040"/>
          </a:xfrm>
          <a:custGeom>
            <a:avLst/>
            <a:gdLst/>
            <a:ahLst/>
            <a:rect l="l" t="t" r="r" b="b"/>
            <a:pathLst>
              <a:path w="1024" h="196">
                <a:moveTo>
                  <a:pt x="0" y="0"/>
                </a:moveTo>
                <a:lnTo>
                  <a:pt x="0" y="192"/>
                </a:lnTo>
                <a:cubicBezTo>
                  <a:pt x="140" y="191"/>
                  <a:pt x="280" y="191"/>
                  <a:pt x="420" y="188"/>
                </a:cubicBezTo>
                <a:cubicBezTo>
                  <a:pt x="460" y="187"/>
                  <a:pt x="503" y="139"/>
                  <a:pt x="548" y="132"/>
                </a:cubicBezTo>
                <a:cubicBezTo>
                  <a:pt x="670" y="136"/>
                  <a:pt x="764" y="132"/>
                  <a:pt x="875" y="167"/>
                </a:cubicBezTo>
                <a:cubicBezTo>
                  <a:pt x="885" y="174"/>
                  <a:pt x="905" y="196"/>
                  <a:pt x="917" y="196"/>
                </a:cubicBezTo>
                <a:cubicBezTo>
                  <a:pt x="953" y="196"/>
                  <a:pt x="988" y="196"/>
                  <a:pt x="1024" y="19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22096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09480" y="4946760"/>
            <a:ext cx="1625760" cy="311040"/>
          </a:xfrm>
          <a:custGeom>
            <a:avLst/>
            <a:gdLst/>
            <a:ahLst/>
            <a:rect l="l" t="t" r="r" b="b"/>
            <a:pathLst>
              <a:path w="1024" h="196">
                <a:moveTo>
                  <a:pt x="0" y="0"/>
                </a:moveTo>
                <a:lnTo>
                  <a:pt x="0" y="192"/>
                </a:lnTo>
                <a:cubicBezTo>
                  <a:pt x="140" y="191"/>
                  <a:pt x="280" y="191"/>
                  <a:pt x="420" y="188"/>
                </a:cubicBezTo>
                <a:cubicBezTo>
                  <a:pt x="460" y="187"/>
                  <a:pt x="503" y="139"/>
                  <a:pt x="548" y="132"/>
                </a:cubicBezTo>
                <a:cubicBezTo>
                  <a:pt x="670" y="136"/>
                  <a:pt x="764" y="132"/>
                  <a:pt x="875" y="167"/>
                </a:cubicBezTo>
                <a:cubicBezTo>
                  <a:pt x="885" y="174"/>
                  <a:pt x="905" y="196"/>
                  <a:pt x="917" y="196"/>
                </a:cubicBezTo>
                <a:cubicBezTo>
                  <a:pt x="953" y="196"/>
                  <a:pt x="988" y="196"/>
                  <a:pt x="1024" y="19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594360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19400" y="990720"/>
            <a:ext cx="789120" cy="779400"/>
          </a:xfrm>
          <a:custGeom>
            <a:avLst/>
            <a:gdLst/>
            <a:ahLst/>
            <a:rect l="l" t="t" r="r" b="b"/>
            <a:pathLst>
              <a:path w="497" h="491">
                <a:moveTo>
                  <a:pt x="241" y="285"/>
                </a:moveTo>
                <a:cubicBezTo>
                  <a:pt x="220" y="262"/>
                  <a:pt x="216" y="232"/>
                  <a:pt x="199" y="206"/>
                </a:cubicBezTo>
                <a:cubicBezTo>
                  <a:pt x="208" y="172"/>
                  <a:pt x="215" y="168"/>
                  <a:pt x="248" y="157"/>
                </a:cubicBezTo>
                <a:cubicBezTo>
                  <a:pt x="303" y="163"/>
                  <a:pt x="318" y="152"/>
                  <a:pt x="334" y="199"/>
                </a:cubicBezTo>
                <a:cubicBezTo>
                  <a:pt x="331" y="229"/>
                  <a:pt x="331" y="279"/>
                  <a:pt x="298" y="299"/>
                </a:cubicBezTo>
                <a:cubicBezTo>
                  <a:pt x="285" y="307"/>
                  <a:pt x="256" y="313"/>
                  <a:pt x="256" y="313"/>
                </a:cubicBezTo>
                <a:cubicBezTo>
                  <a:pt x="210" y="306"/>
                  <a:pt x="194" y="303"/>
                  <a:pt x="163" y="270"/>
                </a:cubicBezTo>
                <a:cubicBezTo>
                  <a:pt x="151" y="235"/>
                  <a:pt x="134" y="157"/>
                  <a:pt x="177" y="135"/>
                </a:cubicBezTo>
                <a:cubicBezTo>
                  <a:pt x="197" y="125"/>
                  <a:pt x="220" y="121"/>
                  <a:pt x="241" y="114"/>
                </a:cubicBezTo>
                <a:cubicBezTo>
                  <a:pt x="248" y="112"/>
                  <a:pt x="263" y="107"/>
                  <a:pt x="263" y="107"/>
                </a:cubicBezTo>
                <a:cubicBezTo>
                  <a:pt x="322" y="113"/>
                  <a:pt x="351" y="110"/>
                  <a:pt x="391" y="150"/>
                </a:cubicBezTo>
                <a:cubicBezTo>
                  <a:pt x="415" y="222"/>
                  <a:pt x="401" y="299"/>
                  <a:pt x="341" y="349"/>
                </a:cubicBezTo>
                <a:cubicBezTo>
                  <a:pt x="318" y="368"/>
                  <a:pt x="309" y="367"/>
                  <a:pt x="277" y="377"/>
                </a:cubicBezTo>
                <a:cubicBezTo>
                  <a:pt x="263" y="382"/>
                  <a:pt x="234" y="391"/>
                  <a:pt x="234" y="391"/>
                </a:cubicBezTo>
                <a:cubicBezTo>
                  <a:pt x="185" y="384"/>
                  <a:pt x="139" y="376"/>
                  <a:pt x="106" y="334"/>
                </a:cubicBezTo>
                <a:cubicBezTo>
                  <a:pt x="92" y="316"/>
                  <a:pt x="78" y="270"/>
                  <a:pt x="78" y="270"/>
                </a:cubicBezTo>
                <a:cubicBezTo>
                  <a:pt x="94" y="174"/>
                  <a:pt x="138" y="105"/>
                  <a:pt x="234" y="78"/>
                </a:cubicBezTo>
                <a:cubicBezTo>
                  <a:pt x="410" y="87"/>
                  <a:pt x="386" y="61"/>
                  <a:pt x="476" y="157"/>
                </a:cubicBezTo>
                <a:cubicBezTo>
                  <a:pt x="481" y="171"/>
                  <a:pt x="485" y="185"/>
                  <a:pt x="490" y="199"/>
                </a:cubicBezTo>
                <a:cubicBezTo>
                  <a:pt x="492" y="206"/>
                  <a:pt x="497" y="221"/>
                  <a:pt x="497" y="221"/>
                </a:cubicBezTo>
                <a:cubicBezTo>
                  <a:pt x="492" y="286"/>
                  <a:pt x="491" y="344"/>
                  <a:pt x="455" y="398"/>
                </a:cubicBezTo>
                <a:cubicBezTo>
                  <a:pt x="446" y="428"/>
                  <a:pt x="420" y="457"/>
                  <a:pt x="391" y="470"/>
                </a:cubicBezTo>
                <a:cubicBezTo>
                  <a:pt x="377" y="476"/>
                  <a:pt x="362" y="479"/>
                  <a:pt x="348" y="484"/>
                </a:cubicBezTo>
                <a:cubicBezTo>
                  <a:pt x="341" y="486"/>
                  <a:pt x="327" y="491"/>
                  <a:pt x="327" y="491"/>
                </a:cubicBezTo>
                <a:cubicBezTo>
                  <a:pt x="249" y="486"/>
                  <a:pt x="192" y="478"/>
                  <a:pt x="120" y="455"/>
                </a:cubicBezTo>
                <a:cubicBezTo>
                  <a:pt x="88" y="433"/>
                  <a:pt x="71" y="408"/>
                  <a:pt x="49" y="377"/>
                </a:cubicBezTo>
                <a:cubicBezTo>
                  <a:pt x="47" y="370"/>
                  <a:pt x="45" y="363"/>
                  <a:pt x="42" y="356"/>
                </a:cubicBezTo>
                <a:cubicBezTo>
                  <a:pt x="38" y="348"/>
                  <a:pt x="31" y="342"/>
                  <a:pt x="28" y="334"/>
                </a:cubicBezTo>
                <a:cubicBezTo>
                  <a:pt x="22" y="320"/>
                  <a:pt x="14" y="292"/>
                  <a:pt x="14" y="292"/>
                </a:cubicBezTo>
                <a:cubicBezTo>
                  <a:pt x="0" y="195"/>
                  <a:pt x="6" y="79"/>
                  <a:pt x="113" y="43"/>
                </a:cubicBezTo>
                <a:cubicBezTo>
                  <a:pt x="130" y="27"/>
                  <a:pt x="147" y="22"/>
                  <a:pt x="170" y="14"/>
                </a:cubicBezTo>
                <a:cubicBezTo>
                  <a:pt x="184" y="9"/>
                  <a:pt x="213" y="0"/>
                  <a:pt x="213" y="0"/>
                </a:cubicBezTo>
                <a:cubicBezTo>
                  <a:pt x="246" y="4"/>
                  <a:pt x="286" y="14"/>
                  <a:pt x="320" y="14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352680" y="13716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2T15:31:24Z</dcterms:created>
  <dc:creator> </dc:creator>
  <dc:description/>
  <dc:language>en-US</dc:language>
  <cp:lastModifiedBy> </cp:lastModifiedBy>
  <dcterms:modified xsi:type="dcterms:W3CDTF">2013-07-22T18:34:57Z</dcterms:modified>
  <cp:revision>8</cp:revision>
  <dc:subject/>
  <dc:title>PowerPoint Presentation</dc:title>
</cp:coreProperties>
</file>