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1C2A-B2E1-44E6-890D-F73408C9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C0AA-08A5-47BC-80F0-8D0AB3EE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F71-2F8E-4E28-88B2-C73ECA6D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83D-FD7F-41A0-B88D-213B8E95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E54-A445-40ED-97BF-BAD4C98E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487-F96A-4B68-8C03-224C0036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8E8-E0EC-4262-B54A-AECA053A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0DE0-C706-422D-BC70-6E546E81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5C3-C8C9-4F7C-A2EE-77CA4D95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2DD-CED5-47ED-906C-62AA7A03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E1FC-4D85-4E2E-808C-4850EF3C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BED1-43A0-4C64-8261-3E7DEB0F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131F-5DB8-448E-80BD-7B89244C8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48006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441972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Boulevard Laurier (direction Pont Pierre-Lapor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2666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284940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Boulevard Laurier (direction Vieux Québ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2920" y="484488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tre d'achat Place La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4120" y="213372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Hôpital CH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352680"/>
            <a:ext cx="563904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657520" y="3524400"/>
            <a:ext cx="627840" cy="380520"/>
            <a:chOff x="2657520" y="3524400"/>
            <a:chExt cx="627840" cy="380520"/>
          </a:xfrm>
        </p:grpSpPr>
        <p:grpSp>
          <p:nvGrpSpPr>
            <p:cNvPr id="49" name=""/>
            <p:cNvGrpSpPr/>
            <p:nvPr/>
          </p:nvGrpSpPr>
          <p:grpSpPr>
            <a:xfrm>
              <a:off x="2657520" y="3524400"/>
              <a:ext cx="609480" cy="380520"/>
              <a:chOff x="2657520" y="3524400"/>
              <a:chExt cx="609480" cy="380520"/>
            </a:xfrm>
          </p:grpSpPr>
          <p:sp>
            <p:nvSpPr>
              <p:cNvPr id="50" name=""/>
              <p:cNvSpPr/>
              <p:nvPr/>
            </p:nvSpPr>
            <p:spPr>
              <a:xfrm>
                <a:off x="2657520" y="3600360"/>
                <a:ext cx="609480" cy="151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809800" y="3524400"/>
                <a:ext cx="3049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8400" y="375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733480" y="375264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2723760" y="352908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ffffff"/>
                  </a:solidFill>
                  <a:latin typeface="Times New Roman"/>
                </a:rPr>
                <a:t>pol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429000" y="3352680"/>
            <a:ext cx="380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32760" y="4191120"/>
            <a:ext cx="131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Passage piétonn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du terre-pl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379840" y="3657600"/>
            <a:ext cx="5331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114800" y="3429000"/>
            <a:ext cx="837720" cy="533520"/>
            <a:chOff x="4114800" y="3429000"/>
            <a:chExt cx="837720" cy="533520"/>
          </a:xfrm>
        </p:grpSpPr>
        <p:sp>
          <p:nvSpPr>
            <p:cNvPr id="59" name=""/>
            <p:cNvSpPr/>
            <p:nvPr/>
          </p:nvSpPr>
          <p:spPr>
            <a:xfrm>
              <a:off x="4114800" y="38862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67080" y="3809880"/>
              <a:ext cx="7560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1640" y="38862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76560" y="350532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240" y="34290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43040" y="34290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14800" y="34290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3886200"/>
              <a:ext cx="7560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76560" y="3809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809880" y="355284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Manifestants pro-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13240" y="3505320"/>
            <a:ext cx="627840" cy="380520"/>
            <a:chOff x="5313240" y="3505320"/>
            <a:chExt cx="627840" cy="380520"/>
          </a:xfrm>
        </p:grpSpPr>
        <p:grpSp>
          <p:nvGrpSpPr>
            <p:cNvPr id="70" name=""/>
            <p:cNvGrpSpPr/>
            <p:nvPr/>
          </p:nvGrpSpPr>
          <p:grpSpPr>
            <a:xfrm>
              <a:off x="5313240" y="3505320"/>
              <a:ext cx="609480" cy="380520"/>
              <a:chOff x="5313240" y="3505320"/>
              <a:chExt cx="609480" cy="380520"/>
            </a:xfrm>
          </p:grpSpPr>
          <p:sp>
            <p:nvSpPr>
              <p:cNvPr id="71" name=""/>
              <p:cNvSpPr/>
              <p:nvPr/>
            </p:nvSpPr>
            <p:spPr>
              <a:xfrm>
                <a:off x="5313240" y="3581280"/>
                <a:ext cx="609480" cy="151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65520" y="3505320"/>
                <a:ext cx="304920" cy="7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694120" y="37335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389200" y="37335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5379480" y="351000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ffffff"/>
                  </a:solidFill>
                  <a:latin typeface="Times New Roman"/>
                </a:rPr>
                <a:t>pol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" name=""/>
          <p:cNvCxnSpPr>
            <a:stCxn id="56" idx="3"/>
            <a:endCxn id="55" idx="2"/>
          </p:cNvCxnSpPr>
          <p:nvPr/>
        </p:nvCxnSpPr>
        <p:spPr>
          <a:xfrm flipV="1">
            <a:off x="3150360" y="4038480"/>
            <a:ext cx="469440" cy="3823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114800" y="4876920"/>
            <a:ext cx="380880" cy="838080"/>
          </a:xfrm>
          <a:prstGeom prst="downArrow">
            <a:avLst>
              <a:gd name="adj1" fmla="val 50000"/>
              <a:gd name="adj2" fmla="val 5500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5289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39942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676520" y="4756320"/>
            <a:ext cx="609480" cy="380520"/>
            <a:chOff x="1676520" y="4756320"/>
            <a:chExt cx="609480" cy="380520"/>
          </a:xfrm>
        </p:grpSpPr>
        <p:sp>
          <p:nvSpPr>
            <p:cNvPr id="81" name=""/>
            <p:cNvSpPr/>
            <p:nvPr/>
          </p:nvSpPr>
          <p:spPr>
            <a:xfrm>
              <a:off x="1676520" y="483228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28800" y="475632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57400" y="4984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2480" y="49845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590920" y="4146480"/>
            <a:ext cx="609480" cy="381240"/>
            <a:chOff x="2590920" y="4146480"/>
            <a:chExt cx="609480" cy="381240"/>
          </a:xfrm>
        </p:grpSpPr>
        <p:sp>
          <p:nvSpPr>
            <p:cNvPr id="86" name=""/>
            <p:cNvSpPr/>
            <p:nvPr/>
          </p:nvSpPr>
          <p:spPr>
            <a:xfrm>
              <a:off x="2590920" y="4222800"/>
              <a:ext cx="6094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3200" y="4146480"/>
              <a:ext cx="30492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71800" y="4375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66880" y="43750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324480" y="4756320"/>
            <a:ext cx="609480" cy="380520"/>
            <a:chOff x="6324480" y="4756320"/>
            <a:chExt cx="609480" cy="380520"/>
          </a:xfrm>
        </p:grpSpPr>
        <p:sp>
          <p:nvSpPr>
            <p:cNvPr id="91" name=""/>
            <p:cNvSpPr/>
            <p:nvPr/>
          </p:nvSpPr>
          <p:spPr>
            <a:xfrm>
              <a:off x="6324480" y="483228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76760" y="475632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05360" y="4984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0440" y="49845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86000" y="4602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Boulevard Laurier (vers le Pont Pierre-Lapor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2767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19810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257440" y="2743200"/>
            <a:ext cx="609480" cy="380520"/>
            <a:chOff x="5257440" y="2743200"/>
            <a:chExt cx="609480" cy="380520"/>
          </a:xfrm>
        </p:grpSpPr>
        <p:sp>
          <p:nvSpPr>
            <p:cNvPr id="99" name=""/>
            <p:cNvSpPr/>
            <p:nvPr/>
          </p:nvSpPr>
          <p:spPr>
            <a:xfrm flipH="1">
              <a:off x="5257080" y="281916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409360" y="274320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333400" y="2971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638320" y="29714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171840" y="2133720"/>
            <a:ext cx="609480" cy="380520"/>
            <a:chOff x="6171840" y="2133720"/>
            <a:chExt cx="609480" cy="380520"/>
          </a:xfrm>
        </p:grpSpPr>
        <p:sp>
          <p:nvSpPr>
            <p:cNvPr id="104" name=""/>
            <p:cNvSpPr/>
            <p:nvPr/>
          </p:nvSpPr>
          <p:spPr>
            <a:xfrm flipH="1">
              <a:off x="6171480" y="220968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323760" y="213372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247800" y="23619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552720" y="23619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76160" y="2133720"/>
            <a:ext cx="609480" cy="380520"/>
            <a:chOff x="1676160" y="2133720"/>
            <a:chExt cx="609480" cy="380520"/>
          </a:xfrm>
        </p:grpSpPr>
        <p:sp>
          <p:nvSpPr>
            <p:cNvPr id="109" name=""/>
            <p:cNvSpPr/>
            <p:nvPr/>
          </p:nvSpPr>
          <p:spPr>
            <a:xfrm flipH="1">
              <a:off x="1675800" y="220968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828080" y="213372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752120" y="23619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057040" y="23619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819520" y="2468520"/>
            <a:ext cx="48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Boulevard Laurier (vers le Vieux Québ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1279440"/>
            <a:ext cx="2743200" cy="533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09680" y="262080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72284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127944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Les pro-choix bien élevés res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ici (devant l'hôpital CHU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0"/>
            <a:endCxn id="114" idx="0"/>
          </p:cNvCxnSpPr>
          <p:nvPr/>
        </p:nvCxnSpPr>
        <p:spPr>
          <a:xfrm rot="5400000">
            <a:off x="5561280" y="-92160"/>
            <a:ext cx="2520" cy="2743920"/>
          </a:xfrm>
          <a:prstGeom prst="curvedConnector5">
            <a:avLst>
              <a:gd name="adj1" fmla="val -14400000"/>
              <a:gd name="adj2" fmla="val 49993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809880" y="3352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3352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342900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Tous les pro-vie restent sur le terre-plein, entre les deux rub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3505320"/>
            <a:ext cx="685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2"/>
            <a:endCxn id="122" idx="4"/>
          </p:cNvCxnSpPr>
          <p:nvPr/>
        </p:nvCxnSpPr>
        <p:spPr>
          <a:xfrm flipV="1" rot="16200000">
            <a:off x="5295240" y="2819160"/>
            <a:ext cx="76680" cy="2057760"/>
          </a:xfrm>
          <a:prstGeom prst="curvedConnector5">
            <a:avLst>
              <a:gd name="adj1" fmla="val -301415"/>
              <a:gd name="adj2" fmla="val 49991"/>
              <a:gd name="adj3" fmla="val -3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34520" y="5715000"/>
            <a:ext cx="315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Voie d'évacuation d'ur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(dispersion dans le centre d'achats Place Lauri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838760" y="3479760"/>
            <a:ext cx="380880" cy="380880"/>
            <a:chOff x="4838760" y="3479760"/>
            <a:chExt cx="380880" cy="380880"/>
          </a:xfrm>
        </p:grpSpPr>
        <p:sp>
          <p:nvSpPr>
            <p:cNvPr id="126" name=""/>
            <p:cNvSpPr/>
            <p:nvPr/>
          </p:nvSpPr>
          <p:spPr>
            <a:xfrm>
              <a:off x="4838760" y="34797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8000" y="3517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952880" y="5410080"/>
            <a:ext cx="380880" cy="381240"/>
            <a:chOff x="4952880" y="5410080"/>
            <a:chExt cx="380880" cy="381240"/>
          </a:xfrm>
        </p:grpSpPr>
        <p:sp>
          <p:nvSpPr>
            <p:cNvPr id="129" name=""/>
            <p:cNvSpPr/>
            <p:nvPr/>
          </p:nvSpPr>
          <p:spPr>
            <a:xfrm>
              <a:off x="4952880" y="54100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2480" y="5448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378240" y="3479760"/>
            <a:ext cx="380880" cy="380880"/>
            <a:chOff x="3378240" y="3479760"/>
            <a:chExt cx="380880" cy="380880"/>
          </a:xfrm>
        </p:grpSpPr>
        <p:sp>
          <p:nvSpPr>
            <p:cNvPr id="132" name=""/>
            <p:cNvSpPr/>
            <p:nvPr/>
          </p:nvSpPr>
          <p:spPr>
            <a:xfrm>
              <a:off x="3378240" y="34797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17480" y="3517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334120" y="5410080"/>
            <a:ext cx="380880" cy="381240"/>
            <a:chOff x="5334120" y="5410080"/>
            <a:chExt cx="380880" cy="381240"/>
          </a:xfrm>
        </p:grpSpPr>
        <p:sp>
          <p:nvSpPr>
            <p:cNvPr id="135" name=""/>
            <p:cNvSpPr/>
            <p:nvPr/>
          </p:nvSpPr>
          <p:spPr>
            <a:xfrm>
              <a:off x="5334120" y="54100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3720" y="5448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114800" y="4876920"/>
            <a:ext cx="380880" cy="838080"/>
          </a:xfrm>
          <a:prstGeom prst="downArrow">
            <a:avLst>
              <a:gd name="adj1" fmla="val 50000"/>
              <a:gd name="adj2" fmla="val 5500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5289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39942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6520" y="4756320"/>
            <a:ext cx="609480" cy="380520"/>
            <a:chOff x="1676520" y="4756320"/>
            <a:chExt cx="609480" cy="380520"/>
          </a:xfrm>
        </p:grpSpPr>
        <p:sp>
          <p:nvSpPr>
            <p:cNvPr id="141" name=""/>
            <p:cNvSpPr/>
            <p:nvPr/>
          </p:nvSpPr>
          <p:spPr>
            <a:xfrm>
              <a:off x="1676520" y="483228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800" y="475632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7400" y="4984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52480" y="49845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590920" y="4146480"/>
            <a:ext cx="609480" cy="381240"/>
            <a:chOff x="2590920" y="4146480"/>
            <a:chExt cx="609480" cy="381240"/>
          </a:xfrm>
        </p:grpSpPr>
        <p:sp>
          <p:nvSpPr>
            <p:cNvPr id="146" name=""/>
            <p:cNvSpPr/>
            <p:nvPr/>
          </p:nvSpPr>
          <p:spPr>
            <a:xfrm>
              <a:off x="2590920" y="4222800"/>
              <a:ext cx="6094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43200" y="4146480"/>
              <a:ext cx="30492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71800" y="4375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43750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324480" y="4756320"/>
            <a:ext cx="609480" cy="380520"/>
            <a:chOff x="6324480" y="4756320"/>
            <a:chExt cx="609480" cy="380520"/>
          </a:xfrm>
        </p:grpSpPr>
        <p:sp>
          <p:nvSpPr>
            <p:cNvPr id="151" name=""/>
            <p:cNvSpPr/>
            <p:nvPr/>
          </p:nvSpPr>
          <p:spPr>
            <a:xfrm>
              <a:off x="6324480" y="483228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76760" y="475632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360" y="4984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440" y="49845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86000" y="4602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Laurier Boulevard (toward Pierre-Laporte Brid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32767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9810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257440" y="2743200"/>
            <a:ext cx="609480" cy="380520"/>
            <a:chOff x="5257440" y="2743200"/>
            <a:chExt cx="609480" cy="380520"/>
          </a:xfrm>
        </p:grpSpPr>
        <p:sp>
          <p:nvSpPr>
            <p:cNvPr id="159" name=""/>
            <p:cNvSpPr/>
            <p:nvPr/>
          </p:nvSpPr>
          <p:spPr>
            <a:xfrm flipH="1">
              <a:off x="5257080" y="281916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5409360" y="274320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333400" y="2971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638320" y="29714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171840" y="2133720"/>
            <a:ext cx="609480" cy="380520"/>
            <a:chOff x="6171840" y="2133720"/>
            <a:chExt cx="609480" cy="380520"/>
          </a:xfrm>
        </p:grpSpPr>
        <p:sp>
          <p:nvSpPr>
            <p:cNvPr id="164" name=""/>
            <p:cNvSpPr/>
            <p:nvPr/>
          </p:nvSpPr>
          <p:spPr>
            <a:xfrm flipH="1">
              <a:off x="6171480" y="220968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323760" y="213372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247800" y="23619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552720" y="23619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676160" y="2133720"/>
            <a:ext cx="609480" cy="380520"/>
            <a:chOff x="1676160" y="2133720"/>
            <a:chExt cx="609480" cy="380520"/>
          </a:xfrm>
        </p:grpSpPr>
        <p:sp>
          <p:nvSpPr>
            <p:cNvPr id="169" name=""/>
            <p:cNvSpPr/>
            <p:nvPr/>
          </p:nvSpPr>
          <p:spPr>
            <a:xfrm flipH="1">
              <a:off x="1675800" y="2209680"/>
              <a:ext cx="6094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828080" y="2133720"/>
              <a:ext cx="3049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752120" y="23619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057040" y="23619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819520" y="2468520"/>
            <a:ext cx="48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Laurier Boulevard (toward Old Queb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1279440"/>
            <a:ext cx="2743200" cy="533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209680" y="262080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472284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127944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Well-behaved pro-choicers stay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(in front of CHUL hosp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7" idx="0"/>
            <a:endCxn id="174" idx="0"/>
          </p:cNvCxnSpPr>
          <p:nvPr/>
        </p:nvCxnSpPr>
        <p:spPr>
          <a:xfrm rot="5400000">
            <a:off x="5561280" y="-92160"/>
            <a:ext cx="2520" cy="2743920"/>
          </a:xfrm>
          <a:prstGeom prst="curvedConnector5">
            <a:avLst>
              <a:gd name="adj1" fmla="val -14400000"/>
              <a:gd name="adj2" fmla="val 49993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3809880" y="3352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3352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342900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All pro-lifers remain on curb, in between the two ribb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3505320"/>
            <a:ext cx="685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1" idx="2"/>
            <a:endCxn id="182" idx="4"/>
          </p:cNvCxnSpPr>
          <p:nvPr/>
        </p:nvCxnSpPr>
        <p:spPr>
          <a:xfrm flipV="1" rot="16200000">
            <a:off x="5295240" y="2819160"/>
            <a:ext cx="76680" cy="2057760"/>
          </a:xfrm>
          <a:prstGeom prst="curvedConnector5">
            <a:avLst>
              <a:gd name="adj1" fmla="val -301415"/>
              <a:gd name="adj2" fmla="val 49991"/>
              <a:gd name="adj3" fmla="val -3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131640" y="5715000"/>
            <a:ext cx="28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Emergency fall back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(dispersal into Place Laurier shopping m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838760" y="3479760"/>
            <a:ext cx="380880" cy="380880"/>
            <a:chOff x="4838760" y="3479760"/>
            <a:chExt cx="380880" cy="380880"/>
          </a:xfrm>
        </p:grpSpPr>
        <p:sp>
          <p:nvSpPr>
            <p:cNvPr id="186" name=""/>
            <p:cNvSpPr/>
            <p:nvPr/>
          </p:nvSpPr>
          <p:spPr>
            <a:xfrm>
              <a:off x="4838760" y="34797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78000" y="3517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952880" y="5410080"/>
            <a:ext cx="380880" cy="381240"/>
            <a:chOff x="4952880" y="5410080"/>
            <a:chExt cx="380880" cy="381240"/>
          </a:xfrm>
        </p:grpSpPr>
        <p:sp>
          <p:nvSpPr>
            <p:cNvPr id="189" name=""/>
            <p:cNvSpPr/>
            <p:nvPr/>
          </p:nvSpPr>
          <p:spPr>
            <a:xfrm>
              <a:off x="4952880" y="54100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92480" y="5448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378240" y="3479760"/>
            <a:ext cx="380880" cy="380880"/>
            <a:chOff x="3378240" y="3479760"/>
            <a:chExt cx="380880" cy="380880"/>
          </a:xfrm>
        </p:grpSpPr>
        <p:sp>
          <p:nvSpPr>
            <p:cNvPr id="192" name=""/>
            <p:cNvSpPr/>
            <p:nvPr/>
          </p:nvSpPr>
          <p:spPr>
            <a:xfrm>
              <a:off x="3378240" y="34797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17480" y="3517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334120" y="5410080"/>
            <a:ext cx="380880" cy="381240"/>
            <a:chOff x="5334120" y="5410080"/>
            <a:chExt cx="380880" cy="381240"/>
          </a:xfrm>
        </p:grpSpPr>
        <p:sp>
          <p:nvSpPr>
            <p:cNvPr id="195" name=""/>
            <p:cNvSpPr/>
            <p:nvPr/>
          </p:nvSpPr>
          <p:spPr>
            <a:xfrm>
              <a:off x="5334120" y="54100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73720" y="5448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6:29:31Z</dcterms:created>
  <dc:creator>Stefan Jetchick</dc:creator>
  <dc:description/>
  <dc:language>en-US</dc:language>
  <cp:lastModifiedBy>Stefan Jetchick</cp:lastModifiedBy>
  <dcterms:modified xsi:type="dcterms:W3CDTF">2012-09-03T16:49:09Z</dcterms:modified>
  <cp:revision>5</cp:revision>
  <dc:subject/>
  <dc:title>PowerPoint Presentation</dc:title>
</cp:coreProperties>
</file>