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D53-3A71-49A9-B36C-F3BA3FE4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B3E-59A4-4106-B5AB-879A5A29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87F-13C1-426C-8325-09147F00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B7F-EE22-4C5B-908C-1E5ACF5C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1ED-66C0-4BE1-8B70-7184881D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531-9B83-4CF6-8B73-31C29D11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C74-D6DB-4E2A-97D8-80C77FE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D8F-C0AE-45CA-850A-63FA249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C6C-D5A6-4D21-B1DA-5EC896A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D65-2533-4232-A956-51520AA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6C4-7B04-4709-A2CC-732D0BB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006-A8E9-4853-9EA0-3CB5971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834-7949-4299-8872-9685874A1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952880"/>
            <a:ext cx="7010280" cy="152424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solidFill>
            <a:srgbClr val="000000"/>
          </a:solidFill>
          <a:ln w="3808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629080"/>
            <a:ext cx="6324840" cy="148572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63504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64464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5940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148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87360" y="1143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35440" y="1676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695760" y="220968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114800" y="685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013280" y="68580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8040" y="1143000"/>
            <a:ext cx="800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013280" y="1143000"/>
            <a:ext cx="799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3392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8584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0492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124080"/>
            <a:ext cx="701064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99440" y="259092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Du pain et des j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0400" y="3860640"/>
            <a:ext cx="647676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11430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01028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0680" y="3048120"/>
            <a:ext cx="1870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a politique, c'est 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2840" y="3886200"/>
            <a:ext cx="15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st-modern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760" y="4521240"/>
            <a:ext cx="1600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Anti-christian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153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Manque d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791320"/>
            <a:ext cx="1018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e pétro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85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4952880"/>
            <a:ext cx="7010280" cy="152424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solidFill>
            <a:srgbClr val="000000"/>
          </a:solidFill>
          <a:ln w="3808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629080"/>
            <a:ext cx="6324840" cy="148572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63504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4464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59400" y="685800"/>
            <a:ext cx="46980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148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87360" y="1143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35440" y="1676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695760" y="220968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114800" y="685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013280" y="68580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48040" y="1143000"/>
            <a:ext cx="800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013280" y="1143000"/>
            <a:ext cx="799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885840" y="1676160"/>
            <a:ext cx="10666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0492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124080"/>
            <a:ext cx="701064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99800" y="2590920"/>
            <a:ext cx="1549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Bread an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30400" y="3860640"/>
            <a:ext cx="647676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11430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572000"/>
            <a:ext cx="7010280" cy="1486080"/>
          </a:xfrm>
          <a:custGeom>
            <a:avLst/>
            <a:gdLst/>
            <a:ahLst/>
            <a:rect l="l" t="t" r="r" b="b"/>
            <a:pathLst>
              <a:path w="3408" h="936">
                <a:moveTo>
                  <a:pt x="0" y="936"/>
                </a:moveTo>
                <a:cubicBezTo>
                  <a:pt x="508" y="492"/>
                  <a:pt x="1016" y="48"/>
                  <a:pt x="1584" y="24"/>
                </a:cubicBezTo>
                <a:cubicBezTo>
                  <a:pt x="2152" y="0"/>
                  <a:pt x="2780" y="396"/>
                  <a:pt x="3408" y="792"/>
                </a:cubicBezTo>
              </a:path>
            </a:pathLst>
          </a:custGeom>
          <a:noFill/>
          <a:ln w="3808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1400" y="3048120"/>
            <a:ext cx="132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litics is di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3200" y="3886200"/>
            <a:ext cx="1450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ost-Moder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0680" y="4521240"/>
            <a:ext cx="205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Anti-Christian Attit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952880"/>
            <a:ext cx="1201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Lack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7400" y="5791320"/>
            <a:ext cx="816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Paydi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6858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5:08Z</dcterms:created>
  <dc:creator> </dc:creator>
  <dc:description/>
  <dc:language>en-US</dc:language>
  <cp:lastModifiedBy> </cp:lastModifiedBy>
  <dcterms:modified xsi:type="dcterms:W3CDTF">2006-11-21T19:48:25Z</dcterms:modified>
  <cp:revision>5</cp:revision>
  <dc:subject/>
  <dc:title>PowerPoint Presentation</dc:title>
</cp:coreProperties>
</file>