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800-64A5-4357-8CDA-415DE35C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A3D-0F39-481C-9FB1-A6AEE77C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22F-969A-44CE-89CC-BDACFC37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690-232B-4F1A-BFC8-A1021874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242-6AFC-4D4B-AB5F-855D874B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0D0-8F44-4F94-AEA4-46FE8E3B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E20-1B10-4BCD-888E-B03640AE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C32-A4D8-463B-A859-EEA5B37A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052-337F-45D5-A317-DF43186E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A4C-7184-4EED-ADED-41902AE1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39A-FE6A-4C1B-B32D-E83629B9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FEA-4C66-4A0B-B90A-580C89BD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AFDC-A7D5-4DA4-8CA9-9C643DEDF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676520"/>
            <a:ext cx="4876920" cy="2057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20040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1676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81680" y="205740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48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47” fi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599840" y="15238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10666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93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927000"/>
            <a:ext cx="4572000" cy="2057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447920"/>
            <a:ext cx="457200" cy="10666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1447920"/>
            <a:ext cx="457200" cy="10666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57400" y="533520"/>
            <a:ext cx="0" cy="3085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629400" y="533520"/>
            <a:ext cx="0" cy="3085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09480"/>
            <a:ext cx="533160" cy="30481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2819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tê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9625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Rallonge (prise du drap plat) à coudre aux p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066680" y="213336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657440" y="2743200"/>
            <a:ext cx="5734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657440" y="1143000"/>
            <a:ext cx="5734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38880" y="11937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1574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nviron 60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23880" y="49528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4495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nviron 81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0:44:35Z</dcterms:created>
  <dc:creator>sjj</dc:creator>
  <dc:description/>
  <dc:language>en-US</dc:language>
  <cp:lastModifiedBy>sjj</cp:lastModifiedBy>
  <dcterms:modified xsi:type="dcterms:W3CDTF">2014-04-24T14:46:36Z</dcterms:modified>
  <cp:revision>5</cp:revision>
  <dc:subject/>
  <dc:title>PowerPoint Presentation</dc:title>
</cp:coreProperties>
</file>