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A34-BB2A-4418-A0CA-D19615D2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FC5-BE52-4413-B226-C4E70CF9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590-777B-422A-9750-D326E655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D01-7C74-469F-952B-97A0A3B5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E20-0A5D-4C42-BC27-95831CE7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26E-B2B7-4D8E-9E5C-04A58F2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C6C-3623-48A9-A158-D6E68B5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148-480A-4507-8AF7-5570EEB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70E-0A48-49EC-B293-9AAFCC70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2BE-5DC2-464E-B567-380868E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92B-E7B2-43E8-8EBA-B29BDAD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2D4-53C0-4A2C-B293-8DE8DB76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4A0F-D700-4F31-B62F-DB7F6ECBD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09680"/>
            <a:ext cx="6933960" cy="1778040"/>
          </a:xfrm>
          <a:custGeom>
            <a:avLst/>
            <a:gdLst/>
            <a:ahLst/>
            <a:rect l="l" t="t" r="r" b="b"/>
            <a:pathLst>
              <a:path w="5528" h="1120">
                <a:moveTo>
                  <a:pt x="0" y="1056"/>
                </a:moveTo>
                <a:cubicBezTo>
                  <a:pt x="1484" y="1088"/>
                  <a:pt x="2968" y="1120"/>
                  <a:pt x="3600" y="1056"/>
                </a:cubicBezTo>
                <a:cubicBezTo>
                  <a:pt x="4232" y="992"/>
                  <a:pt x="4056" y="744"/>
                  <a:pt x="3792" y="672"/>
                </a:cubicBezTo>
                <a:cubicBezTo>
                  <a:pt x="3528" y="600"/>
                  <a:pt x="2320" y="720"/>
                  <a:pt x="2016" y="624"/>
                </a:cubicBezTo>
                <a:cubicBezTo>
                  <a:pt x="1712" y="528"/>
                  <a:pt x="1464" y="192"/>
                  <a:pt x="1968" y="96"/>
                </a:cubicBezTo>
                <a:cubicBezTo>
                  <a:pt x="2472" y="0"/>
                  <a:pt x="4552" y="56"/>
                  <a:pt x="5040" y="48"/>
                </a:cubicBezTo>
                <a:cubicBezTo>
                  <a:pt x="5528" y="40"/>
                  <a:pt x="5212" y="44"/>
                  <a:pt x="4896" y="48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1517400" y="2508120"/>
            <a:ext cx="6184800" cy="1778040"/>
          </a:xfrm>
          <a:custGeom>
            <a:avLst/>
            <a:gdLst/>
            <a:ahLst/>
            <a:rect l="l" t="t" r="r" b="b"/>
            <a:pathLst>
              <a:path w="5528" h="1120">
                <a:moveTo>
                  <a:pt x="0" y="1056"/>
                </a:moveTo>
                <a:cubicBezTo>
                  <a:pt x="1484" y="1088"/>
                  <a:pt x="2968" y="1120"/>
                  <a:pt x="3600" y="1056"/>
                </a:cubicBezTo>
                <a:cubicBezTo>
                  <a:pt x="4232" y="992"/>
                  <a:pt x="4056" y="744"/>
                  <a:pt x="3792" y="672"/>
                </a:cubicBezTo>
                <a:cubicBezTo>
                  <a:pt x="3528" y="600"/>
                  <a:pt x="2320" y="720"/>
                  <a:pt x="2016" y="624"/>
                </a:cubicBezTo>
                <a:cubicBezTo>
                  <a:pt x="1712" y="528"/>
                  <a:pt x="1464" y="192"/>
                  <a:pt x="1968" y="96"/>
                </a:cubicBezTo>
                <a:cubicBezTo>
                  <a:pt x="2472" y="0"/>
                  <a:pt x="4552" y="56"/>
                  <a:pt x="5040" y="48"/>
                </a:cubicBezTo>
                <a:cubicBezTo>
                  <a:pt x="5528" y="40"/>
                  <a:pt x="5212" y="44"/>
                  <a:pt x="4896" y="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9080" y="393696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7480" y="388620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6480" y="325116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31156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11680" y="2286000"/>
            <a:ext cx="152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42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57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k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k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23:40:14Z</dcterms:created>
  <dc:creator>sjj</dc:creator>
  <dc:description/>
  <dc:language>en-US</dc:language>
  <cp:lastModifiedBy>sjj</cp:lastModifiedBy>
  <dcterms:modified xsi:type="dcterms:W3CDTF">2019-08-08T23:47:38Z</dcterms:modified>
  <cp:revision>2</cp:revision>
  <dc:subject/>
  <dc:title>PowerPoint Presentation</dc:title>
</cp:coreProperties>
</file>