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4E7-6FB0-46F0-8A0C-8CCE4065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333-08EF-4EFE-9C4F-4727C607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3E5-CBBB-4297-9E4E-BF6CAEBF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CE1-BD3C-4D68-8894-A214EE9A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9D6-6CB5-4308-8C01-D61E778A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7B7-78A4-4E6C-9BAF-F72ED58F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581-6690-4D9A-9218-6CD9DFA8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612-8D3B-44AB-A8D7-3536271D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73C4-FF78-41F4-A8BC-BD43B8C3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B24F-4E05-4E02-9EC2-4CE65949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9FB-DB3E-4252-91B9-016ADC78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0C8-C7C9-4C0C-8E6E-70243C89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BCDD-331B-4999-95B5-007E259CE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0"/>
          <a:ext cx="8915400" cy="668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9154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16120" y="1739880"/>
            <a:ext cx="3264120" cy="326376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60720" y="2184480"/>
            <a:ext cx="2324160" cy="232416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19440" y="2743200"/>
            <a:ext cx="1219320" cy="1219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297180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â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 Di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3623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964400">
            <a:off x="3098160" y="383184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pé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8823800">
            <a:off x="4282200" y="342684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3160" y="18162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4495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é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2104200" y="28861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4807080" y="3420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16120" y="1739880"/>
            <a:ext cx="3264120" cy="326376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60720" y="2184480"/>
            <a:ext cx="2324160" cy="232416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19440" y="2743200"/>
            <a:ext cx="1219320" cy="1219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297180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8040" y="23115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964400">
            <a:off x="3098160" y="383184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8823800">
            <a:off x="4282200" y="342360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83160" y="18162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u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4495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e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104200" y="28861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807080" y="3420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16120" y="1739880"/>
            <a:ext cx="3264120" cy="326376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0720" y="2184480"/>
            <a:ext cx="2324160" cy="232416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19440" y="2743200"/>
            <a:ext cx="1219320" cy="1219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297180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23623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964400">
            <a:off x="3098160" y="383184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8823800">
            <a:off x="4282200" y="342684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45000" y="1816200"/>
            <a:ext cx="13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uden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4495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eran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2066040" y="28861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sti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4807080" y="3420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tit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5T15:06:07Z</dcterms:created>
  <dc:creator>sjj</dc:creator>
  <dc:description/>
  <dc:language>en-US</dc:language>
  <cp:lastModifiedBy>sjj</cp:lastModifiedBy>
  <dcterms:modified xsi:type="dcterms:W3CDTF">2018-11-05T16:04:32Z</dcterms:modified>
  <cp:revision>4</cp:revision>
  <dc:subject/>
  <dc:title>PowerPoint Presentation</dc:title>
</cp:coreProperties>
</file>