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D55E-F435-4714-B29E-DB005D065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EFC0-F9F9-4A09-9F0B-241553192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4D21-CFCB-4B5E-B92B-EABEC25AF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C830-ACD6-4D9C-9622-9BD61EFFE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2298-8D95-408F-87B1-8122CD64D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67FB-76C4-4959-A713-D9A2E5552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5DDE-E3BB-4FE3-9BF7-3D5774810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A85D-D582-46A2-B7AD-057810616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AB93-107E-484E-95AC-EB798D51F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F676-53E1-43BF-A890-ED2E4E1C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F0B4-C9CC-403D-99D4-B4877F77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43F4-4111-4CED-B4A5-AAFBE92B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5D772-DCFC-483E-905A-3C7703E627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38280" y="2743200"/>
            <a:ext cx="1752840" cy="1752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581280" y="3048120"/>
            <a:ext cx="457200" cy="1218960"/>
          </a:xfrm>
          <a:custGeom>
            <a:avLst/>
            <a:gdLst/>
            <a:ahLst/>
            <a:rect l="l" t="t" r="r" b="b"/>
            <a:pathLst>
              <a:path w="392" h="1056">
                <a:moveTo>
                  <a:pt x="0" y="0"/>
                </a:moveTo>
                <a:cubicBezTo>
                  <a:pt x="188" y="152"/>
                  <a:pt x="376" y="304"/>
                  <a:pt x="384" y="480"/>
                </a:cubicBezTo>
                <a:cubicBezTo>
                  <a:pt x="392" y="656"/>
                  <a:pt x="104" y="960"/>
                  <a:pt x="48" y="105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0" y="1523880"/>
            <a:ext cx="1600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OK, peda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in the right 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191120" y="2666880"/>
            <a:ext cx="1752480" cy="17528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4419720" y="2971800"/>
            <a:ext cx="457200" cy="1219320"/>
          </a:xfrm>
          <a:custGeom>
            <a:avLst/>
            <a:gdLst/>
            <a:ahLst/>
            <a:rect l="l" t="t" r="r" b="b"/>
            <a:pathLst>
              <a:path w="392" h="1056">
                <a:moveTo>
                  <a:pt x="0" y="0"/>
                </a:moveTo>
                <a:cubicBezTo>
                  <a:pt x="188" y="152"/>
                  <a:pt x="376" y="304"/>
                  <a:pt x="384" y="480"/>
                </a:cubicBezTo>
                <a:cubicBezTo>
                  <a:pt x="392" y="656"/>
                  <a:pt x="104" y="960"/>
                  <a:pt x="48" y="105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38480" y="1508040"/>
            <a:ext cx="199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Oops, can't connect this guy to the rear wheel ye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3600" y="2743200"/>
            <a:ext cx="1752480" cy="1752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086600" y="3048120"/>
            <a:ext cx="457200" cy="1218960"/>
          </a:xfrm>
          <a:custGeom>
            <a:avLst/>
            <a:gdLst/>
            <a:ahLst/>
            <a:rect l="l" t="t" r="r" b="b"/>
            <a:pathLst>
              <a:path w="392" h="1056">
                <a:moveTo>
                  <a:pt x="0" y="0"/>
                </a:moveTo>
                <a:cubicBezTo>
                  <a:pt x="188" y="152"/>
                  <a:pt x="376" y="304"/>
                  <a:pt x="384" y="480"/>
                </a:cubicBezTo>
                <a:cubicBezTo>
                  <a:pt x="392" y="656"/>
                  <a:pt x="104" y="960"/>
                  <a:pt x="48" y="105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04080" y="1508040"/>
            <a:ext cx="1996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Whew, now we can connect the chain to this one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133360" y="228600"/>
            <a:ext cx="3886560" cy="1981080"/>
            <a:chOff x="2133360" y="228600"/>
            <a:chExt cx="3886560" cy="1981080"/>
          </a:xfrm>
        </p:grpSpPr>
        <p:sp>
          <p:nvSpPr>
            <p:cNvPr id="51" name=""/>
            <p:cNvSpPr/>
            <p:nvPr/>
          </p:nvSpPr>
          <p:spPr>
            <a:xfrm>
              <a:off x="2286000" y="348840"/>
              <a:ext cx="1752480" cy="17524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029200" y="793440"/>
              <a:ext cx="914400" cy="914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2133360" y="228600"/>
              <a:ext cx="3886560" cy="1981080"/>
              <a:chOff x="2133360" y="228600"/>
              <a:chExt cx="3886560" cy="1981080"/>
            </a:xfrm>
          </p:grpSpPr>
          <p:sp>
            <p:nvSpPr>
              <p:cNvPr id="54" name=""/>
              <p:cNvSpPr/>
              <p:nvPr/>
            </p:nvSpPr>
            <p:spPr>
              <a:xfrm>
                <a:off x="5486400" y="717480"/>
                <a:ext cx="533520" cy="1066320"/>
              </a:xfrm>
              <a:custGeom>
                <a:avLst/>
                <a:gdLst>
                  <a:gd name="textAreaLeft" fmla="*/ 0 w 533520"/>
                  <a:gd name="textAreaRight" fmla="*/ 374400 w 533520"/>
                  <a:gd name="textAreaTop" fmla="*/ 266400 h 1066320"/>
                  <a:gd name="textAreaBottom" fmla="*/ 799920 h 106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5400"/>
                      <a:pt x="21600" y="10800"/>
                    </a:cubicBezTo>
                    <a:lnTo>
                      <a:pt x="21600" y="10800"/>
                    </a:lnTo>
                    <a:cubicBezTo>
                      <a:pt x="21600" y="16200"/>
                      <a:pt x="108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H="1">
                <a:off x="2133000" y="228600"/>
                <a:ext cx="1066680" cy="1981080"/>
              </a:xfrm>
              <a:custGeom>
                <a:avLst/>
                <a:gdLst>
                  <a:gd name="textAreaLeft" fmla="*/ -360 w 1066680"/>
                  <a:gd name="textAreaRight" fmla="*/ 747720 w 1066680"/>
                  <a:gd name="textAreaTop" fmla="*/ 495360 h 1981080"/>
                  <a:gd name="textAreaBottom" fmla="*/ 1486080 h 1981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5400"/>
                      <a:pt x="21600" y="10800"/>
                    </a:cubicBezTo>
                    <a:lnTo>
                      <a:pt x="21600" y="10800"/>
                    </a:lnTo>
                    <a:cubicBezTo>
                      <a:pt x="21600" y="16200"/>
                      <a:pt x="108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56" name=""/>
              <p:cNvCxnSpPr>
                <a:stCxn id="55" idx="1"/>
                <a:endCxn id="54" idx="1"/>
              </p:cNvCxnSpPr>
              <p:nvPr/>
            </p:nvCxnSpPr>
            <p:spPr>
              <a:xfrm flipV="1">
                <a:off x="3200400" y="1783800"/>
                <a:ext cx="2286720" cy="424080"/>
              </a:xfrm>
              <a:prstGeom prst="straightConnector1">
                <a:avLst/>
              </a:prstGeom>
              <a:ln w="38160">
                <a:solidFill>
                  <a:srgbClr val="0033cc"/>
                </a:solidFill>
                <a:miter/>
              </a:ln>
            </p:spPr>
          </p:cxnSp>
          <p:cxnSp>
            <p:nvCxnSpPr>
              <p:cNvPr id="57" name=""/>
              <p:cNvCxnSpPr>
                <a:stCxn id="55" idx="0"/>
                <a:endCxn id="54" idx="0"/>
              </p:cNvCxnSpPr>
              <p:nvPr/>
            </p:nvCxnSpPr>
            <p:spPr>
              <a:xfrm>
                <a:off x="3200400" y="228600"/>
                <a:ext cx="2286720" cy="489600"/>
              </a:xfrm>
              <a:prstGeom prst="straightConnector1">
                <a:avLst/>
              </a:prstGeom>
              <a:ln w="38160">
                <a:solidFill>
                  <a:srgbClr val="0033cc"/>
                </a:solidFill>
                <a:miter/>
              </a:ln>
            </p:spPr>
          </p:cxnSp>
        </p:grpSp>
      </p:grpSp>
      <p:grpSp>
        <p:nvGrpSpPr>
          <p:cNvPr id="58" name=""/>
          <p:cNvGrpSpPr/>
          <p:nvPr/>
        </p:nvGrpSpPr>
        <p:grpSpPr>
          <a:xfrm>
            <a:off x="2666520" y="4114800"/>
            <a:ext cx="3886560" cy="1981080"/>
            <a:chOff x="2666520" y="4114800"/>
            <a:chExt cx="3886560" cy="1981080"/>
          </a:xfrm>
        </p:grpSpPr>
        <p:sp>
          <p:nvSpPr>
            <p:cNvPr id="59" name=""/>
            <p:cNvSpPr/>
            <p:nvPr/>
          </p:nvSpPr>
          <p:spPr>
            <a:xfrm flipH="1">
              <a:off x="4647960" y="4235040"/>
              <a:ext cx="1752480" cy="17524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2742840" y="4679640"/>
              <a:ext cx="914400" cy="914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2666520" y="4114800"/>
              <a:ext cx="3886560" cy="1981080"/>
              <a:chOff x="2666520" y="4114800"/>
              <a:chExt cx="3886560" cy="1981080"/>
            </a:xfrm>
          </p:grpSpPr>
          <p:sp>
            <p:nvSpPr>
              <p:cNvPr id="62" name=""/>
              <p:cNvSpPr/>
              <p:nvPr/>
            </p:nvSpPr>
            <p:spPr>
              <a:xfrm flipH="1">
                <a:off x="2666520" y="4603680"/>
                <a:ext cx="533520" cy="1066320"/>
              </a:xfrm>
              <a:custGeom>
                <a:avLst/>
                <a:gdLst>
                  <a:gd name="textAreaLeft" fmla="*/ 0 w 533520"/>
                  <a:gd name="textAreaRight" fmla="*/ 374400 w 533520"/>
                  <a:gd name="textAreaTop" fmla="*/ 266400 h 1066320"/>
                  <a:gd name="textAreaBottom" fmla="*/ 799920 h 106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5400"/>
                      <a:pt x="21600" y="10800"/>
                    </a:cubicBezTo>
                    <a:lnTo>
                      <a:pt x="21600" y="10800"/>
                    </a:lnTo>
                    <a:cubicBezTo>
                      <a:pt x="21600" y="16200"/>
                      <a:pt x="108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486400" y="4114800"/>
                <a:ext cx="1066680" cy="1981080"/>
              </a:xfrm>
              <a:custGeom>
                <a:avLst/>
                <a:gdLst>
                  <a:gd name="textAreaLeft" fmla="*/ 0 w 1066680"/>
                  <a:gd name="textAreaRight" fmla="*/ 748080 w 1066680"/>
                  <a:gd name="textAreaTop" fmla="*/ 495360 h 1981080"/>
                  <a:gd name="textAreaBottom" fmla="*/ 1486080 h 1981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5400"/>
                      <a:pt x="21600" y="10800"/>
                    </a:cubicBezTo>
                    <a:lnTo>
                      <a:pt x="21600" y="10800"/>
                    </a:lnTo>
                    <a:cubicBezTo>
                      <a:pt x="21600" y="16200"/>
                      <a:pt x="108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4" name=""/>
              <p:cNvCxnSpPr>
                <a:stCxn id="63" idx="1"/>
                <a:endCxn id="62" idx="1"/>
              </p:cNvCxnSpPr>
              <p:nvPr/>
            </p:nvCxnSpPr>
            <p:spPr>
              <a:xfrm flipH="1" flipV="1">
                <a:off x="3199680" y="5670000"/>
                <a:ext cx="2286720" cy="424080"/>
              </a:xfrm>
              <a:prstGeom prst="straightConnector1">
                <a:avLst/>
              </a:prstGeom>
              <a:ln w="38160">
                <a:solidFill>
                  <a:srgbClr val="0033cc"/>
                </a:solidFill>
                <a:miter/>
              </a:ln>
            </p:spPr>
          </p:cxnSp>
          <p:cxnSp>
            <p:nvCxnSpPr>
              <p:cNvPr id="65" name=""/>
              <p:cNvCxnSpPr>
                <a:stCxn id="63" idx="0"/>
                <a:endCxn id="62" idx="0"/>
              </p:cNvCxnSpPr>
              <p:nvPr/>
            </p:nvCxnSpPr>
            <p:spPr>
              <a:xfrm flipH="1">
                <a:off x="3199680" y="4114800"/>
                <a:ext cx="2286720" cy="489600"/>
              </a:xfrm>
              <a:prstGeom prst="straightConnector1">
                <a:avLst/>
              </a:prstGeom>
              <a:ln w="38160">
                <a:solidFill>
                  <a:srgbClr val="0033cc"/>
                </a:solidFill>
                <a:miter/>
              </a:ln>
            </p:spPr>
          </p:cxnSp>
        </p:grpSp>
      </p:grpSp>
      <p:grpSp>
        <p:nvGrpSpPr>
          <p:cNvPr id="66" name=""/>
          <p:cNvGrpSpPr/>
          <p:nvPr/>
        </p:nvGrpSpPr>
        <p:grpSpPr>
          <a:xfrm>
            <a:off x="2373480" y="2423880"/>
            <a:ext cx="3874680" cy="1584360"/>
            <a:chOff x="2373480" y="2423880"/>
            <a:chExt cx="3874680" cy="1584360"/>
          </a:xfrm>
        </p:grpSpPr>
        <p:sp>
          <p:nvSpPr>
            <p:cNvPr id="67" name=""/>
            <p:cNvSpPr/>
            <p:nvPr/>
          </p:nvSpPr>
          <p:spPr>
            <a:xfrm flipH="1">
              <a:off x="2513880" y="2590920"/>
              <a:ext cx="1328760" cy="13287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799880" y="2557440"/>
              <a:ext cx="1328760" cy="13287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373480" y="2470320"/>
              <a:ext cx="761760" cy="1523880"/>
            </a:xfrm>
            <a:custGeom>
              <a:avLst/>
              <a:gdLst>
                <a:gd name="textAreaLeft" fmla="*/ 223920 w 761760"/>
                <a:gd name="textAreaRight" fmla="*/ 762120 w 761760"/>
                <a:gd name="textAreaTop" fmla="*/ 380880 h 1523880"/>
                <a:gd name="textAreaBottom" fmla="*/ 114300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5400"/>
                    <a:pt x="0" y="10800"/>
                  </a:cubicBezTo>
                  <a:lnTo>
                    <a:pt x="0" y="10800"/>
                  </a:lnTo>
                  <a:cubicBezTo>
                    <a:pt x="0" y="16200"/>
                    <a:pt x="108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5485680" y="2438280"/>
              <a:ext cx="762120" cy="1524240"/>
            </a:xfrm>
            <a:custGeom>
              <a:avLst/>
              <a:gdLst>
                <a:gd name="textAreaLeft" fmla="*/ 223560 w 762120"/>
                <a:gd name="textAreaRight" fmla="*/ 762120 w 762120"/>
                <a:gd name="textAreaTop" fmla="*/ 380880 h 1524240"/>
                <a:gd name="textAreaBottom" fmla="*/ 114336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5400"/>
                    <a:pt x="0" y="10800"/>
                  </a:cubicBezTo>
                  <a:lnTo>
                    <a:pt x="0" y="10800"/>
                  </a:lnTo>
                  <a:cubicBezTo>
                    <a:pt x="0" y="16200"/>
                    <a:pt x="108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1" name=""/>
            <p:cNvCxnSpPr>
              <a:stCxn id="69" idx="2"/>
              <a:endCxn id="70" idx="2"/>
            </p:cNvCxnSpPr>
            <p:nvPr/>
          </p:nvCxnSpPr>
          <p:spPr>
            <a:xfrm flipV="1">
              <a:off x="3134880" y="3974400"/>
              <a:ext cx="2351880" cy="34200"/>
            </a:xfrm>
            <a:prstGeom prst="straightConnector1">
              <a:avLst/>
            </a:prstGeom>
            <a:ln w="28440">
              <a:solidFill>
                <a:srgbClr val="0033cc"/>
              </a:solidFill>
              <a:miter/>
            </a:ln>
          </p:spPr>
        </p:cxnSp>
        <p:cxnSp>
          <p:nvCxnSpPr>
            <p:cNvPr id="72" name=""/>
            <p:cNvCxnSpPr>
              <a:stCxn id="69" idx="0"/>
              <a:endCxn id="70" idx="0"/>
            </p:cNvCxnSpPr>
            <p:nvPr/>
          </p:nvCxnSpPr>
          <p:spPr>
            <a:xfrm flipV="1">
              <a:off x="3134880" y="2423880"/>
              <a:ext cx="2351880" cy="32400"/>
            </a:xfrm>
            <a:prstGeom prst="straightConnector1">
              <a:avLst/>
            </a:prstGeom>
            <a:ln w="28440">
              <a:solidFill>
                <a:srgbClr val="0033cc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1227600" y="1810440"/>
            <a:ext cx="4675680" cy="1492200"/>
            <a:chOff x="1227600" y="1810440"/>
            <a:chExt cx="4675680" cy="1492200"/>
          </a:xfrm>
        </p:grpSpPr>
        <p:grpSp>
          <p:nvGrpSpPr>
            <p:cNvPr id="74" name=""/>
            <p:cNvGrpSpPr/>
            <p:nvPr/>
          </p:nvGrpSpPr>
          <p:grpSpPr>
            <a:xfrm>
              <a:off x="2057400" y="1828800"/>
              <a:ext cx="3290760" cy="236880"/>
              <a:chOff x="2057400" y="1828800"/>
              <a:chExt cx="3290760" cy="236880"/>
            </a:xfrm>
          </p:grpSpPr>
          <p:grpSp>
            <p:nvGrpSpPr>
              <p:cNvPr id="75" name=""/>
              <p:cNvGrpSpPr/>
              <p:nvPr/>
            </p:nvGrpSpPr>
            <p:grpSpPr>
              <a:xfrm>
                <a:off x="2057400" y="1828800"/>
                <a:ext cx="380880" cy="236880"/>
                <a:chOff x="2057400" y="1828800"/>
                <a:chExt cx="380880" cy="23688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2057400" y="1828800"/>
                  <a:ext cx="380880" cy="1522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 flipH="1" flipV="1" rot="16200000">
                  <a:off x="2205000" y="1950840"/>
                  <a:ext cx="75960" cy="152640"/>
                </a:xfrm>
                <a:custGeom>
                  <a:avLst/>
                  <a:gdLst>
                    <a:gd name="textAreaLeft" fmla="*/ -360 w 75960"/>
                    <a:gd name="textAreaRight" fmla="*/ 52920 w 75960"/>
                    <a:gd name="textAreaTop" fmla="*/ 38160 h 152640"/>
                    <a:gd name="textAreaBottom" fmla="*/ 114480 h 152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5400"/>
                        <a:pt x="21600" y="10800"/>
                      </a:cubicBezTo>
                      <a:lnTo>
                        <a:pt x="21600" y="10800"/>
                      </a:lnTo>
                      <a:cubicBezTo>
                        <a:pt x="21600" y="16200"/>
                        <a:pt x="10800" y="21600"/>
                        <a:pt x="0" y="2160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2090880" y="186048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2309760" y="186840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2281320" y="1828800"/>
                <a:ext cx="380880" cy="236880"/>
                <a:chOff x="2281320" y="1828800"/>
                <a:chExt cx="380880" cy="23688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2281320" y="1828800"/>
                  <a:ext cx="380880" cy="1522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 flipH="1" flipV="1" rot="16200000">
                  <a:off x="2428920" y="1950840"/>
                  <a:ext cx="75960" cy="152640"/>
                </a:xfrm>
                <a:custGeom>
                  <a:avLst/>
                  <a:gdLst>
                    <a:gd name="textAreaLeft" fmla="*/ -360 w 75960"/>
                    <a:gd name="textAreaRight" fmla="*/ 52920 w 75960"/>
                    <a:gd name="textAreaTop" fmla="*/ 38160 h 152640"/>
                    <a:gd name="textAreaBottom" fmla="*/ 114480 h 152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5400"/>
                        <a:pt x="21600" y="10800"/>
                      </a:cubicBezTo>
                      <a:lnTo>
                        <a:pt x="21600" y="10800"/>
                      </a:lnTo>
                      <a:cubicBezTo>
                        <a:pt x="21600" y="16200"/>
                        <a:pt x="10800" y="21600"/>
                        <a:pt x="0" y="2160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2314800" y="186048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2533680" y="186840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2505240" y="1828800"/>
                <a:ext cx="380880" cy="236880"/>
                <a:chOff x="2505240" y="1828800"/>
                <a:chExt cx="380880" cy="23688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2505240" y="1828800"/>
                  <a:ext cx="380880" cy="1522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flipH="1" flipV="1" rot="16200000">
                  <a:off x="2652840" y="1950840"/>
                  <a:ext cx="75960" cy="152640"/>
                </a:xfrm>
                <a:custGeom>
                  <a:avLst/>
                  <a:gdLst>
                    <a:gd name="textAreaLeft" fmla="*/ -360 w 75960"/>
                    <a:gd name="textAreaRight" fmla="*/ 52920 w 75960"/>
                    <a:gd name="textAreaTop" fmla="*/ 38160 h 152640"/>
                    <a:gd name="textAreaBottom" fmla="*/ 114480 h 152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5400"/>
                        <a:pt x="21600" y="10800"/>
                      </a:cubicBezTo>
                      <a:lnTo>
                        <a:pt x="21600" y="10800"/>
                      </a:lnTo>
                      <a:cubicBezTo>
                        <a:pt x="21600" y="16200"/>
                        <a:pt x="10800" y="21600"/>
                        <a:pt x="0" y="2160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538720" y="186048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2757600" y="186840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2728800" y="1828800"/>
                <a:ext cx="380880" cy="236880"/>
                <a:chOff x="2728800" y="1828800"/>
                <a:chExt cx="380880" cy="23688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2728800" y="1828800"/>
                  <a:ext cx="380880" cy="1522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 flipH="1" flipV="1" rot="16200000">
                  <a:off x="2876400" y="1950840"/>
                  <a:ext cx="75960" cy="152640"/>
                </a:xfrm>
                <a:custGeom>
                  <a:avLst/>
                  <a:gdLst>
                    <a:gd name="textAreaLeft" fmla="*/ -360 w 75960"/>
                    <a:gd name="textAreaRight" fmla="*/ 52920 w 75960"/>
                    <a:gd name="textAreaTop" fmla="*/ 38160 h 152640"/>
                    <a:gd name="textAreaBottom" fmla="*/ 114480 h 152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5400"/>
                        <a:pt x="21600" y="10800"/>
                      </a:cubicBezTo>
                      <a:lnTo>
                        <a:pt x="21600" y="10800"/>
                      </a:lnTo>
                      <a:cubicBezTo>
                        <a:pt x="21600" y="16200"/>
                        <a:pt x="10800" y="21600"/>
                        <a:pt x="0" y="2160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2762280" y="186048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2981160" y="186840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2952720" y="1828800"/>
                <a:ext cx="380880" cy="236880"/>
                <a:chOff x="2952720" y="1828800"/>
                <a:chExt cx="380880" cy="23688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2952720" y="1828800"/>
                  <a:ext cx="380880" cy="1522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 flipH="1" flipV="1" rot="16200000">
                  <a:off x="3100320" y="1950840"/>
                  <a:ext cx="75960" cy="152640"/>
                </a:xfrm>
                <a:custGeom>
                  <a:avLst/>
                  <a:gdLst>
                    <a:gd name="textAreaLeft" fmla="*/ -360 w 75960"/>
                    <a:gd name="textAreaRight" fmla="*/ 52920 w 75960"/>
                    <a:gd name="textAreaTop" fmla="*/ 38160 h 152640"/>
                    <a:gd name="textAreaBottom" fmla="*/ 114480 h 152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5400"/>
                        <a:pt x="21600" y="10800"/>
                      </a:cubicBezTo>
                      <a:lnTo>
                        <a:pt x="21600" y="10800"/>
                      </a:lnTo>
                      <a:cubicBezTo>
                        <a:pt x="21600" y="16200"/>
                        <a:pt x="10800" y="21600"/>
                        <a:pt x="0" y="2160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2986200" y="186048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3205080" y="186840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3176640" y="1828800"/>
                <a:ext cx="380880" cy="236880"/>
                <a:chOff x="3176640" y="1828800"/>
                <a:chExt cx="380880" cy="2368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3176640" y="1828800"/>
                  <a:ext cx="380880" cy="1522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 flipH="1" flipV="1" rot="16200000">
                  <a:off x="3324240" y="1950840"/>
                  <a:ext cx="75960" cy="152640"/>
                </a:xfrm>
                <a:custGeom>
                  <a:avLst/>
                  <a:gdLst>
                    <a:gd name="textAreaLeft" fmla="*/ -360 w 75960"/>
                    <a:gd name="textAreaRight" fmla="*/ 52920 w 75960"/>
                    <a:gd name="textAreaTop" fmla="*/ 38160 h 152640"/>
                    <a:gd name="textAreaBottom" fmla="*/ 114480 h 152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5400"/>
                        <a:pt x="21600" y="10800"/>
                      </a:cubicBezTo>
                      <a:lnTo>
                        <a:pt x="21600" y="10800"/>
                      </a:lnTo>
                      <a:cubicBezTo>
                        <a:pt x="21600" y="16200"/>
                        <a:pt x="10800" y="21600"/>
                        <a:pt x="0" y="2160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3210120" y="186048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3429000" y="186840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3400560" y="1828800"/>
                <a:ext cx="380880" cy="236880"/>
                <a:chOff x="3400560" y="1828800"/>
                <a:chExt cx="380880" cy="23688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400560" y="1828800"/>
                  <a:ext cx="380880" cy="1522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 flipH="1" flipV="1" rot="16200000">
                  <a:off x="3548160" y="1950840"/>
                  <a:ext cx="75960" cy="152640"/>
                </a:xfrm>
                <a:custGeom>
                  <a:avLst/>
                  <a:gdLst>
                    <a:gd name="textAreaLeft" fmla="*/ -360 w 75960"/>
                    <a:gd name="textAreaRight" fmla="*/ 52920 w 75960"/>
                    <a:gd name="textAreaTop" fmla="*/ 38160 h 152640"/>
                    <a:gd name="textAreaBottom" fmla="*/ 114480 h 152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5400"/>
                        <a:pt x="21600" y="10800"/>
                      </a:cubicBezTo>
                      <a:lnTo>
                        <a:pt x="21600" y="10800"/>
                      </a:lnTo>
                      <a:cubicBezTo>
                        <a:pt x="21600" y="16200"/>
                        <a:pt x="10800" y="21600"/>
                        <a:pt x="0" y="2160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3434040" y="186048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3652920" y="186840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3624120" y="1828800"/>
                <a:ext cx="380880" cy="236880"/>
                <a:chOff x="3624120" y="1828800"/>
                <a:chExt cx="380880" cy="23688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3624120" y="1828800"/>
                  <a:ext cx="380880" cy="1522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 flipH="1" flipV="1" rot="16200000">
                  <a:off x="3771720" y="1950840"/>
                  <a:ext cx="75960" cy="152640"/>
                </a:xfrm>
                <a:custGeom>
                  <a:avLst/>
                  <a:gdLst>
                    <a:gd name="textAreaLeft" fmla="*/ -360 w 75960"/>
                    <a:gd name="textAreaRight" fmla="*/ 52920 w 75960"/>
                    <a:gd name="textAreaTop" fmla="*/ 38160 h 152640"/>
                    <a:gd name="textAreaBottom" fmla="*/ 114480 h 152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5400"/>
                        <a:pt x="21600" y="10800"/>
                      </a:cubicBezTo>
                      <a:lnTo>
                        <a:pt x="21600" y="10800"/>
                      </a:lnTo>
                      <a:cubicBezTo>
                        <a:pt x="21600" y="16200"/>
                        <a:pt x="10800" y="21600"/>
                        <a:pt x="0" y="2160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3657600" y="186048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3876480" y="186840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3848040" y="1828800"/>
                <a:ext cx="380880" cy="236880"/>
                <a:chOff x="3848040" y="1828800"/>
                <a:chExt cx="380880" cy="23688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3848040" y="1828800"/>
                  <a:ext cx="380880" cy="1522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 flipH="1" flipV="1" rot="16200000">
                  <a:off x="3995640" y="1950840"/>
                  <a:ext cx="75960" cy="152640"/>
                </a:xfrm>
                <a:custGeom>
                  <a:avLst/>
                  <a:gdLst>
                    <a:gd name="textAreaLeft" fmla="*/ -360 w 75960"/>
                    <a:gd name="textAreaRight" fmla="*/ 52920 w 75960"/>
                    <a:gd name="textAreaTop" fmla="*/ 38160 h 152640"/>
                    <a:gd name="textAreaBottom" fmla="*/ 114480 h 152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5400"/>
                        <a:pt x="21600" y="10800"/>
                      </a:cubicBezTo>
                      <a:lnTo>
                        <a:pt x="21600" y="10800"/>
                      </a:lnTo>
                      <a:cubicBezTo>
                        <a:pt x="21600" y="16200"/>
                        <a:pt x="10800" y="21600"/>
                        <a:pt x="0" y="2160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3881520" y="186048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100400" y="186840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4071960" y="1828800"/>
                <a:ext cx="380880" cy="236880"/>
                <a:chOff x="4071960" y="1828800"/>
                <a:chExt cx="380880" cy="23688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4071960" y="1828800"/>
                  <a:ext cx="380880" cy="1522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 flipH="1" flipV="1" rot="16200000">
                  <a:off x="4219560" y="1950840"/>
                  <a:ext cx="75960" cy="152640"/>
                </a:xfrm>
                <a:custGeom>
                  <a:avLst/>
                  <a:gdLst>
                    <a:gd name="textAreaLeft" fmla="*/ -360 w 75960"/>
                    <a:gd name="textAreaRight" fmla="*/ 52920 w 75960"/>
                    <a:gd name="textAreaTop" fmla="*/ 38160 h 152640"/>
                    <a:gd name="textAreaBottom" fmla="*/ 114480 h 152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5400"/>
                        <a:pt x="21600" y="10800"/>
                      </a:cubicBezTo>
                      <a:lnTo>
                        <a:pt x="21600" y="10800"/>
                      </a:lnTo>
                      <a:cubicBezTo>
                        <a:pt x="21600" y="16200"/>
                        <a:pt x="10800" y="21600"/>
                        <a:pt x="0" y="2160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4105440" y="186048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4324320" y="186840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4295880" y="1828800"/>
                <a:ext cx="380880" cy="236880"/>
                <a:chOff x="4295880" y="1828800"/>
                <a:chExt cx="380880" cy="23688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4295880" y="1828800"/>
                  <a:ext cx="380880" cy="1522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flipH="1" flipV="1" rot="16200000">
                  <a:off x="4443480" y="1950840"/>
                  <a:ext cx="75960" cy="152640"/>
                </a:xfrm>
                <a:custGeom>
                  <a:avLst/>
                  <a:gdLst>
                    <a:gd name="textAreaLeft" fmla="*/ -360 w 75960"/>
                    <a:gd name="textAreaRight" fmla="*/ 52920 w 75960"/>
                    <a:gd name="textAreaTop" fmla="*/ 38160 h 152640"/>
                    <a:gd name="textAreaBottom" fmla="*/ 114480 h 152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5400"/>
                        <a:pt x="21600" y="10800"/>
                      </a:cubicBezTo>
                      <a:lnTo>
                        <a:pt x="21600" y="10800"/>
                      </a:lnTo>
                      <a:cubicBezTo>
                        <a:pt x="21600" y="16200"/>
                        <a:pt x="10800" y="21600"/>
                        <a:pt x="0" y="2160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4329360" y="186048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4548240" y="186840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4519440" y="1828800"/>
                <a:ext cx="380880" cy="236880"/>
                <a:chOff x="4519440" y="1828800"/>
                <a:chExt cx="380880" cy="23688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4519440" y="1828800"/>
                  <a:ext cx="380880" cy="1522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flipH="1" flipV="1" rot="16200000">
                  <a:off x="4667040" y="1950840"/>
                  <a:ext cx="75960" cy="152640"/>
                </a:xfrm>
                <a:custGeom>
                  <a:avLst/>
                  <a:gdLst>
                    <a:gd name="textAreaLeft" fmla="*/ -360 w 75960"/>
                    <a:gd name="textAreaRight" fmla="*/ 52920 w 75960"/>
                    <a:gd name="textAreaTop" fmla="*/ 38160 h 152640"/>
                    <a:gd name="textAreaBottom" fmla="*/ 114480 h 152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5400"/>
                        <a:pt x="21600" y="10800"/>
                      </a:cubicBezTo>
                      <a:lnTo>
                        <a:pt x="21600" y="10800"/>
                      </a:lnTo>
                      <a:cubicBezTo>
                        <a:pt x="21600" y="16200"/>
                        <a:pt x="10800" y="21600"/>
                        <a:pt x="0" y="2160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552920" y="186048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771800" y="186840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743360" y="1828800"/>
                <a:ext cx="380880" cy="236880"/>
                <a:chOff x="4743360" y="1828800"/>
                <a:chExt cx="380880" cy="2368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743360" y="1828800"/>
                  <a:ext cx="380880" cy="1522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 flipH="1" flipV="1" rot="16200000">
                  <a:off x="4890960" y="1950840"/>
                  <a:ext cx="75960" cy="152640"/>
                </a:xfrm>
                <a:custGeom>
                  <a:avLst/>
                  <a:gdLst>
                    <a:gd name="textAreaLeft" fmla="*/ -360 w 75960"/>
                    <a:gd name="textAreaRight" fmla="*/ 52920 w 75960"/>
                    <a:gd name="textAreaTop" fmla="*/ 38160 h 152640"/>
                    <a:gd name="textAreaBottom" fmla="*/ 114480 h 152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5400"/>
                        <a:pt x="21600" y="10800"/>
                      </a:cubicBezTo>
                      <a:lnTo>
                        <a:pt x="21600" y="10800"/>
                      </a:lnTo>
                      <a:cubicBezTo>
                        <a:pt x="21600" y="16200"/>
                        <a:pt x="10800" y="21600"/>
                        <a:pt x="0" y="2160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4776840" y="186048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4995720" y="186840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4967280" y="1828800"/>
                <a:ext cx="380880" cy="236880"/>
                <a:chOff x="4967280" y="1828800"/>
                <a:chExt cx="380880" cy="2368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967280" y="1828800"/>
                  <a:ext cx="380880" cy="1522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flipV="1" rot="16200000">
                  <a:off x="5114880" y="1950840"/>
                  <a:ext cx="75960" cy="152640"/>
                </a:xfrm>
                <a:custGeom>
                  <a:avLst/>
                  <a:gdLst>
                    <a:gd name="textAreaLeft" fmla="*/ -360 w 75960"/>
                    <a:gd name="textAreaRight" fmla="*/ 52920 w 75960"/>
                    <a:gd name="textAreaTop" fmla="*/ 38160 h 152640"/>
                    <a:gd name="textAreaBottom" fmla="*/ 114480 h 152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5400"/>
                        <a:pt x="21600" y="10800"/>
                      </a:cubicBezTo>
                      <a:lnTo>
                        <a:pt x="21600" y="10800"/>
                      </a:lnTo>
                      <a:cubicBezTo>
                        <a:pt x="21600" y="16200"/>
                        <a:pt x="10800" y="21600"/>
                        <a:pt x="0" y="2160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00760" y="186048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219640" y="186840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5" name=""/>
            <p:cNvGrpSpPr/>
            <p:nvPr/>
          </p:nvGrpSpPr>
          <p:grpSpPr>
            <a:xfrm>
              <a:off x="1828800" y="3048840"/>
              <a:ext cx="3290760" cy="236880"/>
              <a:chOff x="1828800" y="3048840"/>
              <a:chExt cx="3290760" cy="236880"/>
            </a:xfrm>
          </p:grpSpPr>
          <p:grpSp>
            <p:nvGrpSpPr>
              <p:cNvPr id="146" name=""/>
              <p:cNvGrpSpPr/>
              <p:nvPr/>
            </p:nvGrpSpPr>
            <p:grpSpPr>
              <a:xfrm>
                <a:off x="1828800" y="3048840"/>
                <a:ext cx="380880" cy="236880"/>
                <a:chOff x="1828800" y="3048840"/>
                <a:chExt cx="380880" cy="236880"/>
              </a:xfrm>
            </p:grpSpPr>
            <p:sp>
              <p:nvSpPr>
                <p:cNvPr id="147" name=""/>
                <p:cNvSpPr/>
                <p:nvPr/>
              </p:nvSpPr>
              <p:spPr>
                <a:xfrm flipV="1">
                  <a:off x="1828800" y="3133080"/>
                  <a:ext cx="380880" cy="1522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H="1" rot="5400000">
                  <a:off x="1976400" y="3010320"/>
                  <a:ext cx="75960" cy="152640"/>
                </a:xfrm>
                <a:custGeom>
                  <a:avLst/>
                  <a:gdLst>
                    <a:gd name="textAreaLeft" fmla="*/ -360 w 75960"/>
                    <a:gd name="textAreaRight" fmla="*/ 52920 w 75960"/>
                    <a:gd name="textAreaTop" fmla="*/ 38160 h 152640"/>
                    <a:gd name="textAreaBottom" fmla="*/ 114480 h 152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5400"/>
                        <a:pt x="21600" y="10800"/>
                      </a:cubicBezTo>
                      <a:lnTo>
                        <a:pt x="21600" y="10800"/>
                      </a:lnTo>
                      <a:cubicBezTo>
                        <a:pt x="21600" y="16200"/>
                        <a:pt x="10800" y="21600"/>
                        <a:pt x="0" y="2160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V="1">
                  <a:off x="1862280" y="317844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V="1">
                  <a:off x="2081160" y="317052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2052720" y="3048840"/>
                <a:ext cx="380880" cy="236880"/>
                <a:chOff x="2052720" y="3048840"/>
                <a:chExt cx="380880" cy="236880"/>
              </a:xfrm>
            </p:grpSpPr>
            <p:sp>
              <p:nvSpPr>
                <p:cNvPr id="152" name=""/>
                <p:cNvSpPr/>
                <p:nvPr/>
              </p:nvSpPr>
              <p:spPr>
                <a:xfrm flipV="1">
                  <a:off x="2052720" y="3133080"/>
                  <a:ext cx="380880" cy="1522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H="1" rot="5400000">
                  <a:off x="2200320" y="3010320"/>
                  <a:ext cx="75960" cy="152640"/>
                </a:xfrm>
                <a:custGeom>
                  <a:avLst/>
                  <a:gdLst>
                    <a:gd name="textAreaLeft" fmla="*/ -360 w 75960"/>
                    <a:gd name="textAreaRight" fmla="*/ 52920 w 75960"/>
                    <a:gd name="textAreaTop" fmla="*/ 38160 h 152640"/>
                    <a:gd name="textAreaBottom" fmla="*/ 114480 h 152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5400"/>
                        <a:pt x="21600" y="10800"/>
                      </a:cubicBezTo>
                      <a:lnTo>
                        <a:pt x="21600" y="10800"/>
                      </a:lnTo>
                      <a:cubicBezTo>
                        <a:pt x="21600" y="16200"/>
                        <a:pt x="10800" y="21600"/>
                        <a:pt x="0" y="2160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V="1">
                  <a:off x="2086200" y="317844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305080" y="317052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2276640" y="3048840"/>
                <a:ext cx="380880" cy="236880"/>
                <a:chOff x="2276640" y="3048840"/>
                <a:chExt cx="380880" cy="236880"/>
              </a:xfrm>
            </p:grpSpPr>
            <p:sp>
              <p:nvSpPr>
                <p:cNvPr id="157" name=""/>
                <p:cNvSpPr/>
                <p:nvPr/>
              </p:nvSpPr>
              <p:spPr>
                <a:xfrm flipV="1">
                  <a:off x="2276640" y="3133080"/>
                  <a:ext cx="380880" cy="1522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flipH="1" rot="5400000">
                  <a:off x="2424240" y="3010320"/>
                  <a:ext cx="75960" cy="152640"/>
                </a:xfrm>
                <a:custGeom>
                  <a:avLst/>
                  <a:gdLst>
                    <a:gd name="textAreaLeft" fmla="*/ -360 w 75960"/>
                    <a:gd name="textAreaRight" fmla="*/ 52920 w 75960"/>
                    <a:gd name="textAreaTop" fmla="*/ 38160 h 152640"/>
                    <a:gd name="textAreaBottom" fmla="*/ 114480 h 152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5400"/>
                        <a:pt x="21600" y="10800"/>
                      </a:cubicBezTo>
                      <a:lnTo>
                        <a:pt x="21600" y="10800"/>
                      </a:lnTo>
                      <a:cubicBezTo>
                        <a:pt x="21600" y="16200"/>
                        <a:pt x="10800" y="21600"/>
                        <a:pt x="0" y="2160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flipV="1">
                  <a:off x="2310120" y="317844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V="1">
                  <a:off x="2529000" y="317052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2500200" y="3048840"/>
                <a:ext cx="380880" cy="236880"/>
                <a:chOff x="2500200" y="3048840"/>
                <a:chExt cx="380880" cy="236880"/>
              </a:xfrm>
            </p:grpSpPr>
            <p:sp>
              <p:nvSpPr>
                <p:cNvPr id="162" name=""/>
                <p:cNvSpPr/>
                <p:nvPr/>
              </p:nvSpPr>
              <p:spPr>
                <a:xfrm flipV="1">
                  <a:off x="2500200" y="3133080"/>
                  <a:ext cx="380880" cy="1522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 flipH="1" rot="5400000">
                  <a:off x="2647800" y="3010320"/>
                  <a:ext cx="75960" cy="152640"/>
                </a:xfrm>
                <a:custGeom>
                  <a:avLst/>
                  <a:gdLst>
                    <a:gd name="textAreaLeft" fmla="*/ -360 w 75960"/>
                    <a:gd name="textAreaRight" fmla="*/ 52920 w 75960"/>
                    <a:gd name="textAreaTop" fmla="*/ 38160 h 152640"/>
                    <a:gd name="textAreaBottom" fmla="*/ 114480 h 152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5400"/>
                        <a:pt x="21600" y="10800"/>
                      </a:cubicBezTo>
                      <a:lnTo>
                        <a:pt x="21600" y="10800"/>
                      </a:lnTo>
                      <a:cubicBezTo>
                        <a:pt x="21600" y="16200"/>
                        <a:pt x="10800" y="21600"/>
                        <a:pt x="0" y="2160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flipV="1">
                  <a:off x="2533680" y="317844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flipV="1">
                  <a:off x="2752560" y="317052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2724120" y="3048840"/>
                <a:ext cx="380880" cy="236880"/>
                <a:chOff x="2724120" y="3048840"/>
                <a:chExt cx="380880" cy="236880"/>
              </a:xfrm>
            </p:grpSpPr>
            <p:sp>
              <p:nvSpPr>
                <p:cNvPr id="167" name=""/>
                <p:cNvSpPr/>
                <p:nvPr/>
              </p:nvSpPr>
              <p:spPr>
                <a:xfrm flipV="1">
                  <a:off x="2724120" y="3133080"/>
                  <a:ext cx="380880" cy="1522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flipH="1" rot="5400000">
                  <a:off x="2871720" y="3010320"/>
                  <a:ext cx="75960" cy="152640"/>
                </a:xfrm>
                <a:custGeom>
                  <a:avLst/>
                  <a:gdLst>
                    <a:gd name="textAreaLeft" fmla="*/ -360 w 75960"/>
                    <a:gd name="textAreaRight" fmla="*/ 52920 w 75960"/>
                    <a:gd name="textAreaTop" fmla="*/ 38160 h 152640"/>
                    <a:gd name="textAreaBottom" fmla="*/ 114480 h 152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5400"/>
                        <a:pt x="21600" y="10800"/>
                      </a:cubicBezTo>
                      <a:lnTo>
                        <a:pt x="21600" y="10800"/>
                      </a:lnTo>
                      <a:cubicBezTo>
                        <a:pt x="21600" y="16200"/>
                        <a:pt x="10800" y="21600"/>
                        <a:pt x="0" y="2160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flipV="1">
                  <a:off x="2757600" y="317844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 flipV="1">
                  <a:off x="2976480" y="317052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2948040" y="3048840"/>
                <a:ext cx="380880" cy="236880"/>
                <a:chOff x="2948040" y="3048840"/>
                <a:chExt cx="380880" cy="236880"/>
              </a:xfrm>
            </p:grpSpPr>
            <p:sp>
              <p:nvSpPr>
                <p:cNvPr id="172" name=""/>
                <p:cNvSpPr/>
                <p:nvPr/>
              </p:nvSpPr>
              <p:spPr>
                <a:xfrm flipV="1">
                  <a:off x="2948040" y="3133080"/>
                  <a:ext cx="380880" cy="1522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 flipH="1" rot="5400000">
                  <a:off x="3095640" y="3010320"/>
                  <a:ext cx="75960" cy="152640"/>
                </a:xfrm>
                <a:custGeom>
                  <a:avLst/>
                  <a:gdLst>
                    <a:gd name="textAreaLeft" fmla="*/ -360 w 75960"/>
                    <a:gd name="textAreaRight" fmla="*/ 52920 w 75960"/>
                    <a:gd name="textAreaTop" fmla="*/ 38160 h 152640"/>
                    <a:gd name="textAreaBottom" fmla="*/ 114480 h 152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5400"/>
                        <a:pt x="21600" y="10800"/>
                      </a:cubicBezTo>
                      <a:lnTo>
                        <a:pt x="21600" y="10800"/>
                      </a:lnTo>
                      <a:cubicBezTo>
                        <a:pt x="21600" y="16200"/>
                        <a:pt x="10800" y="21600"/>
                        <a:pt x="0" y="2160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flipV="1">
                  <a:off x="2981520" y="317844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flipV="1">
                  <a:off x="3200400" y="317052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3171960" y="3048840"/>
                <a:ext cx="380880" cy="236880"/>
                <a:chOff x="3171960" y="3048840"/>
                <a:chExt cx="380880" cy="236880"/>
              </a:xfrm>
            </p:grpSpPr>
            <p:sp>
              <p:nvSpPr>
                <p:cNvPr id="177" name=""/>
                <p:cNvSpPr/>
                <p:nvPr/>
              </p:nvSpPr>
              <p:spPr>
                <a:xfrm flipV="1">
                  <a:off x="3171960" y="3133080"/>
                  <a:ext cx="380880" cy="1522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flipH="1" rot="5400000">
                  <a:off x="3319560" y="3010320"/>
                  <a:ext cx="75960" cy="152640"/>
                </a:xfrm>
                <a:custGeom>
                  <a:avLst/>
                  <a:gdLst>
                    <a:gd name="textAreaLeft" fmla="*/ -360 w 75960"/>
                    <a:gd name="textAreaRight" fmla="*/ 52920 w 75960"/>
                    <a:gd name="textAreaTop" fmla="*/ 38160 h 152640"/>
                    <a:gd name="textAreaBottom" fmla="*/ 114480 h 152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5400"/>
                        <a:pt x="21600" y="10800"/>
                      </a:cubicBezTo>
                      <a:lnTo>
                        <a:pt x="21600" y="10800"/>
                      </a:lnTo>
                      <a:cubicBezTo>
                        <a:pt x="21600" y="16200"/>
                        <a:pt x="10800" y="21600"/>
                        <a:pt x="0" y="2160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flipV="1">
                  <a:off x="3205440" y="317844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V="1">
                  <a:off x="3424320" y="317052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3395520" y="3048840"/>
                <a:ext cx="380880" cy="236880"/>
                <a:chOff x="3395520" y="3048840"/>
                <a:chExt cx="380880" cy="236880"/>
              </a:xfrm>
            </p:grpSpPr>
            <p:sp>
              <p:nvSpPr>
                <p:cNvPr id="182" name=""/>
                <p:cNvSpPr/>
                <p:nvPr/>
              </p:nvSpPr>
              <p:spPr>
                <a:xfrm flipV="1">
                  <a:off x="3395520" y="3133080"/>
                  <a:ext cx="380880" cy="1522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 flipH="1" rot="5400000">
                  <a:off x="3543120" y="3010320"/>
                  <a:ext cx="75960" cy="152640"/>
                </a:xfrm>
                <a:custGeom>
                  <a:avLst/>
                  <a:gdLst>
                    <a:gd name="textAreaLeft" fmla="*/ -360 w 75960"/>
                    <a:gd name="textAreaRight" fmla="*/ 52920 w 75960"/>
                    <a:gd name="textAreaTop" fmla="*/ 38160 h 152640"/>
                    <a:gd name="textAreaBottom" fmla="*/ 114480 h 152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5400"/>
                        <a:pt x="21600" y="10800"/>
                      </a:cubicBezTo>
                      <a:lnTo>
                        <a:pt x="21600" y="10800"/>
                      </a:lnTo>
                      <a:cubicBezTo>
                        <a:pt x="21600" y="16200"/>
                        <a:pt x="10800" y="21600"/>
                        <a:pt x="0" y="2160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V="1">
                  <a:off x="3429000" y="317844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flipV="1">
                  <a:off x="3647880" y="317052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3619440" y="3048840"/>
                <a:ext cx="380880" cy="236880"/>
                <a:chOff x="3619440" y="3048840"/>
                <a:chExt cx="380880" cy="236880"/>
              </a:xfrm>
            </p:grpSpPr>
            <p:sp>
              <p:nvSpPr>
                <p:cNvPr id="187" name=""/>
                <p:cNvSpPr/>
                <p:nvPr/>
              </p:nvSpPr>
              <p:spPr>
                <a:xfrm flipV="1">
                  <a:off x="3619440" y="3133080"/>
                  <a:ext cx="380880" cy="1522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flipH="1" rot="5400000">
                  <a:off x="3767040" y="3010320"/>
                  <a:ext cx="75960" cy="152640"/>
                </a:xfrm>
                <a:custGeom>
                  <a:avLst/>
                  <a:gdLst>
                    <a:gd name="textAreaLeft" fmla="*/ -360 w 75960"/>
                    <a:gd name="textAreaRight" fmla="*/ 52920 w 75960"/>
                    <a:gd name="textAreaTop" fmla="*/ 38160 h 152640"/>
                    <a:gd name="textAreaBottom" fmla="*/ 114480 h 152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5400"/>
                        <a:pt x="21600" y="10800"/>
                      </a:cubicBezTo>
                      <a:lnTo>
                        <a:pt x="21600" y="10800"/>
                      </a:lnTo>
                      <a:cubicBezTo>
                        <a:pt x="21600" y="16200"/>
                        <a:pt x="10800" y="21600"/>
                        <a:pt x="0" y="2160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flipV="1">
                  <a:off x="3652920" y="317844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 flipV="1">
                  <a:off x="3871800" y="317052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3843360" y="3048840"/>
                <a:ext cx="380880" cy="236880"/>
                <a:chOff x="3843360" y="3048840"/>
                <a:chExt cx="380880" cy="236880"/>
              </a:xfrm>
            </p:grpSpPr>
            <p:sp>
              <p:nvSpPr>
                <p:cNvPr id="192" name=""/>
                <p:cNvSpPr/>
                <p:nvPr/>
              </p:nvSpPr>
              <p:spPr>
                <a:xfrm flipV="1">
                  <a:off x="3843360" y="3133080"/>
                  <a:ext cx="380880" cy="1522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 flipH="1" rot="5400000">
                  <a:off x="3990960" y="3010320"/>
                  <a:ext cx="75960" cy="152640"/>
                </a:xfrm>
                <a:custGeom>
                  <a:avLst/>
                  <a:gdLst>
                    <a:gd name="textAreaLeft" fmla="*/ -360 w 75960"/>
                    <a:gd name="textAreaRight" fmla="*/ 52920 w 75960"/>
                    <a:gd name="textAreaTop" fmla="*/ 38160 h 152640"/>
                    <a:gd name="textAreaBottom" fmla="*/ 114480 h 152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5400"/>
                        <a:pt x="21600" y="10800"/>
                      </a:cubicBezTo>
                      <a:lnTo>
                        <a:pt x="21600" y="10800"/>
                      </a:lnTo>
                      <a:cubicBezTo>
                        <a:pt x="21600" y="16200"/>
                        <a:pt x="10800" y="21600"/>
                        <a:pt x="0" y="2160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 flipV="1">
                  <a:off x="3876840" y="317844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 flipV="1">
                  <a:off x="4095720" y="317052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4067280" y="3048840"/>
                <a:ext cx="380880" cy="236880"/>
                <a:chOff x="4067280" y="3048840"/>
                <a:chExt cx="380880" cy="236880"/>
              </a:xfrm>
            </p:grpSpPr>
            <p:sp>
              <p:nvSpPr>
                <p:cNvPr id="197" name=""/>
                <p:cNvSpPr/>
                <p:nvPr/>
              </p:nvSpPr>
              <p:spPr>
                <a:xfrm flipV="1">
                  <a:off x="4067280" y="3133080"/>
                  <a:ext cx="380880" cy="1522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flipH="1" rot="5400000">
                  <a:off x="4214880" y="3010320"/>
                  <a:ext cx="75960" cy="152640"/>
                </a:xfrm>
                <a:custGeom>
                  <a:avLst/>
                  <a:gdLst>
                    <a:gd name="textAreaLeft" fmla="*/ -360 w 75960"/>
                    <a:gd name="textAreaRight" fmla="*/ 52920 w 75960"/>
                    <a:gd name="textAreaTop" fmla="*/ 38160 h 152640"/>
                    <a:gd name="textAreaBottom" fmla="*/ 114480 h 152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5400"/>
                        <a:pt x="21600" y="10800"/>
                      </a:cubicBezTo>
                      <a:lnTo>
                        <a:pt x="21600" y="10800"/>
                      </a:lnTo>
                      <a:cubicBezTo>
                        <a:pt x="21600" y="16200"/>
                        <a:pt x="10800" y="21600"/>
                        <a:pt x="0" y="2160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flipV="1">
                  <a:off x="4100760" y="317844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flipV="1">
                  <a:off x="4319640" y="317052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4290840" y="3048840"/>
                <a:ext cx="380880" cy="236880"/>
                <a:chOff x="4290840" y="3048840"/>
                <a:chExt cx="380880" cy="236880"/>
              </a:xfrm>
            </p:grpSpPr>
            <p:sp>
              <p:nvSpPr>
                <p:cNvPr id="202" name=""/>
                <p:cNvSpPr/>
                <p:nvPr/>
              </p:nvSpPr>
              <p:spPr>
                <a:xfrm flipV="1">
                  <a:off x="4290840" y="3133080"/>
                  <a:ext cx="380880" cy="1522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flipH="1" rot="5400000">
                  <a:off x="4438440" y="3010320"/>
                  <a:ext cx="75960" cy="152640"/>
                </a:xfrm>
                <a:custGeom>
                  <a:avLst/>
                  <a:gdLst>
                    <a:gd name="textAreaLeft" fmla="*/ -360 w 75960"/>
                    <a:gd name="textAreaRight" fmla="*/ 52920 w 75960"/>
                    <a:gd name="textAreaTop" fmla="*/ 38160 h 152640"/>
                    <a:gd name="textAreaBottom" fmla="*/ 114480 h 152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5400"/>
                        <a:pt x="21600" y="10800"/>
                      </a:cubicBezTo>
                      <a:lnTo>
                        <a:pt x="21600" y="10800"/>
                      </a:lnTo>
                      <a:cubicBezTo>
                        <a:pt x="21600" y="16200"/>
                        <a:pt x="10800" y="21600"/>
                        <a:pt x="0" y="2160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flipV="1">
                  <a:off x="4324320" y="317844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flipV="1">
                  <a:off x="4543200" y="317052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4514760" y="3048840"/>
                <a:ext cx="380880" cy="236880"/>
                <a:chOff x="4514760" y="3048840"/>
                <a:chExt cx="380880" cy="236880"/>
              </a:xfrm>
            </p:grpSpPr>
            <p:sp>
              <p:nvSpPr>
                <p:cNvPr id="207" name=""/>
                <p:cNvSpPr/>
                <p:nvPr/>
              </p:nvSpPr>
              <p:spPr>
                <a:xfrm flipV="1">
                  <a:off x="4514760" y="3133080"/>
                  <a:ext cx="380880" cy="1522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5400000">
                  <a:off x="4662360" y="3010320"/>
                  <a:ext cx="75960" cy="152640"/>
                </a:xfrm>
                <a:custGeom>
                  <a:avLst/>
                  <a:gdLst>
                    <a:gd name="textAreaLeft" fmla="*/ -360 w 75960"/>
                    <a:gd name="textAreaRight" fmla="*/ 52920 w 75960"/>
                    <a:gd name="textAreaTop" fmla="*/ 38160 h 152640"/>
                    <a:gd name="textAreaBottom" fmla="*/ 114480 h 152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5400"/>
                        <a:pt x="21600" y="10800"/>
                      </a:cubicBezTo>
                      <a:lnTo>
                        <a:pt x="21600" y="10800"/>
                      </a:lnTo>
                      <a:cubicBezTo>
                        <a:pt x="21600" y="16200"/>
                        <a:pt x="10800" y="21600"/>
                        <a:pt x="0" y="2160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V="1">
                  <a:off x="4548240" y="317844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V="1">
                  <a:off x="4767120" y="317052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4738680" y="3048840"/>
                <a:ext cx="380880" cy="236880"/>
                <a:chOff x="4738680" y="3048840"/>
                <a:chExt cx="380880" cy="236880"/>
              </a:xfrm>
            </p:grpSpPr>
            <p:sp>
              <p:nvSpPr>
                <p:cNvPr id="212" name=""/>
                <p:cNvSpPr/>
                <p:nvPr/>
              </p:nvSpPr>
              <p:spPr>
                <a:xfrm flipV="1">
                  <a:off x="4738680" y="3133080"/>
                  <a:ext cx="380880" cy="1522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flipH="1" rot="5400000">
                  <a:off x="4886280" y="3010320"/>
                  <a:ext cx="75960" cy="152640"/>
                </a:xfrm>
                <a:custGeom>
                  <a:avLst/>
                  <a:gdLst>
                    <a:gd name="textAreaLeft" fmla="*/ -360 w 75960"/>
                    <a:gd name="textAreaRight" fmla="*/ 52920 w 75960"/>
                    <a:gd name="textAreaTop" fmla="*/ 38160 h 152640"/>
                    <a:gd name="textAreaBottom" fmla="*/ 114480 h 152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5400"/>
                        <a:pt x="21600" y="10800"/>
                      </a:cubicBezTo>
                      <a:lnTo>
                        <a:pt x="21600" y="10800"/>
                      </a:lnTo>
                      <a:cubicBezTo>
                        <a:pt x="21600" y="16200"/>
                        <a:pt x="10800" y="21600"/>
                        <a:pt x="0" y="2160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V="1">
                  <a:off x="4772160" y="317844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flipV="1">
                  <a:off x="4991040" y="317052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6" name=""/>
            <p:cNvGrpSpPr/>
            <p:nvPr/>
          </p:nvGrpSpPr>
          <p:grpSpPr>
            <a:xfrm>
              <a:off x="5195880" y="1815120"/>
              <a:ext cx="699120" cy="952560"/>
              <a:chOff x="5195880" y="1815120"/>
              <a:chExt cx="699120" cy="952560"/>
            </a:xfrm>
          </p:grpSpPr>
          <p:grpSp>
            <p:nvGrpSpPr>
              <p:cNvPr id="217" name=""/>
              <p:cNvGrpSpPr/>
              <p:nvPr/>
            </p:nvGrpSpPr>
            <p:grpSpPr>
              <a:xfrm>
                <a:off x="5195880" y="1815120"/>
                <a:ext cx="409680" cy="323640"/>
                <a:chOff x="5195880" y="1815120"/>
                <a:chExt cx="409680" cy="323640"/>
              </a:xfrm>
            </p:grpSpPr>
            <p:sp>
              <p:nvSpPr>
                <p:cNvPr id="218" name=""/>
                <p:cNvSpPr/>
                <p:nvPr/>
              </p:nvSpPr>
              <p:spPr>
                <a:xfrm rot="1458000">
                  <a:off x="5210280" y="1886400"/>
                  <a:ext cx="380880" cy="1522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 flipV="1" rot="17658600">
                  <a:off x="5307480" y="1996560"/>
                  <a:ext cx="75960" cy="152640"/>
                </a:xfrm>
                <a:custGeom>
                  <a:avLst/>
                  <a:gdLst>
                    <a:gd name="textAreaLeft" fmla="*/ -360 w 75960"/>
                    <a:gd name="textAreaRight" fmla="*/ 52920 w 75960"/>
                    <a:gd name="textAreaTop" fmla="*/ 38160 h 152640"/>
                    <a:gd name="textAreaBottom" fmla="*/ 114480 h 152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5400"/>
                        <a:pt x="21600" y="10800"/>
                      </a:cubicBezTo>
                      <a:lnTo>
                        <a:pt x="21600" y="10800"/>
                      </a:lnTo>
                      <a:cubicBezTo>
                        <a:pt x="21600" y="16200"/>
                        <a:pt x="10800" y="21600"/>
                        <a:pt x="0" y="2160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rot="1458000">
                  <a:off x="5256720" y="186984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58000">
                  <a:off x="5452920" y="196704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5409360" y="1928880"/>
                <a:ext cx="369000" cy="384120"/>
                <a:chOff x="5409360" y="1928880"/>
                <a:chExt cx="369000" cy="384120"/>
              </a:xfrm>
            </p:grpSpPr>
            <p:sp>
              <p:nvSpPr>
                <p:cNvPr id="223" name=""/>
                <p:cNvSpPr/>
                <p:nvPr/>
              </p:nvSpPr>
              <p:spPr>
                <a:xfrm rot="2862000">
                  <a:off x="5403240" y="2044800"/>
                  <a:ext cx="380880" cy="1522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 flipH="1" flipV="1" rot="19062000">
                  <a:off x="5461560" y="2123280"/>
                  <a:ext cx="75960" cy="152640"/>
                </a:xfrm>
                <a:custGeom>
                  <a:avLst/>
                  <a:gdLst>
                    <a:gd name="textAreaLeft" fmla="*/ -360 w 75960"/>
                    <a:gd name="textAreaRight" fmla="*/ 52920 w 75960"/>
                    <a:gd name="textAreaTop" fmla="*/ 38160 h 152640"/>
                    <a:gd name="textAreaBottom" fmla="*/ 114480 h 152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5400"/>
                        <a:pt x="21600" y="10800"/>
                      </a:cubicBezTo>
                      <a:lnTo>
                        <a:pt x="21600" y="10800"/>
                      </a:lnTo>
                      <a:cubicBezTo>
                        <a:pt x="21600" y="16200"/>
                        <a:pt x="10800" y="21600"/>
                        <a:pt x="0" y="2160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 rot="2862000">
                  <a:off x="5480640" y="199044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rot="2862000">
                  <a:off x="5621760" y="215784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5551200" y="2123280"/>
                <a:ext cx="330120" cy="409320"/>
                <a:chOff x="5551200" y="2123280"/>
                <a:chExt cx="330120" cy="409320"/>
              </a:xfrm>
            </p:grpSpPr>
            <p:sp>
              <p:nvSpPr>
                <p:cNvPr id="228" name=""/>
                <p:cNvSpPr/>
                <p:nvPr/>
              </p:nvSpPr>
              <p:spPr>
                <a:xfrm rot="3882000">
                  <a:off x="5540400" y="2251800"/>
                  <a:ext cx="380880" cy="1522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flipH="1" flipV="1" rot="20082000">
                  <a:off x="5580000" y="2299320"/>
                  <a:ext cx="75960" cy="152640"/>
                </a:xfrm>
                <a:custGeom>
                  <a:avLst/>
                  <a:gdLst>
                    <a:gd name="textAreaLeft" fmla="*/ -360 w 75960"/>
                    <a:gd name="textAreaRight" fmla="*/ 52920 w 75960"/>
                    <a:gd name="textAreaTop" fmla="*/ 38160 h 152640"/>
                    <a:gd name="textAreaBottom" fmla="*/ 114480 h 152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5400"/>
                        <a:pt x="21600" y="10800"/>
                      </a:cubicBezTo>
                      <a:lnTo>
                        <a:pt x="21600" y="10800"/>
                      </a:lnTo>
                      <a:cubicBezTo>
                        <a:pt x="21600" y="16200"/>
                        <a:pt x="10800" y="21600"/>
                        <a:pt x="0" y="2160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rot="3882000">
                  <a:off x="5648040" y="217944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rot="3882000">
                  <a:off x="5734440" y="238068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" name=""/>
              <p:cNvGrpSpPr/>
              <p:nvPr/>
            </p:nvGrpSpPr>
            <p:grpSpPr>
              <a:xfrm>
                <a:off x="5631120" y="2373480"/>
                <a:ext cx="263880" cy="394200"/>
                <a:chOff x="5631120" y="2373480"/>
                <a:chExt cx="263880" cy="394200"/>
              </a:xfrm>
            </p:grpSpPr>
            <p:sp>
              <p:nvSpPr>
                <p:cNvPr id="233" name=""/>
                <p:cNvSpPr/>
                <p:nvPr/>
              </p:nvSpPr>
              <p:spPr>
                <a:xfrm rot="5061600">
                  <a:off x="5609880" y="2494080"/>
                  <a:ext cx="380880" cy="152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 flipH="1" flipV="1" rot="21262200">
                  <a:off x="5637960" y="2501280"/>
                  <a:ext cx="76320" cy="152640"/>
                </a:xfrm>
                <a:custGeom>
                  <a:avLst/>
                  <a:gdLst>
                    <a:gd name="textAreaLeft" fmla="*/ 360 w 76320"/>
                    <a:gd name="textAreaRight" fmla="*/ 54000 w 76320"/>
                    <a:gd name="textAreaTop" fmla="*/ 38160 h 152640"/>
                    <a:gd name="textAreaBottom" fmla="*/ 114480 h 152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5400"/>
                        <a:pt x="21600" y="10800"/>
                      </a:cubicBezTo>
                      <a:lnTo>
                        <a:pt x="21600" y="10800"/>
                      </a:lnTo>
                      <a:cubicBezTo>
                        <a:pt x="21600" y="16200"/>
                        <a:pt x="10800" y="21600"/>
                        <a:pt x="0" y="2160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 rot="5061600">
                  <a:off x="5756760" y="24130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rot="5061600">
                  <a:off x="5770440" y="26323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7" name=""/>
            <p:cNvGrpSpPr/>
            <p:nvPr/>
          </p:nvGrpSpPr>
          <p:grpSpPr>
            <a:xfrm>
              <a:off x="4950720" y="2603520"/>
              <a:ext cx="952560" cy="699120"/>
              <a:chOff x="4950720" y="2603520"/>
              <a:chExt cx="952560" cy="69912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5579640" y="2603520"/>
                <a:ext cx="323640" cy="409680"/>
                <a:chOff x="5579640" y="2603520"/>
                <a:chExt cx="323640" cy="409680"/>
              </a:xfrm>
            </p:grpSpPr>
            <p:sp>
              <p:nvSpPr>
                <p:cNvPr id="239" name=""/>
                <p:cNvSpPr/>
                <p:nvPr/>
              </p:nvSpPr>
              <p:spPr>
                <a:xfrm rot="6858000">
                  <a:off x="5564880" y="2732040"/>
                  <a:ext cx="380880" cy="1522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flipH="1" flipV="1" rot="1458000">
                  <a:off x="5607360" y="2676600"/>
                  <a:ext cx="75960" cy="152640"/>
                </a:xfrm>
                <a:custGeom>
                  <a:avLst/>
                  <a:gdLst>
                    <a:gd name="textAreaLeft" fmla="*/ -360 w 75960"/>
                    <a:gd name="textAreaRight" fmla="*/ 52920 w 75960"/>
                    <a:gd name="textAreaTop" fmla="*/ 38160 h 152640"/>
                    <a:gd name="textAreaBottom" fmla="*/ 114480 h 152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5400"/>
                        <a:pt x="21600" y="10800"/>
                      </a:cubicBezTo>
                      <a:lnTo>
                        <a:pt x="21600" y="10800"/>
                      </a:lnTo>
                      <a:cubicBezTo>
                        <a:pt x="21600" y="16200"/>
                        <a:pt x="10800" y="21600"/>
                        <a:pt x="0" y="2160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6858000">
                  <a:off x="5772600" y="266436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 rot="6858000">
                  <a:off x="5675040" y="286092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5405400" y="2817000"/>
                <a:ext cx="384120" cy="369000"/>
                <a:chOff x="5405400" y="2817000"/>
                <a:chExt cx="384120" cy="369000"/>
              </a:xfrm>
            </p:grpSpPr>
            <p:sp>
              <p:nvSpPr>
                <p:cNvPr id="244" name=""/>
                <p:cNvSpPr/>
                <p:nvPr/>
              </p:nvSpPr>
              <p:spPr>
                <a:xfrm rot="8262600">
                  <a:off x="5406840" y="2925360"/>
                  <a:ext cx="380880" cy="1522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flipV="1" rot="2862000">
                  <a:off x="5480280" y="2830680"/>
                  <a:ext cx="75960" cy="152640"/>
                </a:xfrm>
                <a:custGeom>
                  <a:avLst/>
                  <a:gdLst>
                    <a:gd name="textAreaLeft" fmla="*/ -360 w 75960"/>
                    <a:gd name="textAreaRight" fmla="*/ 52920 w 75960"/>
                    <a:gd name="textAreaTop" fmla="*/ 38160 h 152640"/>
                    <a:gd name="textAreaBottom" fmla="*/ 114480 h 152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5400"/>
                        <a:pt x="21600" y="10800"/>
                      </a:cubicBezTo>
                      <a:lnTo>
                        <a:pt x="21600" y="10800"/>
                      </a:lnTo>
                      <a:cubicBezTo>
                        <a:pt x="21600" y="16200"/>
                        <a:pt x="10800" y="21600"/>
                        <a:pt x="0" y="2160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rot="8262600">
                  <a:off x="5651640" y="288864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rot="8262600">
                  <a:off x="5484240" y="302976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5185800" y="2958840"/>
                <a:ext cx="409320" cy="330120"/>
                <a:chOff x="5185800" y="2958840"/>
                <a:chExt cx="409320" cy="330120"/>
              </a:xfrm>
            </p:grpSpPr>
            <p:sp>
              <p:nvSpPr>
                <p:cNvPr id="249" name=""/>
                <p:cNvSpPr/>
                <p:nvPr/>
              </p:nvSpPr>
              <p:spPr>
                <a:xfrm rot="9282600">
                  <a:off x="5199840" y="3062520"/>
                  <a:ext cx="380880" cy="1522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flipH="1" flipV="1" rot="3882000">
                  <a:off x="5303520" y="2949120"/>
                  <a:ext cx="75960" cy="152640"/>
                </a:xfrm>
                <a:custGeom>
                  <a:avLst/>
                  <a:gdLst>
                    <a:gd name="textAreaLeft" fmla="*/ -360 w 75960"/>
                    <a:gd name="textAreaRight" fmla="*/ 52920 w 75960"/>
                    <a:gd name="textAreaTop" fmla="*/ 38160 h 152640"/>
                    <a:gd name="textAreaBottom" fmla="*/ 114480 h 152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5400"/>
                        <a:pt x="21600" y="10800"/>
                      </a:cubicBezTo>
                      <a:lnTo>
                        <a:pt x="21600" y="10800"/>
                      </a:lnTo>
                      <a:cubicBezTo>
                        <a:pt x="21600" y="16200"/>
                        <a:pt x="10800" y="21600"/>
                        <a:pt x="0" y="2160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rot="9282600">
                  <a:off x="5463000" y="305604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 rot="9282600">
                  <a:off x="5261400" y="314244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" name=""/>
              <p:cNvGrpSpPr/>
              <p:nvPr/>
            </p:nvGrpSpPr>
            <p:grpSpPr>
              <a:xfrm>
                <a:off x="4950720" y="3038760"/>
                <a:ext cx="394200" cy="263880"/>
                <a:chOff x="4950720" y="3038760"/>
                <a:chExt cx="394200" cy="263880"/>
              </a:xfrm>
            </p:grpSpPr>
            <p:sp>
              <p:nvSpPr>
                <p:cNvPr id="254" name=""/>
                <p:cNvSpPr/>
                <p:nvPr/>
              </p:nvSpPr>
              <p:spPr>
                <a:xfrm rot="10461600">
                  <a:off x="4957200" y="3131640"/>
                  <a:ext cx="380880" cy="152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 flipV="1" rot="5061600">
                  <a:off x="5101560" y="3007440"/>
                  <a:ext cx="76320" cy="152640"/>
                </a:xfrm>
                <a:custGeom>
                  <a:avLst/>
                  <a:gdLst>
                    <a:gd name="textAreaLeft" fmla="*/ 360 w 76320"/>
                    <a:gd name="textAreaRight" fmla="*/ 54000 w 76320"/>
                    <a:gd name="textAreaTop" fmla="*/ 38160 h 152640"/>
                    <a:gd name="textAreaBottom" fmla="*/ 114480 h 152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5400"/>
                        <a:pt x="21600" y="10800"/>
                      </a:cubicBezTo>
                      <a:lnTo>
                        <a:pt x="21600" y="10800"/>
                      </a:lnTo>
                      <a:cubicBezTo>
                        <a:pt x="21600" y="16200"/>
                        <a:pt x="10800" y="21600"/>
                        <a:pt x="0" y="2160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rot="10461600">
                  <a:off x="5229000" y="31644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rot="10461600">
                  <a:off x="5009760" y="317808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8" name=""/>
            <p:cNvGrpSpPr/>
            <p:nvPr/>
          </p:nvGrpSpPr>
          <p:grpSpPr>
            <a:xfrm>
              <a:off x="1227600" y="1810440"/>
              <a:ext cx="952560" cy="699120"/>
              <a:chOff x="1227600" y="1810440"/>
              <a:chExt cx="952560" cy="699120"/>
            </a:xfrm>
          </p:grpSpPr>
          <p:grpSp>
            <p:nvGrpSpPr>
              <p:cNvPr id="259" name=""/>
              <p:cNvGrpSpPr/>
              <p:nvPr/>
            </p:nvGrpSpPr>
            <p:grpSpPr>
              <a:xfrm>
                <a:off x="1227600" y="2099880"/>
                <a:ext cx="323640" cy="409680"/>
                <a:chOff x="1227600" y="2099880"/>
                <a:chExt cx="323640" cy="409680"/>
              </a:xfrm>
            </p:grpSpPr>
            <p:sp>
              <p:nvSpPr>
                <p:cNvPr id="260" name=""/>
                <p:cNvSpPr/>
                <p:nvPr/>
              </p:nvSpPr>
              <p:spPr>
                <a:xfrm rot="17658600">
                  <a:off x="1184760" y="2228400"/>
                  <a:ext cx="380880" cy="1522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flipH="1" flipV="1" rot="12258600">
                  <a:off x="1446480" y="2282760"/>
                  <a:ext cx="75960" cy="152640"/>
                </a:xfrm>
                <a:custGeom>
                  <a:avLst/>
                  <a:gdLst>
                    <a:gd name="textAreaLeft" fmla="*/ -360 w 75960"/>
                    <a:gd name="textAreaRight" fmla="*/ 52920 w 75960"/>
                    <a:gd name="textAreaTop" fmla="*/ 38160 h 152640"/>
                    <a:gd name="textAreaBottom" fmla="*/ 114480 h 152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5400"/>
                        <a:pt x="21600" y="10800"/>
                      </a:cubicBezTo>
                      <a:lnTo>
                        <a:pt x="21600" y="10800"/>
                      </a:lnTo>
                      <a:cubicBezTo>
                        <a:pt x="21600" y="16200"/>
                        <a:pt x="10800" y="21600"/>
                        <a:pt x="0" y="2160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rot="17658600">
                  <a:off x="1281960" y="237276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rot="17658600">
                  <a:off x="1379160" y="217620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1341360" y="1927080"/>
                <a:ext cx="384120" cy="369000"/>
                <a:chOff x="1341360" y="1927080"/>
                <a:chExt cx="384120" cy="369000"/>
              </a:xfrm>
            </p:grpSpPr>
            <p:sp>
              <p:nvSpPr>
                <p:cNvPr id="265" name=""/>
                <p:cNvSpPr/>
                <p:nvPr/>
              </p:nvSpPr>
              <p:spPr>
                <a:xfrm rot="19062000">
                  <a:off x="1342800" y="2035080"/>
                  <a:ext cx="380880" cy="1522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 flipH="1" flipV="1" rot="13662000">
                  <a:off x="1574280" y="2128680"/>
                  <a:ext cx="75960" cy="152640"/>
                </a:xfrm>
                <a:custGeom>
                  <a:avLst/>
                  <a:gdLst>
                    <a:gd name="textAreaLeft" fmla="*/ -360 w 75960"/>
                    <a:gd name="textAreaRight" fmla="*/ 52920 w 75960"/>
                    <a:gd name="textAreaTop" fmla="*/ 38160 h 152640"/>
                    <a:gd name="textAreaBottom" fmla="*/ 114480 h 152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5400"/>
                        <a:pt x="21600" y="10800"/>
                      </a:cubicBezTo>
                      <a:lnTo>
                        <a:pt x="21600" y="10800"/>
                      </a:lnTo>
                      <a:cubicBezTo>
                        <a:pt x="21600" y="16200"/>
                        <a:pt x="10800" y="21600"/>
                        <a:pt x="0" y="2160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 rot="19062000">
                  <a:off x="1402920" y="214848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 rot="19062000">
                  <a:off x="1569960" y="200736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1535760" y="1824120"/>
                <a:ext cx="409320" cy="330120"/>
                <a:chOff x="1535760" y="1824120"/>
                <a:chExt cx="409320" cy="330120"/>
              </a:xfrm>
            </p:grpSpPr>
            <p:sp>
              <p:nvSpPr>
                <p:cNvPr id="270" name=""/>
                <p:cNvSpPr/>
                <p:nvPr/>
              </p:nvSpPr>
              <p:spPr>
                <a:xfrm rot="20082000">
                  <a:off x="1549800" y="1897920"/>
                  <a:ext cx="380880" cy="1522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 rot="14682000">
                  <a:off x="1750320" y="2010960"/>
                  <a:ext cx="75960" cy="152640"/>
                </a:xfrm>
                <a:custGeom>
                  <a:avLst/>
                  <a:gdLst>
                    <a:gd name="textAreaLeft" fmla="*/ -360 w 75960"/>
                    <a:gd name="textAreaRight" fmla="*/ 52920 w 75960"/>
                    <a:gd name="textAreaTop" fmla="*/ 38160 h 152640"/>
                    <a:gd name="textAreaBottom" fmla="*/ 114480 h 152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5400"/>
                        <a:pt x="21600" y="10800"/>
                      </a:cubicBezTo>
                      <a:lnTo>
                        <a:pt x="21600" y="10800"/>
                      </a:lnTo>
                      <a:cubicBezTo>
                        <a:pt x="21600" y="16200"/>
                        <a:pt x="10800" y="21600"/>
                        <a:pt x="0" y="2160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 rot="20082000">
                  <a:off x="1591560" y="198108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rot="20082000">
                  <a:off x="1792800" y="189468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" name=""/>
              <p:cNvGrpSpPr/>
              <p:nvPr/>
            </p:nvGrpSpPr>
            <p:grpSpPr>
              <a:xfrm>
                <a:off x="1785960" y="1810440"/>
                <a:ext cx="394200" cy="263880"/>
                <a:chOff x="1785960" y="1810440"/>
                <a:chExt cx="394200" cy="263880"/>
              </a:xfrm>
            </p:grpSpPr>
            <p:sp>
              <p:nvSpPr>
                <p:cNvPr id="275" name=""/>
                <p:cNvSpPr/>
                <p:nvPr/>
              </p:nvSpPr>
              <p:spPr>
                <a:xfrm rot="21262200">
                  <a:off x="1792440" y="1828440"/>
                  <a:ext cx="380880" cy="152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 flipV="1" rot="15862200">
                  <a:off x="1951920" y="1951920"/>
                  <a:ext cx="76320" cy="152640"/>
                </a:xfrm>
                <a:custGeom>
                  <a:avLst/>
                  <a:gdLst>
                    <a:gd name="textAreaLeft" fmla="*/ 360 w 76320"/>
                    <a:gd name="textAreaRight" fmla="*/ 54000 w 76320"/>
                    <a:gd name="textAreaTop" fmla="*/ 38160 h 152640"/>
                    <a:gd name="textAreaBottom" fmla="*/ 114480 h 152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5400"/>
                        <a:pt x="21600" y="10800"/>
                      </a:cubicBezTo>
                      <a:lnTo>
                        <a:pt x="21600" y="10800"/>
                      </a:lnTo>
                      <a:cubicBezTo>
                        <a:pt x="21600" y="16200"/>
                        <a:pt x="10800" y="21600"/>
                        <a:pt x="0" y="2160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rot="21262200">
                  <a:off x="1825560" y="18723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rot="21262200">
                  <a:off x="2044440" y="185868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9" name=""/>
            <p:cNvGrpSpPr/>
            <p:nvPr/>
          </p:nvGrpSpPr>
          <p:grpSpPr>
            <a:xfrm>
              <a:off x="1234080" y="2339280"/>
              <a:ext cx="699120" cy="952560"/>
              <a:chOff x="1234080" y="2339280"/>
              <a:chExt cx="699120" cy="952560"/>
            </a:xfrm>
          </p:grpSpPr>
          <p:grpSp>
            <p:nvGrpSpPr>
              <p:cNvPr id="280" name=""/>
              <p:cNvGrpSpPr/>
              <p:nvPr/>
            </p:nvGrpSpPr>
            <p:grpSpPr>
              <a:xfrm>
                <a:off x="1523520" y="2968200"/>
                <a:ext cx="409680" cy="323640"/>
                <a:chOff x="1523520" y="2968200"/>
                <a:chExt cx="409680" cy="323640"/>
              </a:xfrm>
            </p:grpSpPr>
            <p:sp>
              <p:nvSpPr>
                <p:cNvPr id="281" name=""/>
                <p:cNvSpPr/>
                <p:nvPr/>
              </p:nvSpPr>
              <p:spPr>
                <a:xfrm rot="12258000">
                  <a:off x="1537560" y="3067920"/>
                  <a:ext cx="380880" cy="1522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H="1" flipV="1" rot="6858000">
                  <a:off x="1744560" y="2957400"/>
                  <a:ext cx="75960" cy="152640"/>
                </a:xfrm>
                <a:custGeom>
                  <a:avLst/>
                  <a:gdLst>
                    <a:gd name="textAreaLeft" fmla="*/ -360 w 75960"/>
                    <a:gd name="textAreaRight" fmla="*/ 52920 w 75960"/>
                    <a:gd name="textAreaTop" fmla="*/ 38160 h 152640"/>
                    <a:gd name="textAreaBottom" fmla="*/ 114480 h 152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5400"/>
                        <a:pt x="21600" y="10800"/>
                      </a:cubicBezTo>
                      <a:lnTo>
                        <a:pt x="21600" y="10800"/>
                      </a:lnTo>
                      <a:cubicBezTo>
                        <a:pt x="21600" y="16200"/>
                        <a:pt x="10800" y="21600"/>
                        <a:pt x="0" y="2160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rot="12258000">
                  <a:off x="1796040" y="316116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rot="12258000">
                  <a:off x="1599480" y="306396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1350720" y="2793960"/>
                <a:ext cx="369000" cy="384120"/>
                <a:chOff x="1350720" y="2793960"/>
                <a:chExt cx="369000" cy="384120"/>
              </a:xfrm>
            </p:grpSpPr>
            <p:sp>
              <p:nvSpPr>
                <p:cNvPr id="286" name=""/>
                <p:cNvSpPr/>
                <p:nvPr/>
              </p:nvSpPr>
              <p:spPr>
                <a:xfrm rot="13662000">
                  <a:off x="1344600" y="2909520"/>
                  <a:ext cx="380880" cy="1522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flipH="1" flipV="1" rot="8262000">
                  <a:off x="1590480" y="2830680"/>
                  <a:ext cx="75960" cy="152640"/>
                </a:xfrm>
                <a:custGeom>
                  <a:avLst/>
                  <a:gdLst>
                    <a:gd name="textAreaLeft" fmla="*/ -360 w 75960"/>
                    <a:gd name="textAreaRight" fmla="*/ 52920 w 75960"/>
                    <a:gd name="textAreaTop" fmla="*/ 38160 h 152640"/>
                    <a:gd name="textAreaBottom" fmla="*/ 114480 h 152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5400"/>
                        <a:pt x="21600" y="10800"/>
                      </a:cubicBezTo>
                      <a:lnTo>
                        <a:pt x="21600" y="10800"/>
                      </a:lnTo>
                      <a:cubicBezTo>
                        <a:pt x="21600" y="16200"/>
                        <a:pt x="10800" y="21600"/>
                        <a:pt x="0" y="2160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rot="13662000">
                  <a:off x="1572120" y="304056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rot="13662000">
                  <a:off x="1430640" y="287316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1247760" y="2574360"/>
                <a:ext cx="330120" cy="409320"/>
                <a:chOff x="1247760" y="2574360"/>
                <a:chExt cx="330120" cy="409320"/>
              </a:xfrm>
            </p:grpSpPr>
            <p:sp>
              <p:nvSpPr>
                <p:cNvPr id="291" name=""/>
                <p:cNvSpPr/>
                <p:nvPr/>
              </p:nvSpPr>
              <p:spPr>
                <a:xfrm rot="14682000">
                  <a:off x="1207440" y="2702520"/>
                  <a:ext cx="380880" cy="1522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 flipV="1" rot="9282000">
                  <a:off x="1472760" y="2653920"/>
                  <a:ext cx="75960" cy="152640"/>
                </a:xfrm>
                <a:custGeom>
                  <a:avLst/>
                  <a:gdLst>
                    <a:gd name="textAreaLeft" fmla="*/ -360 w 75960"/>
                    <a:gd name="textAreaRight" fmla="*/ 52920 w 75960"/>
                    <a:gd name="textAreaTop" fmla="*/ 38160 h 152640"/>
                    <a:gd name="textAreaBottom" fmla="*/ 114480 h 152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5400"/>
                        <a:pt x="21600" y="10800"/>
                      </a:cubicBezTo>
                      <a:lnTo>
                        <a:pt x="21600" y="10800"/>
                      </a:lnTo>
                      <a:cubicBezTo>
                        <a:pt x="21600" y="16200"/>
                        <a:pt x="10800" y="21600"/>
                        <a:pt x="0" y="2160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 rot="14682000">
                  <a:off x="1404720" y="285156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 rot="14682000">
                  <a:off x="1317960" y="265032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1234080" y="2339280"/>
                <a:ext cx="263880" cy="394200"/>
                <a:chOff x="1234080" y="2339280"/>
                <a:chExt cx="263880" cy="394200"/>
              </a:xfrm>
            </p:grpSpPr>
            <p:sp>
              <p:nvSpPr>
                <p:cNvPr id="296" name=""/>
                <p:cNvSpPr/>
                <p:nvPr/>
              </p:nvSpPr>
              <p:spPr>
                <a:xfrm rot="15862200">
                  <a:off x="1137960" y="2459880"/>
                  <a:ext cx="380880" cy="152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 flipH="1" flipV="1" rot="10461600">
                  <a:off x="1413720" y="2451960"/>
                  <a:ext cx="76320" cy="152640"/>
                </a:xfrm>
                <a:custGeom>
                  <a:avLst/>
                  <a:gdLst>
                    <a:gd name="textAreaLeft" fmla="*/ 360 w 76320"/>
                    <a:gd name="textAreaRight" fmla="*/ 54000 w 76320"/>
                    <a:gd name="textAreaTop" fmla="*/ 38160 h 152640"/>
                    <a:gd name="textAreaBottom" fmla="*/ 114480 h 152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5400"/>
                        <a:pt x="21600" y="10800"/>
                      </a:cubicBezTo>
                      <a:lnTo>
                        <a:pt x="21600" y="10800"/>
                      </a:lnTo>
                      <a:cubicBezTo>
                        <a:pt x="21600" y="16200"/>
                        <a:pt x="10800" y="21600"/>
                        <a:pt x="0" y="2160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 rot="15862200">
                  <a:off x="1296000" y="26175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 rot="15862200">
                  <a:off x="1281960" y="23983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"/>
          <p:cNvGrpSpPr/>
          <p:nvPr/>
        </p:nvGrpSpPr>
        <p:grpSpPr>
          <a:xfrm>
            <a:off x="533520" y="1523880"/>
            <a:ext cx="4190760" cy="4191120"/>
            <a:chOff x="533520" y="1523880"/>
            <a:chExt cx="4190760" cy="4191120"/>
          </a:xfrm>
        </p:grpSpPr>
        <p:sp>
          <p:nvSpPr>
            <p:cNvPr id="301" name=""/>
            <p:cNvSpPr/>
            <p:nvPr/>
          </p:nvSpPr>
          <p:spPr>
            <a:xfrm>
              <a:off x="533520" y="1523880"/>
              <a:ext cx="4190760" cy="41911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685440" y="3787920"/>
              <a:ext cx="3962880" cy="1850760"/>
              <a:chOff x="685440" y="3787920"/>
              <a:chExt cx="3962880" cy="1850760"/>
            </a:xfrm>
          </p:grpSpPr>
          <p:grpSp>
            <p:nvGrpSpPr>
              <p:cNvPr id="303" name=""/>
              <p:cNvGrpSpPr/>
              <p:nvPr/>
            </p:nvGrpSpPr>
            <p:grpSpPr>
              <a:xfrm>
                <a:off x="2590920" y="3787920"/>
                <a:ext cx="2057400" cy="1850760"/>
                <a:chOff x="2590920" y="3787920"/>
                <a:chExt cx="2057400" cy="185076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2590920" y="548640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048120" y="5410080"/>
                  <a:ext cx="152280" cy="152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3429000" y="5257800"/>
                  <a:ext cx="15264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3810240" y="502920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4114800" y="4724280"/>
                  <a:ext cx="152640" cy="152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4300560" y="4419720"/>
                  <a:ext cx="15264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4430880" y="411480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4496040" y="378792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685440" y="3787920"/>
                <a:ext cx="2057400" cy="1850760"/>
                <a:chOff x="685440" y="3787920"/>
                <a:chExt cx="2057400" cy="1850760"/>
              </a:xfrm>
            </p:grpSpPr>
            <p:sp>
              <p:nvSpPr>
                <p:cNvPr id="313" name=""/>
                <p:cNvSpPr/>
                <p:nvPr/>
              </p:nvSpPr>
              <p:spPr>
                <a:xfrm flipH="1">
                  <a:off x="2590200" y="548640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flipH="1">
                  <a:off x="2133000" y="5410080"/>
                  <a:ext cx="152280" cy="152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flipH="1">
                  <a:off x="1752120" y="5257800"/>
                  <a:ext cx="15264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flipH="1">
                  <a:off x="1370880" y="502920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flipH="1">
                  <a:off x="1066320" y="4724280"/>
                  <a:ext cx="152640" cy="152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flipH="1">
                  <a:off x="880560" y="4419720"/>
                  <a:ext cx="15264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 flipH="1">
                  <a:off x="750240" y="411480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 flipH="1">
                  <a:off x="685080" y="378792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685440" y="1676160"/>
              <a:ext cx="3962880" cy="1850760"/>
              <a:chOff x="685440" y="1676160"/>
              <a:chExt cx="3962880" cy="1850760"/>
            </a:xfrm>
          </p:grpSpPr>
          <p:grpSp>
            <p:nvGrpSpPr>
              <p:cNvPr id="322" name=""/>
              <p:cNvGrpSpPr/>
              <p:nvPr/>
            </p:nvGrpSpPr>
            <p:grpSpPr>
              <a:xfrm>
                <a:off x="2590920" y="1676160"/>
                <a:ext cx="2057400" cy="1850760"/>
                <a:chOff x="2590920" y="1676160"/>
                <a:chExt cx="2057400" cy="1850760"/>
              </a:xfrm>
            </p:grpSpPr>
            <p:sp>
              <p:nvSpPr>
                <p:cNvPr id="323" name=""/>
                <p:cNvSpPr/>
                <p:nvPr/>
              </p:nvSpPr>
              <p:spPr>
                <a:xfrm flipV="1">
                  <a:off x="2590920" y="167580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 flipV="1">
                  <a:off x="3048120" y="1752120"/>
                  <a:ext cx="152280" cy="152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 flipV="1">
                  <a:off x="3429000" y="1904400"/>
                  <a:ext cx="15264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 flipV="1">
                  <a:off x="3810240" y="213300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 flipV="1">
                  <a:off x="4114800" y="2437920"/>
                  <a:ext cx="152640" cy="152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 flipV="1">
                  <a:off x="4300560" y="2742480"/>
                  <a:ext cx="15264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 flipV="1">
                  <a:off x="4430880" y="304740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 flipV="1">
                  <a:off x="4496040" y="337428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85440" y="1676160"/>
                <a:ext cx="2057400" cy="1850760"/>
                <a:chOff x="685440" y="1676160"/>
                <a:chExt cx="2057400" cy="1850760"/>
              </a:xfrm>
            </p:grpSpPr>
            <p:sp>
              <p:nvSpPr>
                <p:cNvPr id="332" name=""/>
                <p:cNvSpPr/>
                <p:nvPr/>
              </p:nvSpPr>
              <p:spPr>
                <a:xfrm flipH="1" flipV="1">
                  <a:off x="2590200" y="167580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 flipH="1" flipV="1">
                  <a:off x="2133000" y="1752120"/>
                  <a:ext cx="152280" cy="152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 flipH="1" flipV="1">
                  <a:off x="1752120" y="1904400"/>
                  <a:ext cx="15264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 flipH="1" flipV="1">
                  <a:off x="1370880" y="213300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flipH="1" flipV="1">
                  <a:off x="1066320" y="2437920"/>
                  <a:ext cx="152640" cy="152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flipH="1" flipV="1">
                  <a:off x="880560" y="2742480"/>
                  <a:ext cx="15264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flipH="1" flipV="1">
                  <a:off x="750240" y="304740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flipH="1" flipV="1">
                  <a:off x="685080" y="337428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0" name=""/>
            <p:cNvGrpSpPr/>
            <p:nvPr/>
          </p:nvGrpSpPr>
          <p:grpSpPr>
            <a:xfrm>
              <a:off x="1453680" y="3643200"/>
              <a:ext cx="2426040" cy="1309680"/>
              <a:chOff x="1453680" y="3643200"/>
              <a:chExt cx="2426040" cy="1309680"/>
            </a:xfrm>
          </p:grpSpPr>
          <p:grpSp>
            <p:nvGrpSpPr>
              <p:cNvPr id="341" name=""/>
              <p:cNvGrpSpPr/>
              <p:nvPr/>
            </p:nvGrpSpPr>
            <p:grpSpPr>
              <a:xfrm>
                <a:off x="2590560" y="3643200"/>
                <a:ext cx="1289160" cy="1309680"/>
                <a:chOff x="2590560" y="3643200"/>
                <a:chExt cx="1289160" cy="130968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2590560" y="4800600"/>
                  <a:ext cx="15264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2917800" y="473544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3200400" y="459252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3449520" y="438300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3632040" y="415116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3701880" y="389736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3727440" y="364320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1453680" y="3643200"/>
                <a:ext cx="1289160" cy="1309680"/>
                <a:chOff x="1453680" y="3643200"/>
                <a:chExt cx="1289160" cy="1309680"/>
              </a:xfrm>
            </p:grpSpPr>
            <p:sp>
              <p:nvSpPr>
                <p:cNvPr id="350" name=""/>
                <p:cNvSpPr/>
                <p:nvPr/>
              </p:nvSpPr>
              <p:spPr>
                <a:xfrm flipH="1">
                  <a:off x="2590200" y="4800600"/>
                  <a:ext cx="15264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H="1">
                  <a:off x="2262960" y="473544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H="1">
                  <a:off x="1980360" y="459252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flipH="1">
                  <a:off x="1731240" y="438300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 flipH="1">
                  <a:off x="1548720" y="415116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 flipH="1">
                  <a:off x="1478880" y="389736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 flipH="1">
                  <a:off x="1453320" y="364320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7" name=""/>
            <p:cNvGrpSpPr/>
            <p:nvPr/>
          </p:nvGrpSpPr>
          <p:grpSpPr>
            <a:xfrm>
              <a:off x="1447560" y="2482920"/>
              <a:ext cx="2426040" cy="1309680"/>
              <a:chOff x="1447560" y="2482920"/>
              <a:chExt cx="2426040" cy="1309680"/>
            </a:xfrm>
          </p:grpSpPr>
          <p:grpSp>
            <p:nvGrpSpPr>
              <p:cNvPr id="358" name=""/>
              <p:cNvGrpSpPr/>
              <p:nvPr/>
            </p:nvGrpSpPr>
            <p:grpSpPr>
              <a:xfrm>
                <a:off x="2584440" y="2482920"/>
                <a:ext cx="1289160" cy="1309680"/>
                <a:chOff x="2584440" y="2482920"/>
                <a:chExt cx="1289160" cy="1309680"/>
              </a:xfrm>
            </p:grpSpPr>
            <p:sp>
              <p:nvSpPr>
                <p:cNvPr id="359" name=""/>
                <p:cNvSpPr/>
                <p:nvPr/>
              </p:nvSpPr>
              <p:spPr>
                <a:xfrm flipV="1">
                  <a:off x="2584440" y="2482560"/>
                  <a:ext cx="15264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 flipV="1">
                  <a:off x="2911680" y="254772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 flipV="1">
                  <a:off x="3194280" y="269064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flipV="1">
                  <a:off x="3443400" y="290016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 flipV="1">
                  <a:off x="3625920" y="313200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flipV="1">
                  <a:off x="3695760" y="338580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 flipV="1">
                  <a:off x="3721320" y="363996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1447560" y="2482920"/>
                <a:ext cx="1289160" cy="1309680"/>
                <a:chOff x="1447560" y="2482920"/>
                <a:chExt cx="1289160" cy="1309680"/>
              </a:xfrm>
            </p:grpSpPr>
            <p:sp>
              <p:nvSpPr>
                <p:cNvPr id="367" name=""/>
                <p:cNvSpPr/>
                <p:nvPr/>
              </p:nvSpPr>
              <p:spPr>
                <a:xfrm flipH="1" flipV="1">
                  <a:off x="2584080" y="2482560"/>
                  <a:ext cx="15264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flipH="1" flipV="1">
                  <a:off x="2256840" y="254772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flipH="1" flipV="1">
                  <a:off x="1974240" y="269064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flipH="1" flipV="1">
                  <a:off x="1725120" y="290016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flipH="1" flipV="1">
                  <a:off x="1542600" y="313200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 flipH="1" flipV="1">
                  <a:off x="1472760" y="338580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 flipH="1" flipV="1">
                  <a:off x="1447200" y="363996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74" name=""/>
          <p:cNvGrpSpPr/>
          <p:nvPr/>
        </p:nvGrpSpPr>
        <p:grpSpPr>
          <a:xfrm>
            <a:off x="6172200" y="1600200"/>
            <a:ext cx="609480" cy="4191120"/>
            <a:chOff x="6172200" y="1600200"/>
            <a:chExt cx="609480" cy="4191120"/>
          </a:xfrm>
        </p:grpSpPr>
        <p:sp>
          <p:nvSpPr>
            <p:cNvPr id="375" name=""/>
            <p:cNvSpPr/>
            <p:nvPr/>
          </p:nvSpPr>
          <p:spPr>
            <a:xfrm>
              <a:off x="6172200" y="1600200"/>
              <a:ext cx="152280" cy="4191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629400" y="1600200"/>
              <a:ext cx="152280" cy="4191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324480" y="2590920"/>
              <a:ext cx="304920" cy="759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324480" y="4910040"/>
              <a:ext cx="304920" cy="763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324480" y="5638680"/>
              <a:ext cx="30492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24480" y="1676520"/>
              <a:ext cx="304920" cy="7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1367640" y="762120"/>
            <a:ext cx="237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Two-speed sprocket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conceptual side 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100480" y="762120"/>
            <a:ext cx="309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Front view, smaller g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activated, larger dis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533520" y="1523880"/>
            <a:ext cx="4190760" cy="41911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362960" y="762120"/>
            <a:ext cx="330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Two-speed sprocket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side view of one folded-up p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 rot="1068000">
            <a:off x="2589480" y="1599480"/>
            <a:ext cx="759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590920" y="2666880"/>
            <a:ext cx="914400" cy="1905120"/>
          </a:xfrm>
          <a:custGeom>
            <a:avLst/>
            <a:gdLst>
              <a:gd name="textAreaLeft" fmla="*/ 0 w 914400"/>
              <a:gd name="textAreaRight" fmla="*/ 641520 w 914400"/>
              <a:gd name="textAreaTop" fmla="*/ 476280 h 1905120"/>
              <a:gd name="textAreaBottom" fmla="*/ 14288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95440" y="185112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295280" y="31240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Pedals torque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plate in this dir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(let's assume it's at the front of the bicyc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752480" y="205740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Pin pivots on this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2133720" y="190476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2187720" y="304920"/>
            <a:ext cx="380880" cy="62481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549760" y="304920"/>
            <a:ext cx="381240" cy="62481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160" y="1219320"/>
            <a:ext cx="892440" cy="1981080"/>
            <a:chOff x="1676160" y="1219320"/>
            <a:chExt cx="892440" cy="1981080"/>
          </a:xfrm>
        </p:grpSpPr>
        <p:sp>
          <p:nvSpPr>
            <p:cNvPr id="394" name=""/>
            <p:cNvSpPr/>
            <p:nvPr/>
          </p:nvSpPr>
          <p:spPr>
            <a:xfrm>
              <a:off x="2286000" y="1219320"/>
              <a:ext cx="152280" cy="1981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1675800" y="2514600"/>
              <a:ext cx="609480" cy="151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319480" y="2568600"/>
              <a:ext cx="75960" cy="75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187720" y="1436400"/>
              <a:ext cx="380880" cy="533160"/>
            </a:xfrm>
            <a:custGeom>
              <a:avLst/>
              <a:gdLst>
                <a:gd name="textAreaLeft" fmla="*/ 64080 w 380880"/>
                <a:gd name="textAreaRight" fmla="*/ 316800 w 380880"/>
                <a:gd name="textAreaTop" fmla="*/ 90000 h 533160"/>
                <a:gd name="textAreaBottom" fmla="*/ 44316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180" y="21600"/>
                  </a:lnTo>
                  <a:lnTo>
                    <a:pt x="3420" y="216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2187720" y="1914480"/>
              <a:ext cx="380880" cy="532800"/>
            </a:xfrm>
            <a:custGeom>
              <a:avLst/>
              <a:gdLst>
                <a:gd name="textAreaLeft" fmla="*/ 64080 w 380880"/>
                <a:gd name="textAreaRight" fmla="*/ 316800 w 380880"/>
                <a:gd name="textAreaTop" fmla="*/ 90000 h 532800"/>
                <a:gd name="textAreaBottom" fmla="*/ 442800 h 53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180" y="21600"/>
                  </a:lnTo>
                  <a:lnTo>
                    <a:pt x="3420" y="216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5181480" y="1915920"/>
            <a:ext cx="1981440" cy="892440"/>
            <a:chOff x="5181480" y="1915920"/>
            <a:chExt cx="1981440" cy="892440"/>
          </a:xfrm>
        </p:grpSpPr>
        <p:sp>
          <p:nvSpPr>
            <p:cNvPr id="400" name=""/>
            <p:cNvSpPr/>
            <p:nvPr/>
          </p:nvSpPr>
          <p:spPr>
            <a:xfrm rot="5400000">
              <a:off x="6095880" y="1611000"/>
              <a:ext cx="152280" cy="1981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 rot="5400000">
              <a:off x="5486040" y="2144520"/>
              <a:ext cx="60948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rot="5400000">
              <a:off x="5737320" y="255924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rot="5400000">
              <a:off x="6488280" y="2351160"/>
              <a:ext cx="380880" cy="533520"/>
            </a:xfrm>
            <a:custGeom>
              <a:avLst/>
              <a:gdLst>
                <a:gd name="textAreaLeft" fmla="*/ 64080 w 380880"/>
                <a:gd name="textAreaRight" fmla="*/ 316800 w 380880"/>
                <a:gd name="textAreaTop" fmla="*/ 90000 h 533520"/>
                <a:gd name="textAreaBottom" fmla="*/ 4435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180" y="21600"/>
                  </a:lnTo>
                  <a:lnTo>
                    <a:pt x="3420" y="216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 rot="5400000">
              <a:off x="6010560" y="2351160"/>
              <a:ext cx="380880" cy="533160"/>
            </a:xfrm>
            <a:custGeom>
              <a:avLst/>
              <a:gdLst>
                <a:gd name="textAreaLeft" fmla="*/ 64080 w 380880"/>
                <a:gd name="textAreaRight" fmla="*/ 316800 w 380880"/>
                <a:gd name="textAreaTop" fmla="*/ 90000 h 533160"/>
                <a:gd name="textAreaBottom" fmla="*/ 44316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180" y="21600"/>
                  </a:lnTo>
                  <a:lnTo>
                    <a:pt x="3420" y="216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6967440" y="304920"/>
            <a:ext cx="381240" cy="62481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276720" y="304920"/>
            <a:ext cx="380880" cy="62481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848720" y="28195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543800" y="21337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7162920" y="23623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248520" y="31240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 flipV="1">
            <a:off x="6400800" y="2819520"/>
            <a:ext cx="763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371600" y="16002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52480" y="18288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447920" y="2666880"/>
            <a:ext cx="609480" cy="609840"/>
          </a:xfrm>
          <a:prstGeom prst="rtTriangle">
            <a:avLst/>
          </a:prstGeom>
          <a:solidFill>
            <a:srgbClr val="3333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09480" y="236232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990720" y="2590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4800600" y="2133000"/>
            <a:ext cx="609480" cy="609480"/>
          </a:xfrm>
          <a:prstGeom prst="rtTriangle">
            <a:avLst/>
          </a:prstGeom>
          <a:solidFill>
            <a:srgbClr val="3333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962520" y="22860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4343400" y="2438280"/>
            <a:ext cx="3808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3047760" y="380520"/>
            <a:ext cx="3886560" cy="1981800"/>
            <a:chOff x="3047760" y="380520"/>
            <a:chExt cx="3886560" cy="1981800"/>
          </a:xfrm>
        </p:grpSpPr>
        <p:sp>
          <p:nvSpPr>
            <p:cNvPr id="421" name=""/>
            <p:cNvSpPr/>
            <p:nvPr/>
          </p:nvSpPr>
          <p:spPr>
            <a:xfrm flipH="1">
              <a:off x="5029200" y="501480"/>
              <a:ext cx="1752480" cy="1752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3124080" y="946080"/>
              <a:ext cx="914400" cy="9144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3047760" y="380520"/>
              <a:ext cx="3886560" cy="1981800"/>
              <a:chOff x="3047760" y="380520"/>
              <a:chExt cx="3886560" cy="1981800"/>
            </a:xfrm>
          </p:grpSpPr>
          <p:sp>
            <p:nvSpPr>
              <p:cNvPr id="424" name=""/>
              <p:cNvSpPr/>
              <p:nvPr/>
            </p:nvSpPr>
            <p:spPr>
              <a:xfrm flipH="1">
                <a:off x="3047760" y="870120"/>
                <a:ext cx="533520" cy="1066680"/>
              </a:xfrm>
              <a:custGeom>
                <a:avLst/>
                <a:gdLst>
                  <a:gd name="textAreaLeft" fmla="*/ 0 w 533520"/>
                  <a:gd name="textAreaRight" fmla="*/ 374400 w 533520"/>
                  <a:gd name="textAreaTop" fmla="*/ 266760 h 1066680"/>
                  <a:gd name="textAreaBottom" fmla="*/ 800280 h 106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5400"/>
                      <a:pt x="21600" y="10800"/>
                    </a:cubicBezTo>
                    <a:lnTo>
                      <a:pt x="21600" y="10800"/>
                    </a:lnTo>
                    <a:cubicBezTo>
                      <a:pt x="21600" y="16200"/>
                      <a:pt x="108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867640" y="380880"/>
                <a:ext cx="1066680" cy="1981440"/>
              </a:xfrm>
              <a:custGeom>
                <a:avLst/>
                <a:gdLst>
                  <a:gd name="textAreaLeft" fmla="*/ 0 w 1066680"/>
                  <a:gd name="textAreaRight" fmla="*/ 748080 w 1066680"/>
                  <a:gd name="textAreaTop" fmla="*/ 495360 h 1981440"/>
                  <a:gd name="textAreaBottom" fmla="*/ 1486080 h 1981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5400"/>
                      <a:pt x="21600" y="10800"/>
                    </a:cubicBezTo>
                    <a:lnTo>
                      <a:pt x="21600" y="10800"/>
                    </a:lnTo>
                    <a:cubicBezTo>
                      <a:pt x="21600" y="16200"/>
                      <a:pt x="108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26" name=""/>
              <p:cNvCxnSpPr>
                <a:stCxn id="425" idx="1"/>
                <a:endCxn id="424" idx="1"/>
              </p:cNvCxnSpPr>
              <p:nvPr/>
            </p:nvCxnSpPr>
            <p:spPr>
              <a:xfrm flipH="1" flipV="1">
                <a:off x="3580920" y="1936080"/>
                <a:ext cx="2286720" cy="424440"/>
              </a:xfrm>
              <a:prstGeom prst="straightConnector1">
                <a:avLst/>
              </a:prstGeom>
              <a:ln w="38160">
                <a:solidFill>
                  <a:srgbClr val="0033cc"/>
                </a:solidFill>
                <a:miter/>
              </a:ln>
            </p:spPr>
          </p:cxnSp>
          <p:cxnSp>
            <p:nvCxnSpPr>
              <p:cNvPr id="427" name=""/>
              <p:cNvCxnSpPr>
                <a:stCxn id="425" idx="0"/>
                <a:endCxn id="424" idx="0"/>
              </p:cNvCxnSpPr>
              <p:nvPr/>
            </p:nvCxnSpPr>
            <p:spPr>
              <a:xfrm flipH="1">
                <a:off x="3580920" y="380520"/>
                <a:ext cx="2286720" cy="489600"/>
              </a:xfrm>
              <a:prstGeom prst="straightConnector1">
                <a:avLst/>
              </a:prstGeom>
              <a:ln w="38160">
                <a:solidFill>
                  <a:srgbClr val="0033cc"/>
                </a:solidFill>
                <a:miter/>
              </a:ln>
            </p:spPr>
          </p:cxnSp>
        </p:grpSp>
      </p:grpSp>
      <p:sp>
        <p:nvSpPr>
          <p:cNvPr id="428" name=""/>
          <p:cNvSpPr/>
          <p:nvPr/>
        </p:nvSpPr>
        <p:spPr>
          <a:xfrm>
            <a:off x="1523880" y="4572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Back of bicy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1676160" y="1371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934320" y="3808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Front of bicy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086600" y="12952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rot="6034800">
            <a:off x="4351320" y="1001520"/>
            <a:ext cx="609480" cy="2286000"/>
          </a:xfrm>
          <a:custGeom>
            <a:avLst/>
            <a:gdLst>
              <a:gd name="textAreaLeft" fmla="*/ 133920 w 609480"/>
              <a:gd name="textAreaRight" fmla="*/ 475560 w 609480"/>
              <a:gd name="textAreaTop" fmla="*/ 502560 h 2286000"/>
              <a:gd name="textAreaBottom" fmla="*/ 17834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29718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Section of chain not under ten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4495680" y="2438280"/>
            <a:ext cx="76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 flipH="1">
            <a:off x="4494960" y="2635200"/>
            <a:ext cx="1752840" cy="1752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2590920" y="3079800"/>
            <a:ext cx="914400" cy="9144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2514240" y="2514600"/>
            <a:ext cx="3886560" cy="1981080"/>
            <a:chOff x="2514240" y="2514600"/>
            <a:chExt cx="3886560" cy="1981080"/>
          </a:xfrm>
        </p:grpSpPr>
        <p:sp>
          <p:nvSpPr>
            <p:cNvPr id="438" name=""/>
            <p:cNvSpPr/>
            <p:nvPr/>
          </p:nvSpPr>
          <p:spPr>
            <a:xfrm flipH="1">
              <a:off x="2514240" y="3003480"/>
              <a:ext cx="533520" cy="1066320"/>
            </a:xfrm>
            <a:custGeom>
              <a:avLst/>
              <a:gdLst>
                <a:gd name="textAreaLeft" fmla="*/ 0 w 533520"/>
                <a:gd name="textAreaRight" fmla="*/ 374400 w 533520"/>
                <a:gd name="textAreaTop" fmla="*/ 266400 h 1066320"/>
                <a:gd name="textAreaBottom" fmla="*/ 799920 h 106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5400"/>
                    <a:pt x="21600" y="10800"/>
                  </a:cubicBezTo>
                  <a:lnTo>
                    <a:pt x="21600" y="10800"/>
                  </a:lnTo>
                  <a:cubicBezTo>
                    <a:pt x="21600" y="16200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34120" y="2514600"/>
              <a:ext cx="1066680" cy="1981080"/>
            </a:xfrm>
            <a:custGeom>
              <a:avLst/>
              <a:gdLst>
                <a:gd name="textAreaLeft" fmla="*/ 0 w 1066680"/>
                <a:gd name="textAreaRight" fmla="*/ 748080 w 1066680"/>
                <a:gd name="textAreaTop" fmla="*/ 495360 h 1981080"/>
                <a:gd name="textAreaBottom" fmla="*/ 1486080 h 19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5400"/>
                    <a:pt x="21600" y="10800"/>
                  </a:cubicBezTo>
                  <a:lnTo>
                    <a:pt x="21600" y="10800"/>
                  </a:lnTo>
                  <a:cubicBezTo>
                    <a:pt x="21600" y="16200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40" name=""/>
            <p:cNvCxnSpPr>
              <a:stCxn id="439" idx="1"/>
              <a:endCxn id="438" idx="1"/>
            </p:cNvCxnSpPr>
            <p:nvPr/>
          </p:nvCxnSpPr>
          <p:spPr>
            <a:xfrm flipH="1" flipV="1">
              <a:off x="3047400" y="4069800"/>
              <a:ext cx="2286720" cy="424080"/>
            </a:xfrm>
            <a:prstGeom prst="straightConnector1">
              <a:avLst/>
            </a:prstGeom>
            <a:ln w="38160">
              <a:solidFill>
                <a:srgbClr val="0033cc"/>
              </a:solidFill>
              <a:miter/>
            </a:ln>
          </p:spPr>
        </p:cxnSp>
        <p:cxnSp>
          <p:nvCxnSpPr>
            <p:cNvPr id="441" name=""/>
            <p:cNvCxnSpPr>
              <a:stCxn id="439" idx="0"/>
              <a:endCxn id="438" idx="0"/>
            </p:cNvCxnSpPr>
            <p:nvPr/>
          </p:nvCxnSpPr>
          <p:spPr>
            <a:xfrm flipH="1">
              <a:off x="3047400" y="2514600"/>
              <a:ext cx="2286720" cy="489600"/>
            </a:xfrm>
            <a:prstGeom prst="straightConnector1">
              <a:avLst/>
            </a:prstGeom>
            <a:ln w="38160">
              <a:solidFill>
                <a:srgbClr val="0033cc"/>
              </a:solidFill>
              <a:miter/>
            </a:ln>
          </p:spPr>
        </p:cxnSp>
      </p:grpSp>
      <p:sp>
        <p:nvSpPr>
          <p:cNvPr id="442" name=""/>
          <p:cNvSpPr/>
          <p:nvPr/>
        </p:nvSpPr>
        <p:spPr>
          <a:xfrm>
            <a:off x="990720" y="25909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Back of bicy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1142640" y="35053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400800" y="25146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Front of bicy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553080" y="34290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334120" y="27432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541840" y="27655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49920" y="28414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946840" y="299556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41880" y="316692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095880" y="333864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95880" y="354816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053040" y="3733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977080" y="392904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867280" y="40384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414828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562720" y="42130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410080" y="425592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257800" y="316692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105520" y="32767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041800" y="34416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045040" y="362412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148360" y="37512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284800" y="383364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584520" y="300672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679920" y="31780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733920" y="334980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733920" y="35593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691080" y="374508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614760" y="39402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505320" y="404964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2676600" y="3176640"/>
            <a:ext cx="318960" cy="742680"/>
            <a:chOff x="2676600" y="3176640"/>
            <a:chExt cx="318960" cy="742680"/>
          </a:xfrm>
        </p:grpSpPr>
        <p:sp>
          <p:nvSpPr>
            <p:cNvPr id="473" name=""/>
            <p:cNvSpPr/>
            <p:nvPr/>
          </p:nvSpPr>
          <p:spPr>
            <a:xfrm>
              <a:off x="2892600" y="3176640"/>
              <a:ext cx="7596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739960" y="328608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676600" y="345096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679840" y="3633840"/>
              <a:ext cx="7596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782800" y="376056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919600" y="3843360"/>
              <a:ext cx="7596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 flipV="1" rot="5400000">
            <a:off x="5638680" y="1904760"/>
            <a:ext cx="380880" cy="838440"/>
          </a:xfrm>
          <a:custGeom>
            <a:avLst/>
            <a:gdLst>
              <a:gd name="textAreaLeft" fmla="*/ 243360 w 380880"/>
              <a:gd name="textAreaRight" fmla="*/ 381240 w 38088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486400" y="157176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"old" size of fro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spro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V="1" rot="5400000">
            <a:off x="4800600" y="1905120"/>
            <a:ext cx="380880" cy="838080"/>
          </a:xfrm>
          <a:custGeom>
            <a:avLst/>
            <a:gdLst>
              <a:gd name="textAreaLeft" fmla="*/ 243360 w 380880"/>
              <a:gd name="textAreaRight" fmla="*/ 381240 w 3808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733920" y="157176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"new" size of fro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spro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80880" y="4038480"/>
            <a:ext cx="2667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If we tried to engage it now, this pin would lock up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2819520" y="411444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066680" y="10666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Gear change, from large to small front spro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3048120" y="236196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3048120" y="2666880"/>
            <a:ext cx="914400" cy="1905120"/>
          </a:xfrm>
          <a:custGeom>
            <a:avLst/>
            <a:gdLst>
              <a:gd name="textAreaLeft" fmla="*/ 268920 w 914400"/>
              <a:gd name="textAreaRight" fmla="*/ 914760 w 914400"/>
              <a:gd name="textAreaTop" fmla="*/ 476280 h 1905120"/>
              <a:gd name="textAreaBottom" fmla="*/ 142884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5400"/>
                  <a:pt x="0" y="10800"/>
                </a:cubicBezTo>
                <a:lnTo>
                  <a:pt x="0" y="10800"/>
                </a:lnTo>
                <a:cubicBezTo>
                  <a:pt x="0" y="162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505320" y="4788000"/>
            <a:ext cx="2666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I'm guessing a 180 degree "phase delay" while the currently smaller gear "waits" for the currently larger gear to "transfer the slack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 flipV="1">
            <a:off x="3657240" y="426708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14-04-10T17:55:47Z</dcterms:modified>
  <cp:revision>18</cp:revision>
  <dc:subject/>
  <dc:title>PowerPoint Presentation</dc:title>
</cp:coreProperties>
</file>