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0C03-BCB9-4BE2-B405-A257052A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E545-AF44-4A00-BBD9-673885E3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41CC-1630-4100-A5FB-669EE6C3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FF08-4194-43FD-9F8B-3E3011C9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BDF2-7B74-47E0-931B-783B9049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58F4-DB4C-4C88-B539-54FA07EE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6E71-8D06-4B45-8765-DDCF401B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E8D6-FB1B-466A-84F9-2D18BD1C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0698-6A5B-4E3C-BA30-4CE3AB42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5E38-437F-4FCE-83F0-004BB979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5B89-4B66-4485-8748-DED39D69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1703-396D-4D51-AA57-37D72841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8D58-25E9-4B49-85D5-3F4DD0F2E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2320" y="762120"/>
            <a:ext cx="16002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04920" y="152280"/>
            <a:ext cx="761760" cy="1752480"/>
            <a:chOff x="304920" y="152280"/>
            <a:chExt cx="761760" cy="1752480"/>
          </a:xfrm>
        </p:grpSpPr>
        <p:sp>
          <p:nvSpPr>
            <p:cNvPr id="43" name=""/>
            <p:cNvSpPr/>
            <p:nvPr/>
          </p:nvSpPr>
          <p:spPr>
            <a:xfrm>
              <a:off x="380880" y="152280"/>
              <a:ext cx="609120" cy="609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85800" y="761760"/>
              <a:ext cx="0" cy="76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85800" y="1523880"/>
              <a:ext cx="38052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304920" y="1523880"/>
              <a:ext cx="3808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99036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486040" y="152280"/>
            <a:ext cx="762480" cy="1752480"/>
            <a:chOff x="5486040" y="152280"/>
            <a:chExt cx="762480" cy="1752480"/>
          </a:xfrm>
        </p:grpSpPr>
        <p:sp>
          <p:nvSpPr>
            <p:cNvPr id="49" name=""/>
            <p:cNvSpPr/>
            <p:nvPr/>
          </p:nvSpPr>
          <p:spPr>
            <a:xfrm>
              <a:off x="5562720" y="152280"/>
              <a:ext cx="609480" cy="609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67640" y="761760"/>
              <a:ext cx="0" cy="76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867640" y="1523880"/>
              <a:ext cx="3808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5486040" y="1523880"/>
              <a:ext cx="38124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86400" y="99036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1905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2193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2193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280" y="533520"/>
            <a:ext cx="1143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32" idx="3"/>
          </p:cNvCxnSpPr>
          <p:nvPr/>
        </p:nvCxnSpPr>
        <p:spPr>
          <a:xfrm flipV="1">
            <a:off x="1295280" y="875880"/>
            <a:ext cx="1524960" cy="38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2971800" y="-152280"/>
            <a:ext cx="10666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16765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 correspo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cep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380880"/>
            <a:ext cx="20574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cept, 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lone and s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nd abando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-380880"/>
            <a:ext cx="10666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447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 symbo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2745000" y="0"/>
            <a:ext cx="2815560" cy="1557000"/>
            <a:chOff x="2745000" y="0"/>
            <a:chExt cx="2815560" cy="1557000"/>
          </a:xfrm>
        </p:grpSpPr>
        <p:sp>
          <p:nvSpPr>
            <p:cNvPr id="140" name=""/>
            <p:cNvSpPr/>
            <p:nvPr/>
          </p:nvSpPr>
          <p:spPr>
            <a:xfrm>
              <a:off x="3276720" y="457200"/>
              <a:ext cx="1752480" cy="685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45000" y="0"/>
              <a:ext cx="91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9600" spc="-1" strike="noStrike">
                  <a:solidFill>
                    <a:srgbClr val="000000"/>
                  </a:solidFill>
                  <a:latin typeface="Courier New"/>
                </a:rPr>
                <a:t>[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48320" y="0"/>
              <a:ext cx="91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9600" spc="-1" strike="noStrike">
                  <a:solidFill>
                    <a:srgbClr val="000000"/>
                  </a:solidFill>
                  <a:latin typeface="Courier New"/>
                </a:rPr>
                <a:t>]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51960" y="609480"/>
              <a:ext cx="162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"black box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357920" y="4083120"/>
            <a:ext cx="5731200" cy="2624040"/>
            <a:chOff x="1357920" y="4083120"/>
            <a:chExt cx="5731200" cy="2624040"/>
          </a:xfrm>
        </p:grpSpPr>
        <p:grpSp>
          <p:nvGrpSpPr>
            <p:cNvPr id="145" name=""/>
            <p:cNvGrpSpPr/>
            <p:nvPr/>
          </p:nvGrpSpPr>
          <p:grpSpPr>
            <a:xfrm>
              <a:off x="1357920" y="4083120"/>
              <a:ext cx="5731200" cy="1983960"/>
              <a:chOff x="1357920" y="4083120"/>
              <a:chExt cx="5731200" cy="1983960"/>
            </a:xfrm>
          </p:grpSpPr>
          <p:sp>
            <p:nvSpPr>
              <p:cNvPr id="146" name=""/>
              <p:cNvSpPr/>
              <p:nvPr/>
            </p:nvSpPr>
            <p:spPr>
              <a:xfrm>
                <a:off x="3191400" y="4235760"/>
                <a:ext cx="23752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9600" spc="-1" strike="noStrike">
                    <a:solidFill>
                      <a:srgbClr val="000000"/>
                    </a:solidFill>
                    <a:latin typeface="Courier New"/>
                  </a:rPr>
                  <a:t>[%]</a:t>
                </a:r>
                <a:endParaRPr b="0" lang="en-US" sz="9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357920" y="4083120"/>
                <a:ext cx="2225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input paramet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527280" y="4322880"/>
                <a:ext cx="838080" cy="457200"/>
              </a:xfrm>
              <a:custGeom>
                <a:avLst/>
                <a:gdLst/>
                <a:ahLst/>
                <a:rect l="l" t="t" r="r" b="b"/>
                <a:pathLst>
                  <a:path w="528" h="288">
                    <a:moveTo>
                      <a:pt x="0" y="0"/>
                    </a:moveTo>
                    <a:cubicBezTo>
                      <a:pt x="164" y="8"/>
                      <a:pt x="328" y="16"/>
                      <a:pt x="384" y="48"/>
                    </a:cubicBezTo>
                    <a:cubicBezTo>
                      <a:pt x="440" y="80"/>
                      <a:pt x="312" y="152"/>
                      <a:pt x="336" y="192"/>
                    </a:cubicBezTo>
                    <a:cubicBezTo>
                      <a:pt x="360" y="232"/>
                      <a:pt x="444" y="260"/>
                      <a:pt x="528" y="288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71920" y="5226120"/>
                <a:ext cx="241200" cy="685800"/>
              </a:xfrm>
              <a:custGeom>
                <a:avLst/>
                <a:gdLst/>
                <a:ahLst/>
                <a:rect l="l" t="t" r="r" b="b"/>
                <a:pathLst>
                  <a:path w="152" h="432">
                    <a:moveTo>
                      <a:pt x="8" y="0"/>
                    </a:moveTo>
                    <a:cubicBezTo>
                      <a:pt x="56" y="44"/>
                      <a:pt x="104" y="88"/>
                      <a:pt x="104" y="144"/>
                    </a:cubicBezTo>
                    <a:cubicBezTo>
                      <a:pt x="104" y="200"/>
                      <a:pt x="0" y="288"/>
                      <a:pt x="8" y="336"/>
                    </a:cubicBezTo>
                    <a:cubicBezTo>
                      <a:pt x="16" y="384"/>
                      <a:pt x="84" y="408"/>
                      <a:pt x="152" y="432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710960" y="5607360"/>
                <a:ext cx="237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output paramet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1447920" y="4540320"/>
              <a:ext cx="190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Times New Roman"/>
                </a:rPr>
                <a:t>(flow "down" into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Times New Roman"/>
                </a:rPr>
                <a:t>from the lef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76920" y="606456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Times New Roman"/>
                </a:rPr>
                <a:t>(flow "down" out of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Times New Roman"/>
                </a:rPr>
                <a:t>to the righ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352680" y="1371600"/>
            <a:ext cx="1981080" cy="3142080"/>
            <a:chOff x="3352680" y="1371600"/>
            <a:chExt cx="1981080" cy="3142080"/>
          </a:xfrm>
        </p:grpSpPr>
        <p:sp>
          <p:nvSpPr>
            <p:cNvPr id="154" name=""/>
            <p:cNvSpPr/>
            <p:nvPr/>
          </p:nvSpPr>
          <p:spPr>
            <a:xfrm>
              <a:off x="3352680" y="1371600"/>
              <a:ext cx="198108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2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3498840" y="2243160"/>
              <a:ext cx="1216080" cy="1338120"/>
              <a:chOff x="3498840" y="2243160"/>
              <a:chExt cx="1216080" cy="1338120"/>
            </a:xfrm>
          </p:grpSpPr>
          <p:sp>
            <p:nvSpPr>
              <p:cNvPr id="156" name=""/>
              <p:cNvSpPr/>
              <p:nvPr/>
            </p:nvSpPr>
            <p:spPr>
              <a:xfrm>
                <a:off x="3822120" y="2243160"/>
                <a:ext cx="47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800" spc="-1" strike="noStrike">
                    <a:solidFill>
                      <a:srgbClr val="000000"/>
                    </a:solidFill>
                    <a:latin typeface="Times New Roman"/>
                  </a:rPr>
                  <a:t>in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800" spc="-1" strike="noStrike">
                    <a:solidFill>
                      <a:srgbClr val="000000"/>
                    </a:solidFill>
                    <a:latin typeface="Times New Roman"/>
                  </a:rPr>
                  <a:t>pu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115880" y="321300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800" spc="-1" strike="noStrike">
                    <a:solidFill>
                      <a:srgbClr val="000000"/>
                    </a:solidFill>
                    <a:latin typeface="Times New Roman"/>
                  </a:rPr>
                  <a:t>out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800" spc="-1" strike="noStrike">
                    <a:solidFill>
                      <a:srgbClr val="000000"/>
                    </a:solidFill>
                    <a:latin typeface="Times New Roman"/>
                  </a:rPr>
                  <a:t>pu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0463600">
                <a:off x="3526920" y="2568240"/>
                <a:ext cx="115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800" spc="-1" strike="noStrike">
                    <a:solidFill>
                      <a:srgbClr val="000000"/>
                    </a:solidFill>
                    <a:latin typeface="Times New Roman"/>
                  </a:rPr>
                  <a:t>process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741760" y="30492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efore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22240" y="10666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000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560" y="10666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101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960" y="47689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6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6040" y="4800600"/>
            <a:ext cx="65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fter assignment, both memory cells are now equa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77960" y="53020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000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90920" y="53020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000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46840" y="255888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600" spc="-1" strike="noStrike">
                <a:solidFill>
                  <a:srgbClr val="000000"/>
                </a:solidFill>
                <a:latin typeface="Courier New"/>
              </a:rPr>
              <a:t>=&gt;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32480" y="2133720"/>
            <a:ext cx="713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uring assignment, a copy of the bit pattern is "injected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to the other memory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90560" y="30924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000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03880" y="30924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101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57560" y="3081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03080" y="3222720"/>
            <a:ext cx="72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0  0   0  1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72040" y="3092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21120" y="3141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50720" y="3125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52280" y="152280"/>
          <a:ext cx="164304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16430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1379880" y="10666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5480" y="10666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6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41600" y="457200"/>
            <a:ext cx="21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n expressio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955440" y="609480"/>
            <a:ext cx="6858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46160" y="1143000"/>
            <a:ext cx="160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... squee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t by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74520" y="-152280"/>
            <a:ext cx="2896560" cy="3004920"/>
            <a:chOff x="74520" y="-152280"/>
            <a:chExt cx="2896560" cy="3004920"/>
          </a:xfrm>
        </p:grpSpPr>
        <p:graphicFrame>
          <p:nvGraphicFramePr>
            <p:cNvPr id="183" name=""/>
            <p:cNvGraphicFramePr/>
            <p:nvPr/>
          </p:nvGraphicFramePr>
          <p:xfrm>
            <a:off x="2346120" y="838440"/>
            <a:ext cx="549000" cy="1036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46120" y="838440"/>
                      <a:ext cx="549000" cy="103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1365120" y="457200"/>
            <a:ext cx="1050480" cy="533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65120" y="457200"/>
                      <a:ext cx="105048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" name=""/>
            <p:cNvSpPr/>
            <p:nvPr/>
          </p:nvSpPr>
          <p:spPr>
            <a:xfrm>
              <a:off x="2058840" y="-152280"/>
              <a:ext cx="91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9600" spc="-1" strike="noStrike">
                  <a:solidFill>
                    <a:srgbClr val="000000"/>
                  </a:solidFill>
                  <a:latin typeface="Courier New"/>
                </a:rPr>
                <a:t>#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520" y="1295640"/>
              <a:ext cx="1886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snip! snip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comments 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cut out of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source code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218960" y="990360"/>
              <a:ext cx="6854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1904760" y="1828440"/>
              <a:ext cx="4568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3614760" y="3276360"/>
            <a:ext cx="2122200" cy="1371960"/>
            <a:chOff x="3614760" y="3276360"/>
            <a:chExt cx="2122200" cy="1371960"/>
          </a:xfrm>
        </p:grpSpPr>
        <p:grpSp>
          <p:nvGrpSpPr>
            <p:cNvPr id="192" name=""/>
            <p:cNvGrpSpPr/>
            <p:nvPr/>
          </p:nvGrpSpPr>
          <p:grpSpPr>
            <a:xfrm>
              <a:off x="4038480" y="3276360"/>
              <a:ext cx="1698480" cy="457560"/>
              <a:chOff x="4038480" y="3276360"/>
              <a:chExt cx="1698480" cy="457560"/>
            </a:xfrm>
          </p:grpSpPr>
          <p:sp>
            <p:nvSpPr>
              <p:cNvPr id="193" name=""/>
              <p:cNvSpPr/>
              <p:nvPr/>
            </p:nvSpPr>
            <p:spPr>
              <a:xfrm>
                <a:off x="4038480" y="3733920"/>
                <a:ext cx="1447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5127840" y="3276000"/>
                <a:ext cx="60912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4038480" y="4190760"/>
              <a:ext cx="1698480" cy="457560"/>
              <a:chOff x="4038480" y="4190760"/>
              <a:chExt cx="1698480" cy="457560"/>
            </a:xfrm>
          </p:grpSpPr>
          <p:sp>
            <p:nvSpPr>
              <p:cNvPr id="196" name=""/>
              <p:cNvSpPr/>
              <p:nvPr/>
            </p:nvSpPr>
            <p:spPr>
              <a:xfrm>
                <a:off x="4038480" y="4190760"/>
                <a:ext cx="1447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127840" y="4191480"/>
                <a:ext cx="60912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3614760" y="3940200"/>
              <a:ext cx="762120" cy="439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634920" y="3516480"/>
              <a:ext cx="762120" cy="439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3962520" y="2743200"/>
            <a:ext cx="533160" cy="1676520"/>
            <a:chOff x="3962520" y="2743200"/>
            <a:chExt cx="533160" cy="1676520"/>
          </a:xfrm>
        </p:grpSpPr>
        <p:sp>
          <p:nvSpPr>
            <p:cNvPr id="59" name=""/>
            <p:cNvSpPr/>
            <p:nvPr/>
          </p:nvSpPr>
          <p:spPr>
            <a:xfrm>
              <a:off x="3962520" y="2743200"/>
              <a:ext cx="533160" cy="1676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38480" y="2819520"/>
              <a:ext cx="38124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33720" y="1676520"/>
            <a:ext cx="2286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ldNews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609480"/>
            <a:ext cx="2590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nPoisonousLe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1676520"/>
            <a:ext cx="2590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eManShirtSle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3352680"/>
            <a:ext cx="22860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ankerch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4919400" y="304272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65" idx="3"/>
            <a:endCxn id="63" idx="2"/>
          </p:cNvCxnSpPr>
          <p:nvPr/>
        </p:nvCxnSpPr>
        <p:spPr>
          <a:xfrm flipH="1" flipV="1" rot="5400000">
            <a:off x="5605200" y="1865160"/>
            <a:ext cx="603720" cy="1749960"/>
          </a:xfrm>
          <a:prstGeom prst="bentConnector3">
            <a:avLst>
              <a:gd name="adj1" fmla="val 4976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" name=""/>
          <p:cNvCxnSpPr>
            <a:stCxn id="65" idx="3"/>
            <a:endCxn id="61" idx="2"/>
          </p:cNvCxnSpPr>
          <p:nvPr/>
        </p:nvCxnSpPr>
        <p:spPr>
          <a:xfrm flipV="1" rot="16200000">
            <a:off x="3852360" y="1861920"/>
            <a:ext cx="603720" cy="1756440"/>
          </a:xfrm>
          <a:prstGeom prst="bentConnector3">
            <a:avLst>
              <a:gd name="adj1" fmla="val 4976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2" idx="2"/>
            <a:endCxn id="65" idx="3"/>
          </p:cNvCxnSpPr>
          <p:nvPr/>
        </p:nvCxnSpPr>
        <p:spPr>
          <a:xfrm>
            <a:off x="5028840" y="1371240"/>
            <a:ext cx="3960" cy="1670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" name=""/>
          <p:cNvSpPr/>
          <p:nvPr/>
        </p:nvSpPr>
        <p:spPr>
          <a:xfrm>
            <a:off x="380880" y="3505320"/>
            <a:ext cx="1828800" cy="457200"/>
          </a:xfrm>
          <a:prstGeom prst="roundRect">
            <a:avLst>
              <a:gd name="adj" fmla="val 368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lowN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4" idx="1"/>
            <a:endCxn id="69" idx="3"/>
          </p:cNvCxnSpPr>
          <p:nvPr/>
        </p:nvCxnSpPr>
        <p:spPr>
          <a:xfrm flipH="1">
            <a:off x="2208960" y="3733560"/>
            <a:ext cx="167724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headEnd len="med" type="arrow" w="med"/>
          </a:ln>
        </p:spPr>
      </p:cxnSp>
      <p:sp>
        <p:nvSpPr>
          <p:cNvPr id="71" name=""/>
          <p:cNvSpPr/>
          <p:nvPr/>
        </p:nvSpPr>
        <p:spPr>
          <a:xfrm>
            <a:off x="2516040" y="3352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«uses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724280" y="2809800"/>
            <a:ext cx="22860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195120"/>
            <a:ext cx="22860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29196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rived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(i.e. the "son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a.k.a "subclas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152280"/>
            <a:ext cx="22860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227160"/>
            <a:ext cx="198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(i.e. the "father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a.k.a "superclas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4457520" y="64764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77" idx="3"/>
            <a:endCxn id="73" idx="3"/>
          </p:cNvCxnSpPr>
          <p:nvPr/>
        </p:nvCxnSpPr>
        <p:spPr>
          <a:xfrm flipH="1">
            <a:off x="3504600" y="798480"/>
            <a:ext cx="9133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" name=""/>
          <p:cNvSpPr/>
          <p:nvPr/>
        </p:nvSpPr>
        <p:spPr>
          <a:xfrm>
            <a:off x="1219320" y="1490760"/>
            <a:ext cx="22860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1587600"/>
            <a:ext cx="1905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(e.g. impor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481040"/>
            <a:ext cx="22860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1522440"/>
            <a:ext cx="1981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depe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(e.g. expor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81" idx="1"/>
            <a:endCxn id="79" idx="3"/>
          </p:cNvCxnSpPr>
          <p:nvPr/>
        </p:nvCxnSpPr>
        <p:spPr>
          <a:xfrm flipH="1">
            <a:off x="3504960" y="2090880"/>
            <a:ext cx="1219680" cy="10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headEnd len="med" type="arrow" w="med"/>
          </a:ln>
        </p:spPr>
      </p:cxnSp>
      <p:sp>
        <p:nvSpPr>
          <p:cNvPr id="84" name=""/>
          <p:cNvSpPr/>
          <p:nvPr/>
        </p:nvSpPr>
        <p:spPr>
          <a:xfrm>
            <a:off x="1219320" y="2819520"/>
            <a:ext cx="22860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3049560"/>
            <a:ext cx="1904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(i.e. the "owned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3049560"/>
            <a:ext cx="198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(i.e. the own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3"/>
            <a:endCxn id="72" idx="1"/>
          </p:cNvCxnSpPr>
          <p:nvPr/>
        </p:nvCxnSpPr>
        <p:spPr>
          <a:xfrm flipV="1">
            <a:off x="3809880" y="3418920"/>
            <a:ext cx="915120" cy="68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3505320" y="331164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5486400"/>
            <a:ext cx="22860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5484960"/>
            <a:ext cx="22860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571500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terface 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terfac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90" idx="3"/>
          </p:cNvCxnSpPr>
          <p:nvPr/>
        </p:nvCxnSpPr>
        <p:spPr>
          <a:xfrm>
            <a:off x="3504960" y="6094440"/>
            <a:ext cx="5338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94" name=""/>
          <p:cNvSpPr/>
          <p:nvPr/>
        </p:nvSpPr>
        <p:spPr>
          <a:xfrm>
            <a:off x="4091040" y="5977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1"/>
          </p:cNvCxnSpPr>
          <p:nvPr/>
        </p:nvCxnSpPr>
        <p:spPr>
          <a:xfrm>
            <a:off x="4319640" y="6090840"/>
            <a:ext cx="40536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 rot="16200000">
            <a:off x="3994920" y="5931720"/>
            <a:ext cx="380880" cy="316080"/>
          </a:xfrm>
          <a:prstGeom prst="blockArc">
            <a:avLst>
              <a:gd name="adj1" fmla="val 11998732"/>
              <a:gd name="adj2" fmla="val 20401268"/>
              <a:gd name="adj3" fmla="val 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4157640"/>
            <a:ext cx="22860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4156200"/>
            <a:ext cx="22860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4386240"/>
            <a:ext cx="1904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ther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(e.g. Boo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4386240"/>
            <a:ext cx="198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(e.g. a Libr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8" idx="3"/>
            <a:endCxn id="97" idx="1"/>
          </p:cNvCxnSpPr>
          <p:nvPr/>
        </p:nvCxnSpPr>
        <p:spPr>
          <a:xfrm>
            <a:off x="3505320" y="4765680"/>
            <a:ext cx="12196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3506760" y="4419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21160" y="446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280" y="304920"/>
            <a:ext cx="1752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304920"/>
            <a:ext cx="1752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bject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4" idx="3"/>
            <a:endCxn id="105" idx="1"/>
          </p:cNvCxnSpPr>
          <p:nvPr/>
        </p:nvCxnSpPr>
        <p:spPr>
          <a:xfrm>
            <a:off x="1904760" y="761760"/>
            <a:ext cx="28962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2589480" y="2286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86200" y="152280"/>
            <a:ext cx="19051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ird Sour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de nobo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nderst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0120" y="414360"/>
            <a:ext cx="12189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8" idx="3"/>
            <a:endCxn id="109" idx="1"/>
          </p:cNvCxnSpPr>
          <p:nvPr/>
        </p:nvCxnSpPr>
        <p:spPr>
          <a:xfrm flipV="1">
            <a:off x="5791320" y="870840"/>
            <a:ext cx="182952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6018480" y="33804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95200"/>
            <a:ext cx="1149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2" idx="3"/>
            <a:endCxn id="108" idx="1"/>
          </p:cNvCxnSpPr>
          <p:nvPr/>
        </p:nvCxnSpPr>
        <p:spPr>
          <a:xfrm>
            <a:off x="1301400" y="866880"/>
            <a:ext cx="25851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1368000" y="338040"/>
            <a:ext cx="24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ransmog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320" y="76320"/>
            <a:ext cx="1143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152280"/>
            <a:ext cx="12189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228600"/>
            <a:ext cx="1600200" cy="228600"/>
          </a:xfrm>
          <a:custGeom>
            <a:avLst/>
            <a:gdLst/>
            <a:ahLst/>
            <a:rect l="l" t="t" r="r" b="b"/>
            <a:pathLst>
              <a:path w="1008" h="144">
                <a:moveTo>
                  <a:pt x="0" y="144"/>
                </a:moveTo>
                <a:cubicBezTo>
                  <a:pt x="180" y="72"/>
                  <a:pt x="360" y="0"/>
                  <a:pt x="528" y="0"/>
                </a:cubicBezTo>
                <a:cubicBezTo>
                  <a:pt x="696" y="0"/>
                  <a:pt x="928" y="120"/>
                  <a:pt x="1008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1219320"/>
            <a:ext cx="1143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152280"/>
            <a:ext cx="12193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1295280"/>
            <a:ext cx="12193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2438280"/>
            <a:ext cx="1752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op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nother 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8" idx="3"/>
            <a:endCxn id="119" idx="1"/>
          </p:cNvCxnSpPr>
          <p:nvPr/>
        </p:nvCxnSpPr>
        <p:spPr>
          <a:xfrm flipV="1">
            <a:off x="1447920" y="532800"/>
            <a:ext cx="129600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8" idx="3"/>
            <a:endCxn id="120" idx="1"/>
          </p:cNvCxnSpPr>
          <p:nvPr/>
        </p:nvCxnSpPr>
        <p:spPr>
          <a:xfrm>
            <a:off x="1447920" y="1600200"/>
            <a:ext cx="175320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8" idx="1"/>
            <a:endCxn id="121" idx="2"/>
          </p:cNvCxnSpPr>
          <p:nvPr/>
        </p:nvCxnSpPr>
        <p:spPr>
          <a:xfrm flipH="1" flipV="1" rot="10800000">
            <a:off x="304560" y="1599120"/>
            <a:ext cx="3086640" cy="1677240"/>
          </a:xfrm>
          <a:prstGeom prst="curvedConnector5">
            <a:avLst>
              <a:gd name="adj1" fmla="val -7406"/>
              <a:gd name="adj2" fmla="val 56805"/>
              <a:gd name="adj3" fmla="val -7406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280" y="152280"/>
            <a:ext cx="11430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1143000"/>
            <a:ext cx="1752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Just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3"/>
            <a:endCxn id="126" idx="1"/>
          </p:cNvCxnSpPr>
          <p:nvPr/>
        </p:nvCxnSpPr>
        <p:spPr>
          <a:xfrm>
            <a:off x="1294920" y="533160"/>
            <a:ext cx="1143720" cy="1028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04920" y="1295280"/>
            <a:ext cx="11430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438280"/>
            <a:ext cx="16761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Yet ag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nother 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3"/>
            <a:endCxn id="126" idx="2"/>
          </p:cNvCxnSpPr>
          <p:nvPr/>
        </p:nvCxnSpPr>
        <p:spPr>
          <a:xfrm flipV="1">
            <a:off x="1980720" y="1980360"/>
            <a:ext cx="1334520" cy="8773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3"/>
            <a:endCxn id="126" idx="3"/>
          </p:cNvCxnSpPr>
          <p:nvPr/>
        </p:nvCxnSpPr>
        <p:spPr>
          <a:xfrm flipV="1">
            <a:off x="1447920" y="1561680"/>
            <a:ext cx="2743920" cy="115200"/>
          </a:xfrm>
          <a:prstGeom prst="curvedConnector5">
            <a:avLst>
              <a:gd name="adj1" fmla="val 18055"/>
              <a:gd name="adj2" fmla="val -233228"/>
              <a:gd name="adj3" fmla="val 18055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0T23:27:17Z</dcterms:created>
  <dc:creator>sjj</dc:creator>
  <dc:description/>
  <dc:language>en-US</dc:language>
  <cp:lastModifiedBy>sjj</cp:lastModifiedBy>
  <dcterms:modified xsi:type="dcterms:W3CDTF">2016-08-03T14:28:46Z</dcterms:modified>
  <cp:revision>24</cp:revision>
  <dc:subject/>
  <dc:title>PowerPoint Presentation</dc:title>
</cp:coreProperties>
</file>