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3C8-8D30-4FBC-BC7F-E5E4BDF9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88C-EE64-416E-998F-3E32A9A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BBB-49B2-4533-B101-62013459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B22-9AF9-4BF1-B857-59867601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B9A-ECFA-4168-98FA-83831453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660-7678-4679-B68D-C4FCFA2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37B-9D25-45E3-BA14-CF2C6382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D13-2E23-4197-A0F6-0810C1F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2A8-9E18-49D3-A5A3-41C969BD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A71-2D16-444F-A791-3CB9E51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351-2376-4056-9D09-14B39B7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55C-89C8-4389-B435-293FA41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F621-69EA-4EAC-9A0E-296620525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1646280"/>
            <a:ext cx="4584960" cy="2865240"/>
          </a:xfrm>
          <a:custGeom>
            <a:avLst/>
            <a:gdLst/>
            <a:ahLst/>
            <a:rect l="l" t="t" r="r" b="b"/>
            <a:pathLst>
              <a:path w="2750" h="1805">
                <a:moveTo>
                  <a:pt x="0" y="1805"/>
                </a:moveTo>
                <a:cubicBezTo>
                  <a:pt x="22" y="1743"/>
                  <a:pt x="27" y="1676"/>
                  <a:pt x="46" y="1613"/>
                </a:cubicBezTo>
                <a:cubicBezTo>
                  <a:pt x="66" y="1361"/>
                  <a:pt x="36" y="1063"/>
                  <a:pt x="100" y="822"/>
                </a:cubicBezTo>
                <a:cubicBezTo>
                  <a:pt x="108" y="753"/>
                  <a:pt x="110" y="650"/>
                  <a:pt x="131" y="591"/>
                </a:cubicBezTo>
                <a:cubicBezTo>
                  <a:pt x="142" y="504"/>
                  <a:pt x="166" y="422"/>
                  <a:pt x="192" y="338"/>
                </a:cubicBezTo>
                <a:cubicBezTo>
                  <a:pt x="219" y="438"/>
                  <a:pt x="180" y="305"/>
                  <a:pt x="215" y="391"/>
                </a:cubicBezTo>
                <a:cubicBezTo>
                  <a:pt x="263" y="509"/>
                  <a:pt x="213" y="419"/>
                  <a:pt x="261" y="499"/>
                </a:cubicBezTo>
                <a:cubicBezTo>
                  <a:pt x="317" y="722"/>
                  <a:pt x="347" y="948"/>
                  <a:pt x="384" y="1175"/>
                </a:cubicBezTo>
                <a:cubicBezTo>
                  <a:pt x="397" y="1257"/>
                  <a:pt x="402" y="1340"/>
                  <a:pt x="423" y="1421"/>
                </a:cubicBezTo>
                <a:cubicBezTo>
                  <a:pt x="429" y="1477"/>
                  <a:pt x="436" y="1536"/>
                  <a:pt x="453" y="1590"/>
                </a:cubicBezTo>
                <a:cubicBezTo>
                  <a:pt x="492" y="1534"/>
                  <a:pt x="488" y="1453"/>
                  <a:pt x="515" y="1390"/>
                </a:cubicBezTo>
                <a:cubicBezTo>
                  <a:pt x="526" y="1294"/>
                  <a:pt x="556" y="1201"/>
                  <a:pt x="576" y="1106"/>
                </a:cubicBezTo>
                <a:cubicBezTo>
                  <a:pt x="595" y="1014"/>
                  <a:pt x="613" y="922"/>
                  <a:pt x="630" y="829"/>
                </a:cubicBezTo>
                <a:cubicBezTo>
                  <a:pt x="641" y="768"/>
                  <a:pt x="639" y="703"/>
                  <a:pt x="661" y="645"/>
                </a:cubicBezTo>
                <a:cubicBezTo>
                  <a:pt x="719" y="488"/>
                  <a:pt x="742" y="321"/>
                  <a:pt x="791" y="161"/>
                </a:cubicBezTo>
                <a:cubicBezTo>
                  <a:pt x="801" y="199"/>
                  <a:pt x="813" y="222"/>
                  <a:pt x="837" y="253"/>
                </a:cubicBezTo>
                <a:cubicBezTo>
                  <a:pt x="856" y="328"/>
                  <a:pt x="871" y="401"/>
                  <a:pt x="891" y="476"/>
                </a:cubicBezTo>
                <a:cubicBezTo>
                  <a:pt x="916" y="570"/>
                  <a:pt x="913" y="673"/>
                  <a:pt x="930" y="768"/>
                </a:cubicBezTo>
                <a:cubicBezTo>
                  <a:pt x="936" y="848"/>
                  <a:pt x="948" y="915"/>
                  <a:pt x="968" y="991"/>
                </a:cubicBezTo>
                <a:cubicBezTo>
                  <a:pt x="990" y="926"/>
                  <a:pt x="1011" y="857"/>
                  <a:pt x="1029" y="791"/>
                </a:cubicBezTo>
                <a:cubicBezTo>
                  <a:pt x="1040" y="750"/>
                  <a:pt x="1046" y="708"/>
                  <a:pt x="1060" y="668"/>
                </a:cubicBezTo>
                <a:cubicBezTo>
                  <a:pt x="1077" y="695"/>
                  <a:pt x="1106" y="752"/>
                  <a:pt x="1106" y="752"/>
                </a:cubicBezTo>
                <a:cubicBezTo>
                  <a:pt x="1122" y="831"/>
                  <a:pt x="1138" y="915"/>
                  <a:pt x="1183" y="983"/>
                </a:cubicBezTo>
                <a:cubicBezTo>
                  <a:pt x="1192" y="1017"/>
                  <a:pt x="1196" y="1057"/>
                  <a:pt x="1221" y="1083"/>
                </a:cubicBezTo>
                <a:cubicBezTo>
                  <a:pt x="1228" y="1109"/>
                  <a:pt x="1236" y="1134"/>
                  <a:pt x="1244" y="1159"/>
                </a:cubicBezTo>
                <a:cubicBezTo>
                  <a:pt x="1276" y="1100"/>
                  <a:pt x="1271" y="1025"/>
                  <a:pt x="1283" y="960"/>
                </a:cubicBezTo>
                <a:cubicBezTo>
                  <a:pt x="1318" y="774"/>
                  <a:pt x="1354" y="584"/>
                  <a:pt x="1421" y="407"/>
                </a:cubicBezTo>
                <a:cubicBezTo>
                  <a:pt x="1424" y="389"/>
                  <a:pt x="1425" y="371"/>
                  <a:pt x="1429" y="353"/>
                </a:cubicBezTo>
                <a:cubicBezTo>
                  <a:pt x="1433" y="337"/>
                  <a:pt x="1441" y="323"/>
                  <a:pt x="1444" y="307"/>
                </a:cubicBezTo>
                <a:cubicBezTo>
                  <a:pt x="1457" y="242"/>
                  <a:pt x="1463" y="179"/>
                  <a:pt x="1482" y="115"/>
                </a:cubicBezTo>
                <a:cubicBezTo>
                  <a:pt x="1494" y="76"/>
                  <a:pt x="1511" y="40"/>
                  <a:pt x="1521" y="0"/>
                </a:cubicBezTo>
                <a:cubicBezTo>
                  <a:pt x="1556" y="35"/>
                  <a:pt x="1552" y="66"/>
                  <a:pt x="1559" y="115"/>
                </a:cubicBezTo>
                <a:cubicBezTo>
                  <a:pt x="1572" y="199"/>
                  <a:pt x="1586" y="285"/>
                  <a:pt x="1605" y="368"/>
                </a:cubicBezTo>
                <a:cubicBezTo>
                  <a:pt x="1666" y="628"/>
                  <a:pt x="1737" y="886"/>
                  <a:pt x="1805" y="1144"/>
                </a:cubicBezTo>
                <a:cubicBezTo>
                  <a:pt x="1825" y="1222"/>
                  <a:pt x="1860" y="1296"/>
                  <a:pt x="1874" y="1375"/>
                </a:cubicBezTo>
                <a:cubicBezTo>
                  <a:pt x="1889" y="1459"/>
                  <a:pt x="1929" y="1526"/>
                  <a:pt x="1959" y="1605"/>
                </a:cubicBezTo>
                <a:cubicBezTo>
                  <a:pt x="1975" y="1647"/>
                  <a:pt x="1990" y="1698"/>
                  <a:pt x="2035" y="1712"/>
                </a:cubicBezTo>
                <a:cubicBezTo>
                  <a:pt x="2078" y="1547"/>
                  <a:pt x="2097" y="1372"/>
                  <a:pt x="2158" y="1213"/>
                </a:cubicBezTo>
                <a:cubicBezTo>
                  <a:pt x="2161" y="1198"/>
                  <a:pt x="2162" y="1182"/>
                  <a:pt x="2166" y="1167"/>
                </a:cubicBezTo>
                <a:cubicBezTo>
                  <a:pt x="2169" y="1156"/>
                  <a:pt x="2178" y="1147"/>
                  <a:pt x="2181" y="1136"/>
                </a:cubicBezTo>
                <a:cubicBezTo>
                  <a:pt x="2204" y="1058"/>
                  <a:pt x="2216" y="976"/>
                  <a:pt x="2243" y="898"/>
                </a:cubicBezTo>
                <a:cubicBezTo>
                  <a:pt x="2283" y="1029"/>
                  <a:pt x="2333" y="1158"/>
                  <a:pt x="2373" y="1290"/>
                </a:cubicBezTo>
                <a:cubicBezTo>
                  <a:pt x="2395" y="1360"/>
                  <a:pt x="2408" y="1423"/>
                  <a:pt x="2435" y="1490"/>
                </a:cubicBezTo>
                <a:cubicBezTo>
                  <a:pt x="2444" y="1547"/>
                  <a:pt x="2471" y="1590"/>
                  <a:pt x="2489" y="1643"/>
                </a:cubicBezTo>
                <a:cubicBezTo>
                  <a:pt x="2524" y="1608"/>
                  <a:pt x="2525" y="1553"/>
                  <a:pt x="2535" y="1505"/>
                </a:cubicBezTo>
                <a:cubicBezTo>
                  <a:pt x="2539" y="1323"/>
                  <a:pt x="2543" y="1084"/>
                  <a:pt x="2550" y="898"/>
                </a:cubicBezTo>
                <a:cubicBezTo>
                  <a:pt x="2553" y="815"/>
                  <a:pt x="2551" y="713"/>
                  <a:pt x="2573" y="630"/>
                </a:cubicBezTo>
                <a:cubicBezTo>
                  <a:pt x="2576" y="609"/>
                  <a:pt x="2577" y="589"/>
                  <a:pt x="2581" y="568"/>
                </a:cubicBezTo>
                <a:cubicBezTo>
                  <a:pt x="2582" y="560"/>
                  <a:pt x="2580" y="548"/>
                  <a:pt x="2588" y="545"/>
                </a:cubicBezTo>
                <a:cubicBezTo>
                  <a:pt x="2602" y="540"/>
                  <a:pt x="2623" y="600"/>
                  <a:pt x="2627" y="607"/>
                </a:cubicBezTo>
                <a:cubicBezTo>
                  <a:pt x="2633" y="618"/>
                  <a:pt x="2643" y="626"/>
                  <a:pt x="2650" y="637"/>
                </a:cubicBezTo>
                <a:cubicBezTo>
                  <a:pt x="2675" y="677"/>
                  <a:pt x="2689" y="739"/>
                  <a:pt x="2711" y="783"/>
                </a:cubicBezTo>
                <a:cubicBezTo>
                  <a:pt x="2724" y="810"/>
                  <a:pt x="2728" y="846"/>
                  <a:pt x="2750" y="8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408400"/>
            <a:ext cx="4584960" cy="1325520"/>
          </a:xfrm>
          <a:custGeom>
            <a:avLst/>
            <a:gdLst/>
            <a:ahLst/>
            <a:rect l="l" t="t" r="r" b="b"/>
            <a:pathLst>
              <a:path w="2750" h="1805">
                <a:moveTo>
                  <a:pt x="0" y="1805"/>
                </a:moveTo>
                <a:cubicBezTo>
                  <a:pt x="22" y="1743"/>
                  <a:pt x="27" y="1676"/>
                  <a:pt x="46" y="1613"/>
                </a:cubicBezTo>
                <a:cubicBezTo>
                  <a:pt x="66" y="1361"/>
                  <a:pt x="36" y="1063"/>
                  <a:pt x="100" y="822"/>
                </a:cubicBezTo>
                <a:cubicBezTo>
                  <a:pt x="108" y="753"/>
                  <a:pt x="110" y="650"/>
                  <a:pt x="131" y="591"/>
                </a:cubicBezTo>
                <a:cubicBezTo>
                  <a:pt x="142" y="504"/>
                  <a:pt x="166" y="422"/>
                  <a:pt x="192" y="338"/>
                </a:cubicBezTo>
                <a:cubicBezTo>
                  <a:pt x="219" y="438"/>
                  <a:pt x="180" y="305"/>
                  <a:pt x="215" y="391"/>
                </a:cubicBezTo>
                <a:cubicBezTo>
                  <a:pt x="263" y="509"/>
                  <a:pt x="213" y="419"/>
                  <a:pt x="261" y="499"/>
                </a:cubicBezTo>
                <a:cubicBezTo>
                  <a:pt x="317" y="722"/>
                  <a:pt x="347" y="948"/>
                  <a:pt x="384" y="1175"/>
                </a:cubicBezTo>
                <a:cubicBezTo>
                  <a:pt x="397" y="1257"/>
                  <a:pt x="402" y="1340"/>
                  <a:pt x="423" y="1421"/>
                </a:cubicBezTo>
                <a:cubicBezTo>
                  <a:pt x="429" y="1477"/>
                  <a:pt x="436" y="1536"/>
                  <a:pt x="453" y="1590"/>
                </a:cubicBezTo>
                <a:cubicBezTo>
                  <a:pt x="492" y="1534"/>
                  <a:pt x="488" y="1453"/>
                  <a:pt x="515" y="1390"/>
                </a:cubicBezTo>
                <a:cubicBezTo>
                  <a:pt x="526" y="1294"/>
                  <a:pt x="556" y="1201"/>
                  <a:pt x="576" y="1106"/>
                </a:cubicBezTo>
                <a:cubicBezTo>
                  <a:pt x="595" y="1014"/>
                  <a:pt x="613" y="922"/>
                  <a:pt x="630" y="829"/>
                </a:cubicBezTo>
                <a:cubicBezTo>
                  <a:pt x="641" y="768"/>
                  <a:pt x="639" y="703"/>
                  <a:pt x="661" y="645"/>
                </a:cubicBezTo>
                <a:cubicBezTo>
                  <a:pt x="719" y="488"/>
                  <a:pt x="742" y="321"/>
                  <a:pt x="791" y="161"/>
                </a:cubicBezTo>
                <a:cubicBezTo>
                  <a:pt x="801" y="199"/>
                  <a:pt x="813" y="222"/>
                  <a:pt x="837" y="253"/>
                </a:cubicBezTo>
                <a:cubicBezTo>
                  <a:pt x="856" y="328"/>
                  <a:pt x="871" y="401"/>
                  <a:pt x="891" y="476"/>
                </a:cubicBezTo>
                <a:cubicBezTo>
                  <a:pt x="916" y="570"/>
                  <a:pt x="913" y="673"/>
                  <a:pt x="930" y="768"/>
                </a:cubicBezTo>
                <a:cubicBezTo>
                  <a:pt x="936" y="848"/>
                  <a:pt x="948" y="915"/>
                  <a:pt x="968" y="991"/>
                </a:cubicBezTo>
                <a:cubicBezTo>
                  <a:pt x="990" y="926"/>
                  <a:pt x="1011" y="857"/>
                  <a:pt x="1029" y="791"/>
                </a:cubicBezTo>
                <a:cubicBezTo>
                  <a:pt x="1040" y="750"/>
                  <a:pt x="1046" y="708"/>
                  <a:pt x="1060" y="668"/>
                </a:cubicBezTo>
                <a:cubicBezTo>
                  <a:pt x="1077" y="695"/>
                  <a:pt x="1106" y="752"/>
                  <a:pt x="1106" y="752"/>
                </a:cubicBezTo>
                <a:cubicBezTo>
                  <a:pt x="1122" y="831"/>
                  <a:pt x="1138" y="915"/>
                  <a:pt x="1183" y="983"/>
                </a:cubicBezTo>
                <a:cubicBezTo>
                  <a:pt x="1192" y="1017"/>
                  <a:pt x="1196" y="1057"/>
                  <a:pt x="1221" y="1083"/>
                </a:cubicBezTo>
                <a:cubicBezTo>
                  <a:pt x="1228" y="1109"/>
                  <a:pt x="1236" y="1134"/>
                  <a:pt x="1244" y="1159"/>
                </a:cubicBezTo>
                <a:cubicBezTo>
                  <a:pt x="1276" y="1100"/>
                  <a:pt x="1271" y="1025"/>
                  <a:pt x="1283" y="960"/>
                </a:cubicBezTo>
                <a:cubicBezTo>
                  <a:pt x="1318" y="774"/>
                  <a:pt x="1354" y="584"/>
                  <a:pt x="1421" y="407"/>
                </a:cubicBezTo>
                <a:cubicBezTo>
                  <a:pt x="1424" y="389"/>
                  <a:pt x="1425" y="371"/>
                  <a:pt x="1429" y="353"/>
                </a:cubicBezTo>
                <a:cubicBezTo>
                  <a:pt x="1433" y="337"/>
                  <a:pt x="1441" y="323"/>
                  <a:pt x="1444" y="307"/>
                </a:cubicBezTo>
                <a:cubicBezTo>
                  <a:pt x="1457" y="242"/>
                  <a:pt x="1463" y="179"/>
                  <a:pt x="1482" y="115"/>
                </a:cubicBezTo>
                <a:cubicBezTo>
                  <a:pt x="1494" y="76"/>
                  <a:pt x="1511" y="40"/>
                  <a:pt x="1521" y="0"/>
                </a:cubicBezTo>
                <a:cubicBezTo>
                  <a:pt x="1556" y="35"/>
                  <a:pt x="1552" y="66"/>
                  <a:pt x="1559" y="115"/>
                </a:cubicBezTo>
                <a:cubicBezTo>
                  <a:pt x="1572" y="199"/>
                  <a:pt x="1586" y="285"/>
                  <a:pt x="1605" y="368"/>
                </a:cubicBezTo>
                <a:cubicBezTo>
                  <a:pt x="1666" y="628"/>
                  <a:pt x="1737" y="886"/>
                  <a:pt x="1805" y="1144"/>
                </a:cubicBezTo>
                <a:cubicBezTo>
                  <a:pt x="1825" y="1222"/>
                  <a:pt x="1860" y="1296"/>
                  <a:pt x="1874" y="1375"/>
                </a:cubicBezTo>
                <a:cubicBezTo>
                  <a:pt x="1889" y="1459"/>
                  <a:pt x="1929" y="1526"/>
                  <a:pt x="1959" y="1605"/>
                </a:cubicBezTo>
                <a:cubicBezTo>
                  <a:pt x="1975" y="1647"/>
                  <a:pt x="1990" y="1698"/>
                  <a:pt x="2035" y="1712"/>
                </a:cubicBezTo>
                <a:cubicBezTo>
                  <a:pt x="2078" y="1547"/>
                  <a:pt x="2097" y="1372"/>
                  <a:pt x="2158" y="1213"/>
                </a:cubicBezTo>
                <a:cubicBezTo>
                  <a:pt x="2161" y="1198"/>
                  <a:pt x="2162" y="1182"/>
                  <a:pt x="2166" y="1167"/>
                </a:cubicBezTo>
                <a:cubicBezTo>
                  <a:pt x="2169" y="1156"/>
                  <a:pt x="2178" y="1147"/>
                  <a:pt x="2181" y="1136"/>
                </a:cubicBezTo>
                <a:cubicBezTo>
                  <a:pt x="2204" y="1058"/>
                  <a:pt x="2216" y="976"/>
                  <a:pt x="2243" y="898"/>
                </a:cubicBezTo>
                <a:cubicBezTo>
                  <a:pt x="2283" y="1029"/>
                  <a:pt x="2333" y="1158"/>
                  <a:pt x="2373" y="1290"/>
                </a:cubicBezTo>
                <a:cubicBezTo>
                  <a:pt x="2395" y="1360"/>
                  <a:pt x="2408" y="1423"/>
                  <a:pt x="2435" y="1490"/>
                </a:cubicBezTo>
                <a:cubicBezTo>
                  <a:pt x="2444" y="1547"/>
                  <a:pt x="2471" y="1590"/>
                  <a:pt x="2489" y="1643"/>
                </a:cubicBezTo>
                <a:cubicBezTo>
                  <a:pt x="2524" y="1608"/>
                  <a:pt x="2525" y="1553"/>
                  <a:pt x="2535" y="1505"/>
                </a:cubicBezTo>
                <a:cubicBezTo>
                  <a:pt x="2539" y="1323"/>
                  <a:pt x="2543" y="1084"/>
                  <a:pt x="2550" y="898"/>
                </a:cubicBezTo>
                <a:cubicBezTo>
                  <a:pt x="2553" y="815"/>
                  <a:pt x="2551" y="713"/>
                  <a:pt x="2573" y="630"/>
                </a:cubicBezTo>
                <a:cubicBezTo>
                  <a:pt x="2576" y="609"/>
                  <a:pt x="2577" y="589"/>
                  <a:pt x="2581" y="568"/>
                </a:cubicBezTo>
                <a:cubicBezTo>
                  <a:pt x="2582" y="560"/>
                  <a:pt x="2580" y="548"/>
                  <a:pt x="2588" y="545"/>
                </a:cubicBezTo>
                <a:cubicBezTo>
                  <a:pt x="2602" y="540"/>
                  <a:pt x="2623" y="600"/>
                  <a:pt x="2627" y="607"/>
                </a:cubicBezTo>
                <a:cubicBezTo>
                  <a:pt x="2633" y="618"/>
                  <a:pt x="2643" y="626"/>
                  <a:pt x="2650" y="637"/>
                </a:cubicBezTo>
                <a:cubicBezTo>
                  <a:pt x="2675" y="677"/>
                  <a:pt x="2689" y="739"/>
                  <a:pt x="2711" y="783"/>
                </a:cubicBezTo>
                <a:cubicBezTo>
                  <a:pt x="2724" y="810"/>
                  <a:pt x="2728" y="846"/>
                  <a:pt x="2750" y="8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265400"/>
            <a:ext cx="4584960" cy="1325520"/>
          </a:xfrm>
          <a:custGeom>
            <a:avLst/>
            <a:gdLst/>
            <a:ahLst/>
            <a:rect l="l" t="t" r="r" b="b"/>
            <a:pathLst>
              <a:path w="2750" h="1805">
                <a:moveTo>
                  <a:pt x="0" y="1805"/>
                </a:moveTo>
                <a:cubicBezTo>
                  <a:pt x="22" y="1743"/>
                  <a:pt x="27" y="1676"/>
                  <a:pt x="46" y="1613"/>
                </a:cubicBezTo>
                <a:cubicBezTo>
                  <a:pt x="66" y="1361"/>
                  <a:pt x="36" y="1063"/>
                  <a:pt x="100" y="822"/>
                </a:cubicBezTo>
                <a:cubicBezTo>
                  <a:pt x="108" y="753"/>
                  <a:pt x="110" y="650"/>
                  <a:pt x="131" y="591"/>
                </a:cubicBezTo>
                <a:cubicBezTo>
                  <a:pt x="142" y="504"/>
                  <a:pt x="166" y="422"/>
                  <a:pt x="192" y="338"/>
                </a:cubicBezTo>
                <a:cubicBezTo>
                  <a:pt x="219" y="438"/>
                  <a:pt x="180" y="305"/>
                  <a:pt x="215" y="391"/>
                </a:cubicBezTo>
                <a:cubicBezTo>
                  <a:pt x="263" y="509"/>
                  <a:pt x="213" y="419"/>
                  <a:pt x="261" y="499"/>
                </a:cubicBezTo>
                <a:cubicBezTo>
                  <a:pt x="317" y="722"/>
                  <a:pt x="347" y="948"/>
                  <a:pt x="384" y="1175"/>
                </a:cubicBezTo>
                <a:cubicBezTo>
                  <a:pt x="397" y="1257"/>
                  <a:pt x="402" y="1340"/>
                  <a:pt x="423" y="1421"/>
                </a:cubicBezTo>
                <a:cubicBezTo>
                  <a:pt x="429" y="1477"/>
                  <a:pt x="436" y="1536"/>
                  <a:pt x="453" y="1590"/>
                </a:cubicBezTo>
                <a:cubicBezTo>
                  <a:pt x="492" y="1534"/>
                  <a:pt x="488" y="1453"/>
                  <a:pt x="515" y="1390"/>
                </a:cubicBezTo>
                <a:cubicBezTo>
                  <a:pt x="526" y="1294"/>
                  <a:pt x="556" y="1201"/>
                  <a:pt x="576" y="1106"/>
                </a:cubicBezTo>
                <a:cubicBezTo>
                  <a:pt x="595" y="1014"/>
                  <a:pt x="613" y="922"/>
                  <a:pt x="630" y="829"/>
                </a:cubicBezTo>
                <a:cubicBezTo>
                  <a:pt x="641" y="768"/>
                  <a:pt x="639" y="703"/>
                  <a:pt x="661" y="645"/>
                </a:cubicBezTo>
                <a:cubicBezTo>
                  <a:pt x="719" y="488"/>
                  <a:pt x="742" y="321"/>
                  <a:pt x="791" y="161"/>
                </a:cubicBezTo>
                <a:cubicBezTo>
                  <a:pt x="801" y="199"/>
                  <a:pt x="813" y="222"/>
                  <a:pt x="837" y="253"/>
                </a:cubicBezTo>
                <a:cubicBezTo>
                  <a:pt x="856" y="328"/>
                  <a:pt x="871" y="401"/>
                  <a:pt x="891" y="476"/>
                </a:cubicBezTo>
                <a:cubicBezTo>
                  <a:pt x="916" y="570"/>
                  <a:pt x="913" y="673"/>
                  <a:pt x="930" y="768"/>
                </a:cubicBezTo>
                <a:cubicBezTo>
                  <a:pt x="936" y="848"/>
                  <a:pt x="948" y="915"/>
                  <a:pt x="968" y="991"/>
                </a:cubicBezTo>
                <a:cubicBezTo>
                  <a:pt x="990" y="926"/>
                  <a:pt x="1011" y="857"/>
                  <a:pt x="1029" y="791"/>
                </a:cubicBezTo>
                <a:cubicBezTo>
                  <a:pt x="1040" y="750"/>
                  <a:pt x="1046" y="708"/>
                  <a:pt x="1060" y="668"/>
                </a:cubicBezTo>
                <a:cubicBezTo>
                  <a:pt x="1077" y="695"/>
                  <a:pt x="1106" y="752"/>
                  <a:pt x="1106" y="752"/>
                </a:cubicBezTo>
                <a:cubicBezTo>
                  <a:pt x="1122" y="831"/>
                  <a:pt x="1138" y="915"/>
                  <a:pt x="1183" y="983"/>
                </a:cubicBezTo>
                <a:cubicBezTo>
                  <a:pt x="1192" y="1017"/>
                  <a:pt x="1196" y="1057"/>
                  <a:pt x="1221" y="1083"/>
                </a:cubicBezTo>
                <a:cubicBezTo>
                  <a:pt x="1228" y="1109"/>
                  <a:pt x="1236" y="1134"/>
                  <a:pt x="1244" y="1159"/>
                </a:cubicBezTo>
                <a:cubicBezTo>
                  <a:pt x="1276" y="1100"/>
                  <a:pt x="1271" y="1025"/>
                  <a:pt x="1283" y="960"/>
                </a:cubicBezTo>
                <a:cubicBezTo>
                  <a:pt x="1318" y="774"/>
                  <a:pt x="1354" y="584"/>
                  <a:pt x="1421" y="407"/>
                </a:cubicBezTo>
                <a:cubicBezTo>
                  <a:pt x="1424" y="389"/>
                  <a:pt x="1425" y="371"/>
                  <a:pt x="1429" y="353"/>
                </a:cubicBezTo>
                <a:cubicBezTo>
                  <a:pt x="1433" y="337"/>
                  <a:pt x="1441" y="323"/>
                  <a:pt x="1444" y="307"/>
                </a:cubicBezTo>
                <a:cubicBezTo>
                  <a:pt x="1457" y="242"/>
                  <a:pt x="1463" y="179"/>
                  <a:pt x="1482" y="115"/>
                </a:cubicBezTo>
                <a:cubicBezTo>
                  <a:pt x="1494" y="76"/>
                  <a:pt x="1511" y="40"/>
                  <a:pt x="1521" y="0"/>
                </a:cubicBezTo>
                <a:cubicBezTo>
                  <a:pt x="1556" y="35"/>
                  <a:pt x="1552" y="66"/>
                  <a:pt x="1559" y="115"/>
                </a:cubicBezTo>
                <a:cubicBezTo>
                  <a:pt x="1572" y="199"/>
                  <a:pt x="1586" y="285"/>
                  <a:pt x="1605" y="368"/>
                </a:cubicBezTo>
                <a:cubicBezTo>
                  <a:pt x="1666" y="628"/>
                  <a:pt x="1737" y="886"/>
                  <a:pt x="1805" y="1144"/>
                </a:cubicBezTo>
                <a:cubicBezTo>
                  <a:pt x="1825" y="1222"/>
                  <a:pt x="1860" y="1296"/>
                  <a:pt x="1874" y="1375"/>
                </a:cubicBezTo>
                <a:cubicBezTo>
                  <a:pt x="1889" y="1459"/>
                  <a:pt x="1929" y="1526"/>
                  <a:pt x="1959" y="1605"/>
                </a:cubicBezTo>
                <a:cubicBezTo>
                  <a:pt x="1975" y="1647"/>
                  <a:pt x="1990" y="1698"/>
                  <a:pt x="2035" y="1712"/>
                </a:cubicBezTo>
                <a:cubicBezTo>
                  <a:pt x="2078" y="1547"/>
                  <a:pt x="2097" y="1372"/>
                  <a:pt x="2158" y="1213"/>
                </a:cubicBezTo>
                <a:cubicBezTo>
                  <a:pt x="2161" y="1198"/>
                  <a:pt x="2162" y="1182"/>
                  <a:pt x="2166" y="1167"/>
                </a:cubicBezTo>
                <a:cubicBezTo>
                  <a:pt x="2169" y="1156"/>
                  <a:pt x="2178" y="1147"/>
                  <a:pt x="2181" y="1136"/>
                </a:cubicBezTo>
                <a:cubicBezTo>
                  <a:pt x="2204" y="1058"/>
                  <a:pt x="2216" y="976"/>
                  <a:pt x="2243" y="898"/>
                </a:cubicBezTo>
                <a:cubicBezTo>
                  <a:pt x="2283" y="1029"/>
                  <a:pt x="2333" y="1158"/>
                  <a:pt x="2373" y="1290"/>
                </a:cubicBezTo>
                <a:cubicBezTo>
                  <a:pt x="2395" y="1360"/>
                  <a:pt x="2408" y="1423"/>
                  <a:pt x="2435" y="1490"/>
                </a:cubicBezTo>
                <a:cubicBezTo>
                  <a:pt x="2444" y="1547"/>
                  <a:pt x="2471" y="1590"/>
                  <a:pt x="2489" y="1643"/>
                </a:cubicBezTo>
                <a:cubicBezTo>
                  <a:pt x="2524" y="1608"/>
                  <a:pt x="2525" y="1553"/>
                  <a:pt x="2535" y="1505"/>
                </a:cubicBezTo>
                <a:cubicBezTo>
                  <a:pt x="2539" y="1323"/>
                  <a:pt x="2543" y="1084"/>
                  <a:pt x="2550" y="898"/>
                </a:cubicBezTo>
                <a:cubicBezTo>
                  <a:pt x="2553" y="815"/>
                  <a:pt x="2551" y="713"/>
                  <a:pt x="2573" y="630"/>
                </a:cubicBezTo>
                <a:cubicBezTo>
                  <a:pt x="2576" y="609"/>
                  <a:pt x="2577" y="589"/>
                  <a:pt x="2581" y="568"/>
                </a:cubicBezTo>
                <a:cubicBezTo>
                  <a:pt x="2582" y="560"/>
                  <a:pt x="2580" y="548"/>
                  <a:pt x="2588" y="545"/>
                </a:cubicBezTo>
                <a:cubicBezTo>
                  <a:pt x="2602" y="540"/>
                  <a:pt x="2623" y="600"/>
                  <a:pt x="2627" y="607"/>
                </a:cubicBezTo>
                <a:cubicBezTo>
                  <a:pt x="2633" y="618"/>
                  <a:pt x="2643" y="626"/>
                  <a:pt x="2650" y="637"/>
                </a:cubicBezTo>
                <a:cubicBezTo>
                  <a:pt x="2675" y="677"/>
                  <a:pt x="2689" y="739"/>
                  <a:pt x="2711" y="783"/>
                </a:cubicBezTo>
                <a:cubicBezTo>
                  <a:pt x="2724" y="810"/>
                  <a:pt x="2728" y="846"/>
                  <a:pt x="2750" y="8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8280" y="6094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uch! My 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83808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8280" y="1371600"/>
            <a:ext cx="45720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98400" y="4724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98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1440" y="39625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u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f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810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3504960" y="419076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2040" y="5638680"/>
            <a:ext cx="27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rystal-clear,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compressed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5000" y="1463760"/>
            <a:ext cx="4535280" cy="2998800"/>
          </a:xfrm>
          <a:custGeom>
            <a:avLst/>
            <a:gdLst/>
            <a:ahLst/>
            <a:rect l="l" t="t" r="r" b="b"/>
            <a:pathLst>
              <a:path w="2857" h="1889">
                <a:moveTo>
                  <a:pt x="0" y="1889"/>
                </a:moveTo>
                <a:cubicBezTo>
                  <a:pt x="10" y="1669"/>
                  <a:pt x="21" y="1448"/>
                  <a:pt x="31" y="1228"/>
                </a:cubicBezTo>
                <a:cubicBezTo>
                  <a:pt x="34" y="1170"/>
                  <a:pt x="42" y="1115"/>
                  <a:pt x="54" y="1059"/>
                </a:cubicBezTo>
                <a:cubicBezTo>
                  <a:pt x="60" y="1033"/>
                  <a:pt x="77" y="983"/>
                  <a:pt x="77" y="983"/>
                </a:cubicBezTo>
                <a:cubicBezTo>
                  <a:pt x="90" y="894"/>
                  <a:pt x="97" y="802"/>
                  <a:pt x="115" y="714"/>
                </a:cubicBezTo>
                <a:cubicBezTo>
                  <a:pt x="133" y="626"/>
                  <a:pt x="162" y="542"/>
                  <a:pt x="177" y="453"/>
                </a:cubicBezTo>
                <a:cubicBezTo>
                  <a:pt x="179" y="420"/>
                  <a:pt x="171" y="384"/>
                  <a:pt x="184" y="353"/>
                </a:cubicBezTo>
                <a:cubicBezTo>
                  <a:pt x="186" y="349"/>
                  <a:pt x="204" y="412"/>
                  <a:pt x="207" y="422"/>
                </a:cubicBezTo>
                <a:cubicBezTo>
                  <a:pt x="219" y="457"/>
                  <a:pt x="228" y="503"/>
                  <a:pt x="253" y="530"/>
                </a:cubicBezTo>
                <a:cubicBezTo>
                  <a:pt x="264" y="561"/>
                  <a:pt x="275" y="591"/>
                  <a:pt x="284" y="622"/>
                </a:cubicBezTo>
                <a:cubicBezTo>
                  <a:pt x="298" y="752"/>
                  <a:pt x="319" y="878"/>
                  <a:pt x="346" y="1006"/>
                </a:cubicBezTo>
                <a:cubicBezTo>
                  <a:pt x="369" y="1116"/>
                  <a:pt x="379" y="1227"/>
                  <a:pt x="407" y="1336"/>
                </a:cubicBezTo>
                <a:cubicBezTo>
                  <a:pt x="421" y="1388"/>
                  <a:pt x="430" y="1443"/>
                  <a:pt x="438" y="1497"/>
                </a:cubicBezTo>
                <a:cubicBezTo>
                  <a:pt x="443" y="1530"/>
                  <a:pt x="442" y="1565"/>
                  <a:pt x="453" y="1597"/>
                </a:cubicBezTo>
                <a:cubicBezTo>
                  <a:pt x="458" y="1612"/>
                  <a:pt x="469" y="1643"/>
                  <a:pt x="469" y="1643"/>
                </a:cubicBezTo>
                <a:cubicBezTo>
                  <a:pt x="504" y="1631"/>
                  <a:pt x="495" y="1623"/>
                  <a:pt x="507" y="1589"/>
                </a:cubicBezTo>
                <a:cubicBezTo>
                  <a:pt x="515" y="1491"/>
                  <a:pt x="537" y="1407"/>
                  <a:pt x="553" y="1313"/>
                </a:cubicBezTo>
                <a:cubicBezTo>
                  <a:pt x="565" y="1242"/>
                  <a:pt x="559" y="1235"/>
                  <a:pt x="568" y="1152"/>
                </a:cubicBezTo>
                <a:cubicBezTo>
                  <a:pt x="583" y="1008"/>
                  <a:pt x="620" y="864"/>
                  <a:pt x="645" y="722"/>
                </a:cubicBezTo>
                <a:cubicBezTo>
                  <a:pt x="654" y="670"/>
                  <a:pt x="676" y="620"/>
                  <a:pt x="684" y="568"/>
                </a:cubicBezTo>
                <a:cubicBezTo>
                  <a:pt x="699" y="467"/>
                  <a:pt x="716" y="331"/>
                  <a:pt x="776" y="245"/>
                </a:cubicBezTo>
                <a:cubicBezTo>
                  <a:pt x="784" y="220"/>
                  <a:pt x="793" y="195"/>
                  <a:pt x="799" y="169"/>
                </a:cubicBezTo>
                <a:cubicBezTo>
                  <a:pt x="802" y="159"/>
                  <a:pt x="800" y="146"/>
                  <a:pt x="806" y="138"/>
                </a:cubicBezTo>
                <a:cubicBezTo>
                  <a:pt x="811" y="132"/>
                  <a:pt x="821" y="133"/>
                  <a:pt x="829" y="130"/>
                </a:cubicBezTo>
                <a:cubicBezTo>
                  <a:pt x="840" y="161"/>
                  <a:pt x="851" y="191"/>
                  <a:pt x="860" y="222"/>
                </a:cubicBezTo>
                <a:cubicBezTo>
                  <a:pt x="875" y="324"/>
                  <a:pt x="873" y="428"/>
                  <a:pt x="891" y="530"/>
                </a:cubicBezTo>
                <a:cubicBezTo>
                  <a:pt x="904" y="606"/>
                  <a:pt x="938" y="678"/>
                  <a:pt x="960" y="752"/>
                </a:cubicBezTo>
                <a:cubicBezTo>
                  <a:pt x="974" y="800"/>
                  <a:pt x="983" y="850"/>
                  <a:pt x="998" y="898"/>
                </a:cubicBezTo>
                <a:cubicBezTo>
                  <a:pt x="1004" y="936"/>
                  <a:pt x="1000" y="977"/>
                  <a:pt x="1014" y="1013"/>
                </a:cubicBezTo>
                <a:cubicBezTo>
                  <a:pt x="1017" y="1020"/>
                  <a:pt x="1017" y="997"/>
                  <a:pt x="1021" y="990"/>
                </a:cubicBezTo>
                <a:cubicBezTo>
                  <a:pt x="1025" y="982"/>
                  <a:pt x="1033" y="975"/>
                  <a:pt x="1037" y="967"/>
                </a:cubicBezTo>
                <a:cubicBezTo>
                  <a:pt x="1054" y="934"/>
                  <a:pt x="1062" y="888"/>
                  <a:pt x="1068" y="852"/>
                </a:cubicBezTo>
                <a:cubicBezTo>
                  <a:pt x="1070" y="811"/>
                  <a:pt x="1066" y="769"/>
                  <a:pt x="1075" y="729"/>
                </a:cubicBezTo>
                <a:cubicBezTo>
                  <a:pt x="1077" y="722"/>
                  <a:pt x="1087" y="739"/>
                  <a:pt x="1091" y="745"/>
                </a:cubicBezTo>
                <a:cubicBezTo>
                  <a:pt x="1103" y="766"/>
                  <a:pt x="1107" y="791"/>
                  <a:pt x="1114" y="814"/>
                </a:cubicBezTo>
                <a:cubicBezTo>
                  <a:pt x="1125" y="850"/>
                  <a:pt x="1132" y="895"/>
                  <a:pt x="1160" y="921"/>
                </a:cubicBezTo>
                <a:cubicBezTo>
                  <a:pt x="1179" y="984"/>
                  <a:pt x="1152" y="907"/>
                  <a:pt x="1183" y="960"/>
                </a:cubicBezTo>
                <a:cubicBezTo>
                  <a:pt x="1187" y="967"/>
                  <a:pt x="1186" y="976"/>
                  <a:pt x="1190" y="983"/>
                </a:cubicBezTo>
                <a:cubicBezTo>
                  <a:pt x="1194" y="991"/>
                  <a:pt x="1201" y="998"/>
                  <a:pt x="1206" y="1006"/>
                </a:cubicBezTo>
                <a:cubicBezTo>
                  <a:pt x="1215" y="1037"/>
                  <a:pt x="1237" y="1060"/>
                  <a:pt x="1252" y="1090"/>
                </a:cubicBezTo>
                <a:cubicBezTo>
                  <a:pt x="1265" y="1115"/>
                  <a:pt x="1262" y="1131"/>
                  <a:pt x="1283" y="1152"/>
                </a:cubicBezTo>
                <a:cubicBezTo>
                  <a:pt x="1285" y="1160"/>
                  <a:pt x="1284" y="1181"/>
                  <a:pt x="1290" y="1175"/>
                </a:cubicBezTo>
                <a:cubicBezTo>
                  <a:pt x="1301" y="1164"/>
                  <a:pt x="1306" y="1129"/>
                  <a:pt x="1306" y="1129"/>
                </a:cubicBezTo>
                <a:cubicBezTo>
                  <a:pt x="1327" y="926"/>
                  <a:pt x="1362" y="730"/>
                  <a:pt x="1429" y="537"/>
                </a:cubicBezTo>
                <a:cubicBezTo>
                  <a:pt x="1457" y="458"/>
                  <a:pt x="1473" y="369"/>
                  <a:pt x="1521" y="299"/>
                </a:cubicBezTo>
                <a:cubicBezTo>
                  <a:pt x="1534" y="256"/>
                  <a:pt x="1556" y="220"/>
                  <a:pt x="1567" y="176"/>
                </a:cubicBezTo>
                <a:cubicBezTo>
                  <a:pt x="1573" y="118"/>
                  <a:pt x="1580" y="62"/>
                  <a:pt x="1597" y="7"/>
                </a:cubicBezTo>
                <a:cubicBezTo>
                  <a:pt x="1617" y="27"/>
                  <a:pt x="1619" y="43"/>
                  <a:pt x="1628" y="69"/>
                </a:cubicBezTo>
                <a:cubicBezTo>
                  <a:pt x="1633" y="84"/>
                  <a:pt x="1644" y="115"/>
                  <a:pt x="1644" y="115"/>
                </a:cubicBezTo>
                <a:cubicBezTo>
                  <a:pt x="1648" y="96"/>
                  <a:pt x="1646" y="0"/>
                  <a:pt x="1667" y="61"/>
                </a:cubicBezTo>
                <a:cubicBezTo>
                  <a:pt x="1675" y="58"/>
                  <a:pt x="1684" y="59"/>
                  <a:pt x="1690" y="53"/>
                </a:cubicBezTo>
                <a:cubicBezTo>
                  <a:pt x="1705" y="38"/>
                  <a:pt x="1689" y="7"/>
                  <a:pt x="1705" y="53"/>
                </a:cubicBezTo>
                <a:cubicBezTo>
                  <a:pt x="1713" y="45"/>
                  <a:pt x="1717" y="30"/>
                  <a:pt x="1728" y="30"/>
                </a:cubicBezTo>
                <a:cubicBezTo>
                  <a:pt x="1736" y="30"/>
                  <a:pt x="1735" y="45"/>
                  <a:pt x="1736" y="53"/>
                </a:cubicBezTo>
                <a:cubicBezTo>
                  <a:pt x="1740" y="102"/>
                  <a:pt x="1740" y="150"/>
                  <a:pt x="1743" y="199"/>
                </a:cubicBezTo>
                <a:cubicBezTo>
                  <a:pt x="1751" y="307"/>
                  <a:pt x="1776" y="402"/>
                  <a:pt x="1820" y="499"/>
                </a:cubicBezTo>
                <a:cubicBezTo>
                  <a:pt x="1836" y="534"/>
                  <a:pt x="1837" y="560"/>
                  <a:pt x="1859" y="591"/>
                </a:cubicBezTo>
                <a:cubicBezTo>
                  <a:pt x="1904" y="739"/>
                  <a:pt x="1958" y="886"/>
                  <a:pt x="1997" y="1036"/>
                </a:cubicBezTo>
                <a:cubicBezTo>
                  <a:pt x="2015" y="1104"/>
                  <a:pt x="2023" y="1175"/>
                  <a:pt x="2035" y="1244"/>
                </a:cubicBezTo>
                <a:cubicBezTo>
                  <a:pt x="2043" y="1286"/>
                  <a:pt x="2062" y="1332"/>
                  <a:pt x="2074" y="1374"/>
                </a:cubicBezTo>
                <a:cubicBezTo>
                  <a:pt x="2100" y="1469"/>
                  <a:pt x="2087" y="1572"/>
                  <a:pt x="2120" y="1666"/>
                </a:cubicBezTo>
                <a:cubicBezTo>
                  <a:pt x="2122" y="1689"/>
                  <a:pt x="2123" y="1712"/>
                  <a:pt x="2127" y="1735"/>
                </a:cubicBezTo>
                <a:cubicBezTo>
                  <a:pt x="2128" y="1743"/>
                  <a:pt x="2130" y="1765"/>
                  <a:pt x="2135" y="1758"/>
                </a:cubicBezTo>
                <a:cubicBezTo>
                  <a:pt x="2148" y="1739"/>
                  <a:pt x="2143" y="1711"/>
                  <a:pt x="2150" y="1689"/>
                </a:cubicBezTo>
                <a:cubicBezTo>
                  <a:pt x="2169" y="1633"/>
                  <a:pt x="2190" y="1578"/>
                  <a:pt x="2204" y="1520"/>
                </a:cubicBezTo>
                <a:cubicBezTo>
                  <a:pt x="2216" y="1470"/>
                  <a:pt x="2238" y="1424"/>
                  <a:pt x="2250" y="1374"/>
                </a:cubicBezTo>
                <a:cubicBezTo>
                  <a:pt x="2283" y="1240"/>
                  <a:pt x="2317" y="1104"/>
                  <a:pt x="2335" y="967"/>
                </a:cubicBezTo>
                <a:cubicBezTo>
                  <a:pt x="2352" y="1024"/>
                  <a:pt x="2328" y="954"/>
                  <a:pt x="2358" y="1013"/>
                </a:cubicBezTo>
                <a:cubicBezTo>
                  <a:pt x="2382" y="1062"/>
                  <a:pt x="2394" y="1123"/>
                  <a:pt x="2412" y="1175"/>
                </a:cubicBezTo>
                <a:cubicBezTo>
                  <a:pt x="2436" y="1245"/>
                  <a:pt x="2443" y="1379"/>
                  <a:pt x="2496" y="1436"/>
                </a:cubicBezTo>
                <a:cubicBezTo>
                  <a:pt x="2516" y="1494"/>
                  <a:pt x="2489" y="1422"/>
                  <a:pt x="2519" y="1482"/>
                </a:cubicBezTo>
                <a:cubicBezTo>
                  <a:pt x="2533" y="1510"/>
                  <a:pt x="2533" y="1547"/>
                  <a:pt x="2550" y="1574"/>
                </a:cubicBezTo>
                <a:cubicBezTo>
                  <a:pt x="2580" y="1621"/>
                  <a:pt x="2595" y="1682"/>
                  <a:pt x="2611" y="1735"/>
                </a:cubicBezTo>
                <a:cubicBezTo>
                  <a:pt x="2618" y="1648"/>
                  <a:pt x="2632" y="1586"/>
                  <a:pt x="2657" y="1505"/>
                </a:cubicBezTo>
                <a:cubicBezTo>
                  <a:pt x="2674" y="1354"/>
                  <a:pt x="2680" y="1203"/>
                  <a:pt x="2688" y="1052"/>
                </a:cubicBezTo>
                <a:cubicBezTo>
                  <a:pt x="2691" y="901"/>
                  <a:pt x="2685" y="750"/>
                  <a:pt x="2696" y="599"/>
                </a:cubicBezTo>
                <a:cubicBezTo>
                  <a:pt x="2697" y="590"/>
                  <a:pt x="2712" y="608"/>
                  <a:pt x="2719" y="614"/>
                </a:cubicBezTo>
                <a:cubicBezTo>
                  <a:pt x="2745" y="636"/>
                  <a:pt x="2753" y="653"/>
                  <a:pt x="2773" y="683"/>
                </a:cubicBezTo>
                <a:cubicBezTo>
                  <a:pt x="2813" y="743"/>
                  <a:pt x="2857" y="825"/>
                  <a:pt x="2857" y="8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5400000">
            <a:off x="4991040" y="87516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091200" y="4643280"/>
            <a:ext cx="380880" cy="1609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760 h 1609560"/>
              <a:gd name="textAreaBottom" fmla="*/ 1567800 h 160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19360" y="5638680"/>
            <a:ext cx="35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ore crystal-clear, perf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ncompressed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68200" y="15228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diotic speaker bangs on microph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ressor kicks in and saves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447920"/>
            <a:ext cx="6248520" cy="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177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User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0666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14:48:16Z</dcterms:created>
  <dc:creator> </dc:creator>
  <dc:description/>
  <dc:language>en-US</dc:language>
  <cp:lastModifiedBy> </cp:lastModifiedBy>
  <dcterms:modified xsi:type="dcterms:W3CDTF">2013-07-03T15:34:25Z</dcterms:modified>
  <cp:revision>5</cp:revision>
  <dc:subject/>
  <dc:title>PowerPoint Presentation</dc:title>
</cp:coreProperties>
</file>