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F91-8EB1-4EE1-A7FA-6247F79A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D49-0DEA-4BE6-A853-B9FC1F0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905-E28F-4B88-BE8B-6AC8043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741-6288-402C-A976-35B06E3C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157-7924-4520-BEA2-B2D61A7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05C-D570-4A98-89CF-1BB9A7B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22D-D013-4718-A5BC-86EE8B6E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A70-F308-471B-8777-4AC4771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B98-7732-4AF5-A5B3-B4F06CE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1D2-0DF9-4950-8D4A-6487F8D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71F-F924-43DE-8F4D-AC4218A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EC7-3E28-41D2-828B-8D2022B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EE1-D886-4C3B-9ECB-B438A4B3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133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terprétations dive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2"/>
          </p:cNvCxnSpPr>
          <p:nvPr/>
        </p:nvCxnSpPr>
        <p:spPr>
          <a:xfrm flipH="1">
            <a:off x="3504600" y="2440800"/>
            <a:ext cx="686880" cy="98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2" idx="2"/>
          </p:cNvCxnSpPr>
          <p:nvPr/>
        </p:nvCxnSpPr>
        <p:spPr>
          <a:xfrm>
            <a:off x="4191120" y="2440800"/>
            <a:ext cx="533520" cy="114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</p:cNvCxnSpPr>
          <p:nvPr/>
        </p:nvCxnSpPr>
        <p:spPr>
          <a:xfrm flipH="1">
            <a:off x="4114800" y="2440800"/>
            <a:ext cx="76680" cy="136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718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pinions condamnées comme hérétiques par le Magist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2"/>
            <a:endCxn id="67" idx="0"/>
          </p:cNvCxnSpPr>
          <p:nvPr/>
        </p:nvCxnSpPr>
        <p:spPr>
          <a:xfrm flipH="1">
            <a:off x="4075920" y="3489120"/>
            <a:ext cx="343800" cy="16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5" idx="2"/>
            <a:endCxn id="69" idx="6"/>
          </p:cNvCxnSpPr>
          <p:nvPr/>
        </p:nvCxnSpPr>
        <p:spPr>
          <a:xfrm flipH="1">
            <a:off x="3518640" y="3489480"/>
            <a:ext cx="90108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2004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Quelle interprétation est correc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  <a:endCxn id="82" idx="6"/>
          </p:cNvCxnSpPr>
          <p:nvPr/>
        </p:nvCxnSpPr>
        <p:spPr>
          <a:xfrm flipH="1" flipV="1">
            <a:off x="5409720" y="3390120"/>
            <a:ext cx="9914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1"/>
            <a:endCxn id="80" idx="6"/>
          </p:cNvCxnSpPr>
          <p:nvPr/>
        </p:nvCxnSpPr>
        <p:spPr>
          <a:xfrm flipH="1">
            <a:off x="5409720" y="3565440"/>
            <a:ext cx="991440" cy="10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6" idx="1"/>
            <a:endCxn id="78" idx="6"/>
          </p:cNvCxnSpPr>
          <p:nvPr/>
        </p:nvCxnSpPr>
        <p:spPr>
          <a:xfrm flipH="1">
            <a:off x="5409720" y="3565440"/>
            <a:ext cx="991440" cy="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3276720"/>
            <a:ext cx="3352680" cy="1218960"/>
          </a:xfrm>
          <a:custGeom>
            <a:avLst/>
            <a:gdLst/>
            <a:ahLst/>
            <a:rect l="l" t="t" r="r" b="b"/>
            <a:pathLst>
              <a:path w="2112" h="768">
                <a:moveTo>
                  <a:pt x="0" y="768"/>
                </a:moveTo>
                <a:cubicBezTo>
                  <a:pt x="352" y="736"/>
                  <a:pt x="704" y="704"/>
                  <a:pt x="1056" y="576"/>
                </a:cubicBezTo>
                <a:cubicBezTo>
                  <a:pt x="1408" y="448"/>
                  <a:pt x="1936" y="96"/>
                  <a:pt x="2112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rméneutique de la continuité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581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terprétation correc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01" idx="5"/>
          </p:cNvCxnSpPr>
          <p:nvPr/>
        </p:nvCxnSpPr>
        <p:spPr>
          <a:xfrm flipH="1" flipV="1">
            <a:off x="5398560" y="3646080"/>
            <a:ext cx="85032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TELLIGENCE  DE  LA  F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133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rious interpre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</p:cNvCxnSpPr>
          <p:nvPr/>
        </p:nvCxnSpPr>
        <p:spPr>
          <a:xfrm flipH="1">
            <a:off x="3504600" y="2438280"/>
            <a:ext cx="686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2"/>
          </p:cNvCxnSpPr>
          <p:nvPr/>
        </p:nvCxnSpPr>
        <p:spPr>
          <a:xfrm>
            <a:off x="4190760" y="2437920"/>
            <a:ext cx="5338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</p:cNvCxnSpPr>
          <p:nvPr/>
        </p:nvCxnSpPr>
        <p:spPr>
          <a:xfrm flipH="1">
            <a:off x="4114800" y="2438280"/>
            <a:ext cx="76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97180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pinions condemned as heretical by the Magiste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45" idx="0"/>
          </p:cNvCxnSpPr>
          <p:nvPr/>
        </p:nvCxnSpPr>
        <p:spPr>
          <a:xfrm flipH="1">
            <a:off x="4076280" y="3489120"/>
            <a:ext cx="153360" cy="16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2"/>
            <a:endCxn id="147" idx="6"/>
          </p:cNvCxnSpPr>
          <p:nvPr/>
        </p:nvCxnSpPr>
        <p:spPr>
          <a:xfrm flipH="1">
            <a:off x="3519360" y="3489480"/>
            <a:ext cx="71028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2004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Which interpretation is corr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0" idx="6"/>
          </p:cNvCxnSpPr>
          <p:nvPr/>
        </p:nvCxnSpPr>
        <p:spPr>
          <a:xfrm flipH="1" flipV="1">
            <a:off x="5409720" y="3390120"/>
            <a:ext cx="9914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4" idx="1"/>
            <a:endCxn id="158" idx="6"/>
          </p:cNvCxnSpPr>
          <p:nvPr/>
        </p:nvCxnSpPr>
        <p:spPr>
          <a:xfrm flipH="1">
            <a:off x="5409720" y="3565440"/>
            <a:ext cx="991440" cy="10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4" idx="1"/>
            <a:endCxn id="156" idx="6"/>
          </p:cNvCxnSpPr>
          <p:nvPr/>
        </p:nvCxnSpPr>
        <p:spPr>
          <a:xfrm flipH="1">
            <a:off x="5409720" y="3565440"/>
            <a:ext cx="991440" cy="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90920" y="3276720"/>
            <a:ext cx="3352680" cy="1218960"/>
          </a:xfrm>
          <a:custGeom>
            <a:avLst/>
            <a:gdLst/>
            <a:ahLst/>
            <a:rect l="l" t="t" r="r" b="b"/>
            <a:pathLst>
              <a:path w="2112" h="768">
                <a:moveTo>
                  <a:pt x="0" y="768"/>
                </a:moveTo>
                <a:cubicBezTo>
                  <a:pt x="352" y="736"/>
                  <a:pt x="704" y="704"/>
                  <a:pt x="1056" y="576"/>
                </a:cubicBezTo>
                <a:cubicBezTo>
                  <a:pt x="1408" y="448"/>
                  <a:pt x="1936" y="96"/>
                  <a:pt x="2112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159984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376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562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08080" y="3296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UNDERSTANDING  OF 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7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006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211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38098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51814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81480" y="22856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atica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590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rmeneutic of Continu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581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Correct interpretatio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1"/>
            <a:endCxn id="179" idx="5"/>
          </p:cNvCxnSpPr>
          <p:nvPr/>
        </p:nvCxnSpPr>
        <p:spPr>
          <a:xfrm flipH="1" flipV="1">
            <a:off x="5398560" y="3646080"/>
            <a:ext cx="85032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10:27Z</dcterms:created>
  <dc:creator>Stefan Jetchick</dc:creator>
  <dc:description/>
  <dc:language>en-US</dc:language>
  <cp:lastModifiedBy>Stefan Jetchick</cp:lastModifiedBy>
  <dcterms:modified xsi:type="dcterms:W3CDTF">2011-11-27T23:06:00Z</dcterms:modified>
  <cp:revision>4</cp:revision>
  <dc:subject/>
  <dc:title>PowerPoint Presentation</dc:title>
</cp:coreProperties>
</file>