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164-0A2C-4EA9-AD33-6D6BBEB3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982-200B-4232-8DBD-D313D5AA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4DA-1B6D-40A4-AEF9-0D6D5D02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2B4-40F7-45A9-8718-59636982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19B-815D-4E01-B1FD-889170CE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9CA-A183-4258-83C1-6DB8F093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B0B-C35D-4B52-8732-B74AEBC8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373-9774-4273-8155-F93EB358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A6C-4A3D-49DB-8BC5-B5DEB4B7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623-F1E5-479B-8DE2-6E204A71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7B3-2091-47B9-8C7E-F19F6E19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5AE-06A2-430F-92C0-061360EF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6785-7F68-4F54-901D-322511FFF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rc 9"/>
          <p:cNvSpPr/>
          <p:nvPr/>
        </p:nvSpPr>
        <p:spPr>
          <a:xfrm flipH="1">
            <a:off x="2504520" y="3073320"/>
            <a:ext cx="2587320" cy="2552760"/>
          </a:xfrm>
          <a:prstGeom prst="pie">
            <a:avLst/>
          </a:prstGeom>
          <a:noFill/>
          <a:ln w="9360">
            <a:solidFill>
              <a:srgbClr val="457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rc 10"/>
          <p:cNvSpPr/>
          <p:nvPr/>
        </p:nvSpPr>
        <p:spPr>
          <a:xfrm>
            <a:off x="2841480" y="3073320"/>
            <a:ext cx="2630520" cy="2648160"/>
          </a:xfrm>
          <a:prstGeom prst="pie">
            <a:avLst/>
          </a:prstGeom>
          <a:noFill/>
          <a:ln w="9360">
            <a:solidFill>
              <a:srgbClr val="457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Connecteur droit 12"/>
          <p:cNvSpPr/>
          <p:nvPr/>
        </p:nvSpPr>
        <p:spPr>
          <a:xfrm>
            <a:off x="1962000" y="4349880"/>
            <a:ext cx="552600" cy="792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nnecteur droit 13"/>
          <p:cNvSpPr/>
          <p:nvPr/>
        </p:nvSpPr>
        <p:spPr>
          <a:xfrm flipV="1">
            <a:off x="5435640" y="4390560"/>
            <a:ext cx="507960" cy="972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nnecteur droit 14"/>
          <p:cNvSpPr/>
          <p:nvPr/>
        </p:nvSpPr>
        <p:spPr>
          <a:xfrm flipV="1">
            <a:off x="5291280" y="3529080"/>
            <a:ext cx="430200" cy="17280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nnecteur droit 15"/>
          <p:cNvSpPr/>
          <p:nvPr/>
        </p:nvSpPr>
        <p:spPr>
          <a:xfrm flipV="1">
            <a:off x="4826160" y="2882880"/>
            <a:ext cx="266400" cy="37152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nnecteur droit 16"/>
          <p:cNvSpPr/>
          <p:nvPr/>
        </p:nvSpPr>
        <p:spPr>
          <a:xfrm>
            <a:off x="2192400" y="3511440"/>
            <a:ext cx="482400" cy="23364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onnecteur droit 17"/>
          <p:cNvSpPr/>
          <p:nvPr/>
        </p:nvSpPr>
        <p:spPr>
          <a:xfrm>
            <a:off x="2762280" y="2908440"/>
            <a:ext cx="293760" cy="39672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2440" y="2624040"/>
            <a:ext cx="1104840" cy="14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proofs of Christ's Divinity 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is mirac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pheci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Connecteur droit avec flèche 21"/>
          <p:cNvCxnSpPr/>
          <p:nvPr/>
        </p:nvCxnSpPr>
        <p:spPr>
          <a:xfrm>
            <a:off x="1447560" y="3200040"/>
            <a:ext cx="1143720" cy="1357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sp>
        <p:nvSpPr>
          <p:cNvPr id="51" name="Zone de texte 2"/>
          <p:cNvSpPr/>
          <p:nvPr/>
        </p:nvSpPr>
        <p:spPr>
          <a:xfrm>
            <a:off x="692280" y="479520"/>
            <a:ext cx="217152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proofs that the Catholic Church is the true Church of G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ccomplishment of propheci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umerous mirac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apid dissemination of Faith despite enemies and insurmountable obstacl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estimonial of marty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Connecteur droit avec flèche 23"/>
          <p:cNvCxnSpPr/>
          <p:nvPr/>
        </p:nvCxnSpPr>
        <p:spPr>
          <a:xfrm flipH="1">
            <a:off x="4663800" y="2285640"/>
            <a:ext cx="480240" cy="68796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3200400" y="1143000"/>
            <a:ext cx="16765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rine of Jesus Christ's Social Kingship: Keystone of the Catholic World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86680" y="3657600"/>
            <a:ext cx="11458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y Scri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11920" y="2975040"/>
            <a:ext cx="11127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y Tra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43680" y="1714680"/>
            <a:ext cx="799920" cy="64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urch's teaching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Connecteur droit avec flèche 30"/>
          <p:cNvCxnSpPr/>
          <p:nvPr/>
        </p:nvCxnSpPr>
        <p:spPr>
          <a:xfrm flipH="1">
            <a:off x="5235120" y="3103560"/>
            <a:ext cx="673920" cy="2167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857160" y="4551480"/>
            <a:ext cx="3486240" cy="10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osophy in the tradition of Saint Thomas Aquin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cholastic realism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ristotle's four causes, including finality in Natu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ofs of God's existenc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- Natural Law, Morality, Human Dig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lèche droite 193"/>
          <p:cNvSpPr/>
          <p:nvPr/>
        </p:nvSpPr>
        <p:spPr>
          <a:xfrm rot="10015200">
            <a:off x="3655440" y="5239800"/>
            <a:ext cx="990360" cy="152640"/>
          </a:xfrm>
          <a:prstGeom prst="rightArrow">
            <a:avLst>
              <a:gd name="adj1" fmla="val 50000"/>
              <a:gd name="adj2" fmla="val 98164"/>
            </a:avLst>
          </a:prstGeom>
          <a:solidFill>
            <a:srgbClr val="4f81bd"/>
          </a:solidFill>
          <a:ln w="25560">
            <a:solidFill>
              <a:srgbClr val="243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648320"/>
            <a:ext cx="855720" cy="43020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rc 8"/>
          <p:cNvSpPr/>
          <p:nvPr/>
        </p:nvSpPr>
        <p:spPr>
          <a:xfrm flipH="1">
            <a:off x="1980360" y="2627280"/>
            <a:ext cx="3544920" cy="3457440"/>
          </a:xfrm>
          <a:prstGeom prst="pie">
            <a:avLst/>
          </a:prstGeom>
          <a:noFill/>
          <a:ln w="9360">
            <a:solidFill>
              <a:srgbClr val="457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rc 7"/>
          <p:cNvSpPr/>
          <p:nvPr/>
        </p:nvSpPr>
        <p:spPr>
          <a:xfrm>
            <a:off x="2470320" y="2619360"/>
            <a:ext cx="3484440" cy="3544920"/>
          </a:xfrm>
          <a:prstGeom prst="pie">
            <a:avLst/>
          </a:prstGeom>
          <a:noFill/>
          <a:ln w="9360">
            <a:solidFill>
              <a:srgbClr val="457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Connecteur droit avec flèche 25"/>
          <p:cNvCxnSpPr/>
          <p:nvPr/>
        </p:nvCxnSpPr>
        <p:spPr>
          <a:xfrm flipH="1">
            <a:off x="4006440" y="2133720"/>
            <a:ext cx="108720" cy="4579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grpSp>
        <p:nvGrpSpPr>
          <p:cNvPr id="64" name=""/>
          <p:cNvGrpSpPr/>
          <p:nvPr/>
        </p:nvGrpSpPr>
        <p:grpSpPr>
          <a:xfrm>
            <a:off x="3524400" y="2590560"/>
            <a:ext cx="819000" cy="595080"/>
            <a:chOff x="3524400" y="2590560"/>
            <a:chExt cx="819000" cy="595080"/>
          </a:xfrm>
        </p:grpSpPr>
        <p:sp>
          <p:nvSpPr>
            <p:cNvPr id="65" name="Trapèze 11"/>
            <p:cNvSpPr/>
            <p:nvPr/>
          </p:nvSpPr>
          <p:spPr>
            <a:xfrm flipV="1">
              <a:off x="3524400" y="2590200"/>
              <a:ext cx="819000" cy="595080"/>
            </a:xfrm>
            <a:custGeom>
              <a:avLst/>
              <a:gdLst/>
              <a:ahLst/>
              <a:rect l="l" t="t" r="r" b="b"/>
              <a:pathLst>
                <a:path w="819150" h="595174">
                  <a:moveTo>
                    <a:pt x="0" y="595174"/>
                  </a:moveTo>
                  <a:lnTo>
                    <a:pt x="148794" y="0"/>
                  </a:lnTo>
                  <a:lnTo>
                    <a:pt x="670357" y="0"/>
                  </a:lnTo>
                  <a:lnTo>
                    <a:pt x="819150" y="595174"/>
                  </a:lnTo>
                  <a:lnTo>
                    <a:pt x="0" y="59517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Image 19" descr=""/>
            <p:cNvPicPr/>
            <p:nvPr/>
          </p:nvPicPr>
          <p:blipFill>
            <a:blip r:embed="rId1"/>
            <a:stretch/>
          </p:blipFill>
          <p:spPr>
            <a:xfrm>
              <a:off x="3784680" y="2674800"/>
              <a:ext cx="318960" cy="4503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7" name="Connecteur droit avec flèche 30"/>
          <p:cNvCxnSpPr/>
          <p:nvPr/>
        </p:nvCxnSpPr>
        <p:spPr>
          <a:xfrm flipH="1">
            <a:off x="5619240" y="3809880"/>
            <a:ext cx="673920" cy="2167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cxnSp>
        <p:nvCxnSpPr>
          <p:cNvPr id="68" name="Connecteur droit avec flèche 21"/>
          <p:cNvCxnSpPr/>
          <p:nvPr/>
        </p:nvCxnSpPr>
        <p:spPr>
          <a:xfrm>
            <a:off x="1941480" y="2522520"/>
            <a:ext cx="1296000" cy="4579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cxnSp>
        <p:nvCxnSpPr>
          <p:cNvPr id="69" name="Connecteur droit avec flèche 30"/>
          <p:cNvCxnSpPr/>
          <p:nvPr/>
        </p:nvCxnSpPr>
        <p:spPr>
          <a:xfrm flipV="1">
            <a:off x="2057040" y="4038120"/>
            <a:ext cx="229320" cy="53424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4577400" y="502920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r Pro-Life struggle is here !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9T21:29:55Z</dcterms:created>
  <dc:creator>sjj</dc:creator>
  <dc:description/>
  <dc:language>en-US</dc:language>
  <cp:lastModifiedBy>sjj</cp:lastModifiedBy>
  <dcterms:modified xsi:type="dcterms:W3CDTF">2016-05-09T21:45:57Z</dcterms:modified>
  <cp:revision>4</cp:revision>
  <dc:subject/>
  <dc:title>PowerPoint Presentation</dc:title>
</cp:coreProperties>
</file>