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BB1-D22E-45C6-96CF-CC4BECE7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1C8-2212-4C05-9800-1770E42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9A2-3343-4354-ACD2-6423ECBF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0E8-7FA4-4C68-8F77-E127064F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6A5-4730-4AC5-90EB-6ADD2A9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828-5C51-4AAE-A8BC-88355FE4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D60-FFDD-4EC7-B376-5F4CD18B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4EA-6A36-4194-9173-D220ED3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A8E-F803-4E05-9AAF-5724174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3EE-A9C1-4552-B06A-6153923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5E0-106D-4577-BCA1-E74DA08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85A-187B-4DDC-87D6-98720CA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355A-803C-497A-984C-076894F3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" descr=""/>
          <p:cNvPicPr/>
          <p:nvPr/>
        </p:nvPicPr>
        <p:blipFill>
          <a:blip r:embed="rId1"/>
          <a:stretch/>
        </p:blipFill>
        <p:spPr>
          <a:xfrm>
            <a:off x="2895480" y="1243080"/>
            <a:ext cx="3353040" cy="437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19810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362320"/>
            <a:ext cx="2286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2193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257440" y="1600200"/>
            <a:ext cx="3049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51562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267080" y="4647960"/>
            <a:ext cx="10670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3" descr=""/>
          <p:cNvPicPr/>
          <p:nvPr/>
        </p:nvPicPr>
        <p:blipFill>
          <a:blip r:embed="rId1"/>
          <a:stretch/>
        </p:blipFill>
        <p:spPr>
          <a:xfrm>
            <a:off x="2895480" y="1243080"/>
            <a:ext cx="3353040" cy="437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19810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EN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362320"/>
            <a:ext cx="2286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2193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57440" y="1600200"/>
            <a:ext cx="3049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51562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TU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267080" y="4647960"/>
            <a:ext cx="10670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53:31Z</dcterms:created>
  <dc:creator>Stefan Jetchick</dc:creator>
  <dc:description/>
  <dc:language>en-US</dc:language>
  <cp:lastModifiedBy>Stefan Jetchick</cp:lastModifiedBy>
  <dcterms:modified xsi:type="dcterms:W3CDTF">2010-01-18T16:58:26Z</dcterms:modified>
  <cp:revision>2</cp:revision>
  <dc:subject/>
  <dc:title>PowerPoint Presentation</dc:title>
</cp:coreProperties>
</file>