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9D0-0C34-4957-8602-502ECEDA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BAD-29E3-4F95-A582-03364F47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CC4-AF53-48F0-92A7-25C61C67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7FE-C781-4982-8849-3BC960FF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C9F-C7AE-41F7-8B21-D701D3B1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D27-82F9-4453-9B04-ACDC0BE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ECC-277C-4B61-8A50-D469D10E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70C-5F35-4A82-8D50-A204A88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BA5-BF2D-49CD-9549-43319230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2B4-8F59-4FE4-AB18-E7E485A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449-4B9F-45C0-AFF5-13EE816F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D34-6140-4F51-9461-E3BB442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6E45-6C34-4D3D-82B4-1B0A799E8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400" y="685800"/>
            <a:ext cx="7238880" cy="1452600"/>
            <a:chOff x="914400" y="685800"/>
            <a:chExt cx="7238880" cy="1452600"/>
          </a:xfrm>
        </p:grpSpPr>
        <p:sp>
          <p:nvSpPr>
            <p:cNvPr id="42" name=""/>
            <p:cNvSpPr/>
            <p:nvPr/>
          </p:nvSpPr>
          <p:spPr>
            <a:xfrm>
              <a:off x="914400" y="690480"/>
              <a:ext cx="76320" cy="1447920"/>
            </a:xfrm>
            <a:custGeom>
              <a:avLst/>
              <a:gdLst/>
              <a:ahLst/>
              <a:rect l="l" t="t" r="r" b="b"/>
              <a:pathLst>
                <a:path w="48" h="912">
                  <a:moveTo>
                    <a:pt x="0" y="816"/>
                  </a:moveTo>
                  <a:lnTo>
                    <a:pt x="0" y="96"/>
                  </a:lnTo>
                  <a:lnTo>
                    <a:pt x="48" y="0"/>
                  </a:lnTo>
                  <a:lnTo>
                    <a:pt x="48" y="912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90720" y="690480"/>
              <a:ext cx="1522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843120"/>
              <a:ext cx="15228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690480"/>
              <a:ext cx="152640" cy="1447920"/>
            </a:xfrm>
            <a:custGeom>
              <a:avLst/>
              <a:gdLst/>
              <a:ahLst/>
              <a:rect l="l" t="t" r="r" b="b"/>
              <a:pathLst>
                <a:path w="96" h="912">
                  <a:moveTo>
                    <a:pt x="0" y="816"/>
                  </a:moveTo>
                  <a:lnTo>
                    <a:pt x="96" y="912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920" y="690480"/>
              <a:ext cx="335268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200000">
              <a:off x="4419360" y="1066680"/>
              <a:ext cx="1447920" cy="685800"/>
            </a:xfrm>
            <a:custGeom>
              <a:avLst/>
              <a:gdLst>
                <a:gd name="textAreaLeft" fmla="*/ 292680 w 1447920"/>
                <a:gd name="textAreaRight" fmla="*/ 1155240 w 1447920"/>
                <a:gd name="textAreaTop" fmla="*/ 138600 h 685800"/>
                <a:gd name="textAreaBottom" fmla="*/ 547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887" y="21600"/>
                  </a:lnTo>
                  <a:lnTo>
                    <a:pt x="4713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1000080"/>
              <a:ext cx="990720" cy="814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77120" y="1028880"/>
              <a:ext cx="1676160" cy="38088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477120" y="1394280"/>
              <a:ext cx="1676160" cy="381240"/>
            </a:xfrm>
            <a:custGeom>
              <a:avLst/>
              <a:gdLst/>
              <a:ahLst/>
              <a:rect l="l" t="t" r="r" b="b"/>
              <a:pathLst>
                <a:path w="1056" h="240">
                  <a:moveTo>
                    <a:pt x="0" y="0"/>
                  </a:moveTo>
                  <a:cubicBezTo>
                    <a:pt x="248" y="4"/>
                    <a:pt x="496" y="8"/>
                    <a:pt x="672" y="48"/>
                  </a:cubicBezTo>
                  <a:cubicBezTo>
                    <a:pt x="848" y="88"/>
                    <a:pt x="952" y="164"/>
                    <a:pt x="1056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72548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1832040"/>
            <a:ext cx="7238880" cy="2963880"/>
            <a:chOff x="914400" y="1832040"/>
            <a:chExt cx="7238880" cy="2963880"/>
          </a:xfrm>
        </p:grpSpPr>
        <p:sp>
          <p:nvSpPr>
            <p:cNvPr id="53" name=""/>
            <p:cNvSpPr/>
            <p:nvPr/>
          </p:nvSpPr>
          <p:spPr>
            <a:xfrm>
              <a:off x="1960920" y="1832040"/>
              <a:ext cx="520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Invitation: Débat électroniqu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52480" y="4065480"/>
              <a:ext cx="632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000000"/>
                  </a:solidFill>
                  <a:latin typeface="Times New Roman"/>
                </a:rPr>
                <a:t>Le premier qui invoque une croyance religieuse, perd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519440"/>
              <a:ext cx="22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inquisition.ca/j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62800" y="2976480"/>
              <a:ext cx="90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PENS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CRIT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30280" y="2506680"/>
              <a:ext cx="314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'Islam est-il un mensong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13320" y="2844720"/>
              <a:ext cx="298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'avortement est-il un meurt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8200" y="3218040"/>
              <a:ext cx="334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a sodomie est-elle contre Natu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0200" y="359244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L'athéisme empoisonne-t-il tout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914400" y="2482920"/>
              <a:ext cx="7238880" cy="1452600"/>
              <a:chOff x="914400" y="2482920"/>
              <a:chExt cx="7238880" cy="1452600"/>
            </a:xfrm>
          </p:grpSpPr>
          <p:sp>
            <p:nvSpPr>
              <p:cNvPr id="62" name=""/>
              <p:cNvSpPr/>
              <p:nvPr/>
            </p:nvSpPr>
            <p:spPr>
              <a:xfrm>
                <a:off x="914400" y="2487600"/>
                <a:ext cx="76320" cy="1447920"/>
              </a:xfrm>
              <a:custGeom>
                <a:avLst/>
                <a:gdLst/>
                <a:ahLst/>
                <a:rect l="l" t="t" r="r" b="b"/>
                <a:pathLst>
                  <a:path w="48" h="912">
                    <a:moveTo>
                      <a:pt x="0" y="816"/>
                    </a:moveTo>
                    <a:lnTo>
                      <a:pt x="0" y="96"/>
                    </a:lnTo>
                    <a:lnTo>
                      <a:pt x="48" y="0"/>
                    </a:lnTo>
                    <a:lnTo>
                      <a:pt x="48" y="912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90720" y="2487600"/>
                <a:ext cx="1522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3000" y="2640240"/>
                <a:ext cx="152280" cy="1143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95280" y="2487600"/>
                <a:ext cx="152640" cy="1447920"/>
              </a:xfrm>
              <a:custGeom>
                <a:avLst/>
                <a:gdLst/>
                <a:ahLst/>
                <a:rect l="l" t="t" r="r" b="b"/>
                <a:pathLst>
                  <a:path w="96" h="912">
                    <a:moveTo>
                      <a:pt x="0" y="816"/>
                    </a:moveTo>
                    <a:lnTo>
                      <a:pt x="96" y="912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47920" y="2487600"/>
                <a:ext cx="33526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00000">
                <a:off x="4419360" y="2863800"/>
                <a:ext cx="1447920" cy="685800"/>
              </a:xfrm>
              <a:custGeom>
                <a:avLst/>
                <a:gdLst>
                  <a:gd name="textAreaLeft" fmla="*/ 292680 w 1447920"/>
                  <a:gd name="textAreaRight" fmla="*/ 1155240 w 1447920"/>
                  <a:gd name="textAreaTop" fmla="*/ 138600 h 685800"/>
                  <a:gd name="textAreaBottom" fmla="*/ 547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887" y="21600"/>
                    </a:lnTo>
                    <a:lnTo>
                      <a:pt x="4713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2797200"/>
                <a:ext cx="990720" cy="814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77120" y="2826000"/>
                <a:ext cx="1676160" cy="38088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477120" y="3191760"/>
                <a:ext cx="1676160" cy="38124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160020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1706400"/>
            <a:ext cx="7238880" cy="2964240"/>
            <a:chOff x="914400" y="1706400"/>
            <a:chExt cx="7238880" cy="2964240"/>
          </a:xfrm>
        </p:grpSpPr>
        <p:sp>
          <p:nvSpPr>
            <p:cNvPr id="73" name=""/>
            <p:cNvSpPr/>
            <p:nvPr/>
          </p:nvSpPr>
          <p:spPr>
            <a:xfrm>
              <a:off x="2128320" y="1706400"/>
              <a:ext cx="504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Invitation: Electronic Debat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9680" y="394020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e first one to invoke a religious belief</a:t>
              </a:r>
              <a:r>
                <a:rPr b="0" i="1" lang="fr-CA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loses</a:t>
              </a:r>
              <a:r>
                <a:rPr b="0" i="1" lang="fr-CA" sz="20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439416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inquisition.ca/jou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62800" y="2851200"/>
              <a:ext cx="91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CRI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200" spc="-1" strike="noStrike">
                  <a:solidFill>
                    <a:srgbClr val="000000"/>
                  </a:solidFill>
                  <a:latin typeface="Arial"/>
                </a:rPr>
                <a:t>THIN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19200" y="2381400"/>
              <a:ext cx="18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Is Islam a li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3280" y="2711520"/>
              <a:ext cx="207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Is abortion murder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11280" y="3073320"/>
              <a:ext cx="283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Is sodomy against Natur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346716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00"/>
                  </a:solidFill>
                  <a:latin typeface="Arial"/>
                </a:rPr>
                <a:t>Does Atheism poison everything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914400" y="2357280"/>
              <a:ext cx="7238880" cy="1452600"/>
              <a:chOff x="914400" y="2357280"/>
              <a:chExt cx="7238880" cy="1452600"/>
            </a:xfrm>
          </p:grpSpPr>
          <p:sp>
            <p:nvSpPr>
              <p:cNvPr id="82" name=""/>
              <p:cNvSpPr/>
              <p:nvPr/>
            </p:nvSpPr>
            <p:spPr>
              <a:xfrm>
                <a:off x="914400" y="2361960"/>
                <a:ext cx="76320" cy="1447920"/>
              </a:xfrm>
              <a:custGeom>
                <a:avLst/>
                <a:gdLst/>
                <a:ahLst/>
                <a:rect l="l" t="t" r="r" b="b"/>
                <a:pathLst>
                  <a:path w="48" h="912">
                    <a:moveTo>
                      <a:pt x="0" y="816"/>
                    </a:moveTo>
                    <a:lnTo>
                      <a:pt x="0" y="96"/>
                    </a:lnTo>
                    <a:lnTo>
                      <a:pt x="48" y="0"/>
                    </a:lnTo>
                    <a:lnTo>
                      <a:pt x="48" y="912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90720" y="2361960"/>
                <a:ext cx="1522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3000" y="2514600"/>
                <a:ext cx="152280" cy="1143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95280" y="2361960"/>
                <a:ext cx="152640" cy="1447920"/>
              </a:xfrm>
              <a:custGeom>
                <a:avLst/>
                <a:gdLst/>
                <a:ahLst/>
                <a:rect l="l" t="t" r="r" b="b"/>
                <a:pathLst>
                  <a:path w="96" h="912">
                    <a:moveTo>
                      <a:pt x="0" y="816"/>
                    </a:moveTo>
                    <a:lnTo>
                      <a:pt x="96" y="912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47920" y="2361960"/>
                <a:ext cx="3352680" cy="144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6200000">
                <a:off x="4419360" y="2738160"/>
                <a:ext cx="1447920" cy="685800"/>
              </a:xfrm>
              <a:custGeom>
                <a:avLst/>
                <a:gdLst>
                  <a:gd name="textAreaLeft" fmla="*/ 292680 w 1447920"/>
                  <a:gd name="textAreaRight" fmla="*/ 1155240 w 1447920"/>
                  <a:gd name="textAreaTop" fmla="*/ 138600 h 685800"/>
                  <a:gd name="textAreaBottom" fmla="*/ 547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887" y="21600"/>
                    </a:lnTo>
                    <a:lnTo>
                      <a:pt x="4713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86400" y="2671560"/>
                <a:ext cx="990720" cy="814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77120" y="2700360"/>
                <a:ext cx="1676160" cy="38088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477120" y="3066120"/>
                <a:ext cx="1676160" cy="381240"/>
              </a:xfrm>
              <a:custGeom>
                <a:avLst/>
                <a:gdLst/>
                <a:ahLst/>
                <a:rect l="l" t="t" r="r" b="b"/>
                <a:pathLst>
                  <a:path w="1056" h="240">
                    <a:moveTo>
                      <a:pt x="0" y="0"/>
                    </a:moveTo>
                    <a:cubicBezTo>
                      <a:pt x="248" y="4"/>
                      <a:pt x="496" y="8"/>
                      <a:pt x="672" y="48"/>
                    </a:cubicBezTo>
                    <a:cubicBezTo>
                      <a:pt x="848" y="88"/>
                      <a:pt x="952" y="164"/>
                      <a:pt x="1056" y="24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1905120"/>
            <a:ext cx="7467840" cy="2973600"/>
            <a:chOff x="838080" y="1905120"/>
            <a:chExt cx="7467840" cy="2973600"/>
          </a:xfrm>
        </p:grpSpPr>
        <p:sp>
          <p:nvSpPr>
            <p:cNvPr id="93" name=""/>
            <p:cNvSpPr/>
            <p:nvPr/>
          </p:nvSpPr>
          <p:spPr>
            <a:xfrm>
              <a:off x="1144800" y="2660760"/>
              <a:ext cx="1788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Le gant d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philosoph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920" y="4602240"/>
              <a:ext cx="286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jesus-eucharistie.org/sage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1905120"/>
              <a:ext cx="3962520" cy="27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Dout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'auriculaire). «Ah oui? Vraiment?» Un de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meilleurs mécanismes de défens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contre les fausses croyances est l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doute méthodique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Faits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(l'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nulair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). «De quoi parle-t-on, exactement?» Il faut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reuser jusqu'à atteindr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'évidenc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, trouver les sources originales, définir les termes utilisés dans la discussion, quantifier les observations, mettre ça par écrit, etc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Cause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e majeur). «Mais pourquoi?»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a Science est une connaissance profonde et certaine,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la connaissanc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par les caus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Moral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'index). «Rien de trop!» Comment devenir sage, si vous êtes trop paresseux pour étudier, trop orgueilleux pour admettre vos erreurs, trop saoûl ou drogué pour réfléchir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5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Livre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le pouce). «Y a-t-il de bons livres à ce sujet?» Il faut étudier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les bon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nes sources d'information qui existen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38080" y="1980720"/>
              <a:ext cx="3365640" cy="2832120"/>
              <a:chOff x="838080" y="1980720"/>
              <a:chExt cx="3365640" cy="28321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838080" y="1980720"/>
                <a:ext cx="3365640" cy="2832120"/>
                <a:chOff x="838080" y="1980720"/>
                <a:chExt cx="3365640" cy="2832120"/>
              </a:xfrm>
            </p:grpSpPr>
            <p:sp>
              <p:nvSpPr>
                <p:cNvPr id="98" name=""/>
                <p:cNvSpPr/>
                <p:nvPr/>
              </p:nvSpPr>
              <p:spPr>
                <a:xfrm flipV="1">
                  <a:off x="838080" y="3454920"/>
                  <a:ext cx="1403640" cy="1143000"/>
                </a:xfrm>
                <a:custGeom>
                  <a:avLst/>
                  <a:gdLst/>
                  <a:ahLst/>
                  <a:rect l="l" t="t" r="r" b="b"/>
                  <a:pathLst>
                    <a:path w="884" h="720">
                      <a:moveTo>
                        <a:pt x="0" y="720"/>
                      </a:moveTo>
                      <a:cubicBezTo>
                        <a:pt x="23" y="713"/>
                        <a:pt x="51" y="707"/>
                        <a:pt x="72" y="696"/>
                      </a:cubicBezTo>
                      <a:cubicBezTo>
                        <a:pt x="89" y="687"/>
                        <a:pt x="104" y="675"/>
                        <a:pt x="123" y="669"/>
                      </a:cubicBezTo>
                      <a:cubicBezTo>
                        <a:pt x="136" y="660"/>
                        <a:pt x="151" y="657"/>
                        <a:pt x="164" y="648"/>
                      </a:cubicBezTo>
                      <a:cubicBezTo>
                        <a:pt x="169" y="637"/>
                        <a:pt x="171" y="627"/>
                        <a:pt x="178" y="617"/>
                      </a:cubicBezTo>
                      <a:cubicBezTo>
                        <a:pt x="187" y="588"/>
                        <a:pt x="199" y="560"/>
                        <a:pt x="216" y="535"/>
                      </a:cubicBezTo>
                      <a:cubicBezTo>
                        <a:pt x="223" y="512"/>
                        <a:pt x="234" y="502"/>
                        <a:pt x="253" y="491"/>
                      </a:cubicBezTo>
                      <a:cubicBezTo>
                        <a:pt x="264" y="473"/>
                        <a:pt x="281" y="461"/>
                        <a:pt x="298" y="449"/>
                      </a:cubicBezTo>
                      <a:cubicBezTo>
                        <a:pt x="306" y="443"/>
                        <a:pt x="322" y="432"/>
                        <a:pt x="322" y="432"/>
                      </a:cubicBezTo>
                      <a:cubicBezTo>
                        <a:pt x="334" y="414"/>
                        <a:pt x="361" y="404"/>
                        <a:pt x="380" y="391"/>
                      </a:cubicBezTo>
                      <a:cubicBezTo>
                        <a:pt x="391" y="384"/>
                        <a:pt x="390" y="384"/>
                        <a:pt x="401" y="377"/>
                      </a:cubicBezTo>
                      <a:cubicBezTo>
                        <a:pt x="404" y="375"/>
                        <a:pt x="411" y="371"/>
                        <a:pt x="411" y="371"/>
                      </a:cubicBezTo>
                      <a:cubicBezTo>
                        <a:pt x="420" y="356"/>
                        <a:pt x="433" y="354"/>
                        <a:pt x="449" y="343"/>
                      </a:cubicBezTo>
                      <a:cubicBezTo>
                        <a:pt x="470" y="329"/>
                        <a:pt x="488" y="312"/>
                        <a:pt x="510" y="299"/>
                      </a:cubicBezTo>
                      <a:cubicBezTo>
                        <a:pt x="517" y="289"/>
                        <a:pt x="538" y="275"/>
                        <a:pt x="538" y="275"/>
                      </a:cubicBezTo>
                      <a:cubicBezTo>
                        <a:pt x="546" y="263"/>
                        <a:pt x="551" y="258"/>
                        <a:pt x="565" y="254"/>
                      </a:cubicBezTo>
                      <a:cubicBezTo>
                        <a:pt x="575" y="247"/>
                        <a:pt x="591" y="230"/>
                        <a:pt x="603" y="227"/>
                      </a:cubicBezTo>
                      <a:cubicBezTo>
                        <a:pt x="613" y="220"/>
                        <a:pt x="622" y="217"/>
                        <a:pt x="634" y="213"/>
                      </a:cubicBezTo>
                      <a:cubicBezTo>
                        <a:pt x="650" y="202"/>
                        <a:pt x="638" y="208"/>
                        <a:pt x="658" y="203"/>
                      </a:cubicBezTo>
                      <a:cubicBezTo>
                        <a:pt x="666" y="201"/>
                        <a:pt x="682" y="196"/>
                        <a:pt x="682" y="196"/>
                      </a:cubicBezTo>
                      <a:cubicBezTo>
                        <a:pt x="697" y="186"/>
                        <a:pt x="709" y="176"/>
                        <a:pt x="723" y="165"/>
                      </a:cubicBezTo>
                      <a:cubicBezTo>
                        <a:pt x="730" y="160"/>
                        <a:pt x="744" y="151"/>
                        <a:pt x="744" y="151"/>
                      </a:cubicBezTo>
                      <a:cubicBezTo>
                        <a:pt x="752" y="138"/>
                        <a:pt x="766" y="126"/>
                        <a:pt x="778" y="117"/>
                      </a:cubicBezTo>
                      <a:cubicBezTo>
                        <a:pt x="794" y="93"/>
                        <a:pt x="785" y="101"/>
                        <a:pt x="802" y="89"/>
                      </a:cubicBezTo>
                      <a:cubicBezTo>
                        <a:pt x="806" y="76"/>
                        <a:pt x="821" y="63"/>
                        <a:pt x="833" y="55"/>
                      </a:cubicBezTo>
                      <a:cubicBezTo>
                        <a:pt x="841" y="43"/>
                        <a:pt x="845" y="36"/>
                        <a:pt x="857" y="28"/>
                      </a:cubicBezTo>
                      <a:cubicBezTo>
                        <a:pt x="863" y="19"/>
                        <a:pt x="884" y="6"/>
                        <a:pt x="884" y="0"/>
                      </a:cubicBezTo>
                      <a:lnTo>
                        <a:pt x="867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2166840" y="3809160"/>
                  <a:ext cx="1784520" cy="1003320"/>
                </a:xfrm>
                <a:custGeom>
                  <a:avLst/>
                  <a:gdLst/>
                  <a:ahLst/>
                  <a:rect l="l" t="t" r="r" b="b"/>
                  <a:pathLst>
                    <a:path w="1124" h="632">
                      <a:moveTo>
                        <a:pt x="57" y="125"/>
                      </a:moveTo>
                      <a:cubicBezTo>
                        <a:pt x="80" y="119"/>
                        <a:pt x="71" y="82"/>
                        <a:pt x="99" y="74"/>
                      </a:cubicBezTo>
                      <a:cubicBezTo>
                        <a:pt x="110" y="66"/>
                        <a:pt x="122" y="50"/>
                        <a:pt x="133" y="46"/>
                      </a:cubicBezTo>
                      <a:cubicBezTo>
                        <a:pt x="147" y="27"/>
                        <a:pt x="171" y="14"/>
                        <a:pt x="191" y="2"/>
                      </a:cubicBezTo>
                      <a:cubicBezTo>
                        <a:pt x="222" y="4"/>
                        <a:pt x="234" y="0"/>
                        <a:pt x="256" y="15"/>
                      </a:cubicBezTo>
                      <a:cubicBezTo>
                        <a:pt x="268" y="48"/>
                        <a:pt x="250" y="6"/>
                        <a:pt x="270" y="32"/>
                      </a:cubicBezTo>
                      <a:cubicBezTo>
                        <a:pt x="279" y="44"/>
                        <a:pt x="289" y="78"/>
                        <a:pt x="294" y="94"/>
                      </a:cubicBezTo>
                      <a:cubicBezTo>
                        <a:pt x="292" y="189"/>
                        <a:pt x="301" y="270"/>
                        <a:pt x="219" y="327"/>
                      </a:cubicBezTo>
                      <a:cubicBezTo>
                        <a:pt x="210" y="342"/>
                        <a:pt x="189" y="353"/>
                        <a:pt x="171" y="358"/>
                      </a:cubicBezTo>
                      <a:cubicBezTo>
                        <a:pt x="158" y="366"/>
                        <a:pt x="133" y="392"/>
                        <a:pt x="119" y="396"/>
                      </a:cubicBezTo>
                      <a:cubicBezTo>
                        <a:pt x="100" y="402"/>
                        <a:pt x="84" y="412"/>
                        <a:pt x="68" y="423"/>
                      </a:cubicBezTo>
                      <a:cubicBezTo>
                        <a:pt x="66" y="427"/>
                        <a:pt x="64" y="431"/>
                        <a:pt x="61" y="434"/>
                      </a:cubicBezTo>
                      <a:cubicBezTo>
                        <a:pt x="58" y="437"/>
                        <a:pt x="54" y="437"/>
                        <a:pt x="51" y="440"/>
                      </a:cubicBezTo>
                      <a:cubicBezTo>
                        <a:pt x="35" y="457"/>
                        <a:pt x="20" y="483"/>
                        <a:pt x="6" y="502"/>
                      </a:cubicBezTo>
                      <a:cubicBezTo>
                        <a:pt x="0" y="521"/>
                        <a:pt x="5" y="531"/>
                        <a:pt x="20" y="540"/>
                      </a:cubicBezTo>
                      <a:cubicBezTo>
                        <a:pt x="34" y="560"/>
                        <a:pt x="58" y="560"/>
                        <a:pt x="78" y="571"/>
                      </a:cubicBezTo>
                      <a:cubicBezTo>
                        <a:pt x="96" y="581"/>
                        <a:pt x="109" y="592"/>
                        <a:pt x="129" y="598"/>
                      </a:cubicBezTo>
                      <a:cubicBezTo>
                        <a:pt x="155" y="615"/>
                        <a:pt x="142" y="611"/>
                        <a:pt x="167" y="615"/>
                      </a:cubicBezTo>
                      <a:cubicBezTo>
                        <a:pt x="207" y="631"/>
                        <a:pt x="260" y="630"/>
                        <a:pt x="301" y="632"/>
                      </a:cubicBezTo>
                      <a:cubicBezTo>
                        <a:pt x="322" y="631"/>
                        <a:pt x="342" y="631"/>
                        <a:pt x="363" y="629"/>
                      </a:cubicBezTo>
                      <a:cubicBezTo>
                        <a:pt x="382" y="627"/>
                        <a:pt x="398" y="612"/>
                        <a:pt x="417" y="608"/>
                      </a:cubicBezTo>
                      <a:cubicBezTo>
                        <a:pt x="434" y="605"/>
                        <a:pt x="448" y="604"/>
                        <a:pt x="465" y="598"/>
                      </a:cubicBezTo>
                      <a:cubicBezTo>
                        <a:pt x="478" y="594"/>
                        <a:pt x="493" y="587"/>
                        <a:pt x="507" y="584"/>
                      </a:cubicBezTo>
                      <a:cubicBezTo>
                        <a:pt x="521" y="581"/>
                        <a:pt x="548" y="578"/>
                        <a:pt x="548" y="578"/>
                      </a:cubicBezTo>
                      <a:cubicBezTo>
                        <a:pt x="602" y="556"/>
                        <a:pt x="661" y="547"/>
                        <a:pt x="719" y="543"/>
                      </a:cubicBezTo>
                      <a:cubicBezTo>
                        <a:pt x="739" y="537"/>
                        <a:pt x="760" y="521"/>
                        <a:pt x="781" y="519"/>
                      </a:cubicBezTo>
                      <a:cubicBezTo>
                        <a:pt x="803" y="517"/>
                        <a:pt x="824" y="517"/>
                        <a:pt x="846" y="516"/>
                      </a:cubicBezTo>
                      <a:cubicBezTo>
                        <a:pt x="899" y="506"/>
                        <a:pt x="950" y="496"/>
                        <a:pt x="1004" y="492"/>
                      </a:cubicBezTo>
                      <a:cubicBezTo>
                        <a:pt x="1029" y="494"/>
                        <a:pt x="1038" y="496"/>
                        <a:pt x="1059" y="502"/>
                      </a:cubicBezTo>
                      <a:cubicBezTo>
                        <a:pt x="1069" y="509"/>
                        <a:pt x="1078" y="512"/>
                        <a:pt x="1089" y="516"/>
                      </a:cubicBezTo>
                      <a:cubicBezTo>
                        <a:pt x="1099" y="525"/>
                        <a:pt x="1104" y="535"/>
                        <a:pt x="1117" y="540"/>
                      </a:cubicBezTo>
                      <a:cubicBezTo>
                        <a:pt x="1121" y="554"/>
                        <a:pt x="1124" y="566"/>
                        <a:pt x="1124" y="58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>
                  <a:off x="2851200" y="2972520"/>
                  <a:ext cx="1352520" cy="917640"/>
                </a:xfrm>
                <a:custGeom>
                  <a:avLst/>
                  <a:gdLst/>
                  <a:ahLst/>
                  <a:rect l="l" t="t" r="r" b="b"/>
                  <a:pathLst>
                    <a:path w="852" h="578">
                      <a:moveTo>
                        <a:pt x="693" y="0"/>
                      </a:moveTo>
                      <a:cubicBezTo>
                        <a:pt x="691" y="16"/>
                        <a:pt x="694" y="33"/>
                        <a:pt x="682" y="45"/>
                      </a:cubicBezTo>
                      <a:cubicBezTo>
                        <a:pt x="659" y="68"/>
                        <a:pt x="626" y="73"/>
                        <a:pt x="597" y="82"/>
                      </a:cubicBezTo>
                      <a:cubicBezTo>
                        <a:pt x="560" y="93"/>
                        <a:pt x="524" y="109"/>
                        <a:pt x="487" y="120"/>
                      </a:cubicBezTo>
                      <a:cubicBezTo>
                        <a:pt x="457" y="141"/>
                        <a:pt x="410" y="150"/>
                        <a:pt x="374" y="161"/>
                      </a:cubicBezTo>
                      <a:cubicBezTo>
                        <a:pt x="339" y="186"/>
                        <a:pt x="291" y="195"/>
                        <a:pt x="250" y="209"/>
                      </a:cubicBezTo>
                      <a:cubicBezTo>
                        <a:pt x="177" y="233"/>
                        <a:pt x="104" y="261"/>
                        <a:pt x="28" y="274"/>
                      </a:cubicBezTo>
                      <a:cubicBezTo>
                        <a:pt x="14" y="279"/>
                        <a:pt x="9" y="279"/>
                        <a:pt x="0" y="291"/>
                      </a:cubicBezTo>
                      <a:cubicBezTo>
                        <a:pt x="40" y="307"/>
                        <a:pt x="87" y="302"/>
                        <a:pt x="130" y="305"/>
                      </a:cubicBezTo>
                      <a:cubicBezTo>
                        <a:pt x="179" y="316"/>
                        <a:pt x="231" y="311"/>
                        <a:pt x="281" y="315"/>
                      </a:cubicBezTo>
                      <a:cubicBezTo>
                        <a:pt x="335" y="328"/>
                        <a:pt x="401" y="324"/>
                        <a:pt x="453" y="326"/>
                      </a:cubicBezTo>
                      <a:cubicBezTo>
                        <a:pt x="470" y="331"/>
                        <a:pt x="487" y="336"/>
                        <a:pt x="504" y="343"/>
                      </a:cubicBezTo>
                      <a:cubicBezTo>
                        <a:pt x="571" y="339"/>
                        <a:pt x="627" y="347"/>
                        <a:pt x="693" y="353"/>
                      </a:cubicBezTo>
                      <a:cubicBezTo>
                        <a:pt x="729" y="360"/>
                        <a:pt x="761" y="374"/>
                        <a:pt x="796" y="384"/>
                      </a:cubicBezTo>
                      <a:cubicBezTo>
                        <a:pt x="807" y="391"/>
                        <a:pt x="812" y="401"/>
                        <a:pt x="823" y="408"/>
                      </a:cubicBezTo>
                      <a:cubicBezTo>
                        <a:pt x="826" y="419"/>
                        <a:pt x="833" y="428"/>
                        <a:pt x="837" y="439"/>
                      </a:cubicBezTo>
                      <a:cubicBezTo>
                        <a:pt x="852" y="525"/>
                        <a:pt x="823" y="536"/>
                        <a:pt x="751" y="542"/>
                      </a:cubicBezTo>
                      <a:cubicBezTo>
                        <a:pt x="630" y="578"/>
                        <a:pt x="755" y="542"/>
                        <a:pt x="394" y="542"/>
                      </a:cubicBezTo>
                      <a:cubicBezTo>
                        <a:pt x="297" y="542"/>
                        <a:pt x="181" y="546"/>
                        <a:pt x="82" y="549"/>
                      </a:cubicBezTo>
                      <a:cubicBezTo>
                        <a:pt x="73" y="551"/>
                        <a:pt x="50" y="559"/>
                        <a:pt x="38" y="55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>
                  <a:off x="2681280" y="1980720"/>
                  <a:ext cx="1301760" cy="1017360"/>
                </a:xfrm>
                <a:custGeom>
                  <a:avLst/>
                  <a:gdLst/>
                  <a:ahLst/>
                  <a:rect l="l" t="t" r="r" b="b"/>
                  <a:pathLst>
                    <a:path w="820" h="641">
                      <a:moveTo>
                        <a:pt x="155" y="0"/>
                      </a:moveTo>
                      <a:cubicBezTo>
                        <a:pt x="188" y="9"/>
                        <a:pt x="223" y="8"/>
                        <a:pt x="255" y="17"/>
                      </a:cubicBezTo>
                      <a:cubicBezTo>
                        <a:pt x="276" y="23"/>
                        <a:pt x="295" y="38"/>
                        <a:pt x="316" y="45"/>
                      </a:cubicBezTo>
                      <a:cubicBezTo>
                        <a:pt x="390" y="70"/>
                        <a:pt x="469" y="93"/>
                        <a:pt x="546" y="103"/>
                      </a:cubicBezTo>
                      <a:cubicBezTo>
                        <a:pt x="563" y="108"/>
                        <a:pt x="580" y="109"/>
                        <a:pt x="597" y="113"/>
                      </a:cubicBezTo>
                      <a:cubicBezTo>
                        <a:pt x="605" y="115"/>
                        <a:pt x="621" y="120"/>
                        <a:pt x="621" y="120"/>
                      </a:cubicBezTo>
                      <a:cubicBezTo>
                        <a:pt x="657" y="143"/>
                        <a:pt x="691" y="146"/>
                        <a:pt x="731" y="158"/>
                      </a:cubicBezTo>
                      <a:cubicBezTo>
                        <a:pt x="746" y="162"/>
                        <a:pt x="758" y="171"/>
                        <a:pt x="772" y="175"/>
                      </a:cubicBezTo>
                      <a:cubicBezTo>
                        <a:pt x="783" y="182"/>
                        <a:pt x="792" y="191"/>
                        <a:pt x="803" y="199"/>
                      </a:cubicBezTo>
                      <a:cubicBezTo>
                        <a:pt x="809" y="213"/>
                        <a:pt x="816" y="226"/>
                        <a:pt x="820" y="240"/>
                      </a:cubicBezTo>
                      <a:cubicBezTo>
                        <a:pt x="818" y="267"/>
                        <a:pt x="817" y="296"/>
                        <a:pt x="793" y="312"/>
                      </a:cubicBezTo>
                      <a:cubicBezTo>
                        <a:pt x="784" y="327"/>
                        <a:pt x="788" y="326"/>
                        <a:pt x="765" y="329"/>
                      </a:cubicBezTo>
                      <a:cubicBezTo>
                        <a:pt x="749" y="331"/>
                        <a:pt x="717" y="336"/>
                        <a:pt x="717" y="336"/>
                      </a:cubicBezTo>
                      <a:cubicBezTo>
                        <a:pt x="688" y="333"/>
                        <a:pt x="660" y="328"/>
                        <a:pt x="632" y="323"/>
                      </a:cubicBezTo>
                      <a:cubicBezTo>
                        <a:pt x="607" y="314"/>
                        <a:pt x="583" y="311"/>
                        <a:pt x="556" y="309"/>
                      </a:cubicBezTo>
                      <a:cubicBezTo>
                        <a:pt x="524" y="303"/>
                        <a:pt x="490" y="288"/>
                        <a:pt x="457" y="285"/>
                      </a:cubicBezTo>
                      <a:cubicBezTo>
                        <a:pt x="422" y="281"/>
                        <a:pt x="386" y="281"/>
                        <a:pt x="351" y="275"/>
                      </a:cubicBezTo>
                      <a:cubicBezTo>
                        <a:pt x="330" y="272"/>
                        <a:pt x="310" y="260"/>
                        <a:pt x="289" y="257"/>
                      </a:cubicBezTo>
                      <a:cubicBezTo>
                        <a:pt x="265" y="254"/>
                        <a:pt x="241" y="254"/>
                        <a:pt x="217" y="251"/>
                      </a:cubicBezTo>
                      <a:cubicBezTo>
                        <a:pt x="187" y="248"/>
                        <a:pt x="150" y="245"/>
                        <a:pt x="121" y="237"/>
                      </a:cubicBezTo>
                      <a:cubicBezTo>
                        <a:pt x="101" y="231"/>
                        <a:pt x="59" y="223"/>
                        <a:pt x="59" y="223"/>
                      </a:cubicBezTo>
                      <a:cubicBezTo>
                        <a:pt x="45" y="224"/>
                        <a:pt x="30" y="220"/>
                        <a:pt x="18" y="227"/>
                      </a:cubicBezTo>
                      <a:cubicBezTo>
                        <a:pt x="0" y="237"/>
                        <a:pt x="39" y="253"/>
                        <a:pt x="42" y="254"/>
                      </a:cubicBezTo>
                      <a:cubicBezTo>
                        <a:pt x="62" y="268"/>
                        <a:pt x="76" y="292"/>
                        <a:pt x="100" y="299"/>
                      </a:cubicBezTo>
                      <a:cubicBezTo>
                        <a:pt x="107" y="301"/>
                        <a:pt x="121" y="305"/>
                        <a:pt x="121" y="305"/>
                      </a:cubicBezTo>
                      <a:cubicBezTo>
                        <a:pt x="133" y="313"/>
                        <a:pt x="138" y="322"/>
                        <a:pt x="152" y="326"/>
                      </a:cubicBezTo>
                      <a:cubicBezTo>
                        <a:pt x="168" y="342"/>
                        <a:pt x="191" y="360"/>
                        <a:pt x="213" y="367"/>
                      </a:cubicBezTo>
                      <a:cubicBezTo>
                        <a:pt x="231" y="379"/>
                        <a:pt x="254" y="392"/>
                        <a:pt x="275" y="398"/>
                      </a:cubicBezTo>
                      <a:cubicBezTo>
                        <a:pt x="289" y="407"/>
                        <a:pt x="300" y="417"/>
                        <a:pt x="316" y="422"/>
                      </a:cubicBezTo>
                      <a:cubicBezTo>
                        <a:pt x="330" y="431"/>
                        <a:pt x="341" y="441"/>
                        <a:pt x="357" y="446"/>
                      </a:cubicBezTo>
                      <a:cubicBezTo>
                        <a:pt x="371" y="455"/>
                        <a:pt x="384" y="465"/>
                        <a:pt x="399" y="473"/>
                      </a:cubicBezTo>
                      <a:cubicBezTo>
                        <a:pt x="405" y="484"/>
                        <a:pt x="426" y="497"/>
                        <a:pt x="426" y="497"/>
                      </a:cubicBezTo>
                      <a:cubicBezTo>
                        <a:pt x="435" y="512"/>
                        <a:pt x="447" y="520"/>
                        <a:pt x="457" y="535"/>
                      </a:cubicBezTo>
                      <a:cubicBezTo>
                        <a:pt x="462" y="542"/>
                        <a:pt x="471" y="556"/>
                        <a:pt x="471" y="556"/>
                      </a:cubicBezTo>
                      <a:cubicBezTo>
                        <a:pt x="489" y="616"/>
                        <a:pt x="455" y="631"/>
                        <a:pt x="409" y="641"/>
                      </a:cubicBezTo>
                      <a:cubicBezTo>
                        <a:pt x="372" y="639"/>
                        <a:pt x="359" y="640"/>
                        <a:pt x="330" y="6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961920" y="2000880"/>
                  <a:ext cx="2243160" cy="615960"/>
                </a:xfrm>
                <a:custGeom>
                  <a:avLst/>
                  <a:gdLst/>
                  <a:ahLst/>
                  <a:rect l="l" t="t" r="r" b="b"/>
                  <a:pathLst>
                    <a:path w="1413" h="388">
                      <a:moveTo>
                        <a:pt x="1413" y="388"/>
                      </a:moveTo>
                      <a:cubicBezTo>
                        <a:pt x="1408" y="369"/>
                        <a:pt x="1397" y="375"/>
                        <a:pt x="1379" y="371"/>
                      </a:cubicBezTo>
                      <a:cubicBezTo>
                        <a:pt x="1371" y="369"/>
                        <a:pt x="1355" y="364"/>
                        <a:pt x="1355" y="364"/>
                      </a:cubicBezTo>
                      <a:cubicBezTo>
                        <a:pt x="1341" y="355"/>
                        <a:pt x="1330" y="345"/>
                        <a:pt x="1314" y="340"/>
                      </a:cubicBezTo>
                      <a:cubicBezTo>
                        <a:pt x="1275" y="315"/>
                        <a:pt x="1227" y="304"/>
                        <a:pt x="1183" y="292"/>
                      </a:cubicBezTo>
                      <a:cubicBezTo>
                        <a:pt x="1157" y="274"/>
                        <a:pt x="1087" y="253"/>
                        <a:pt x="1056" y="244"/>
                      </a:cubicBezTo>
                      <a:cubicBezTo>
                        <a:pt x="1037" y="231"/>
                        <a:pt x="1017" y="213"/>
                        <a:pt x="995" y="206"/>
                      </a:cubicBezTo>
                      <a:cubicBezTo>
                        <a:pt x="941" y="170"/>
                        <a:pt x="884" y="157"/>
                        <a:pt x="820" y="144"/>
                      </a:cubicBezTo>
                      <a:cubicBezTo>
                        <a:pt x="785" y="137"/>
                        <a:pt x="751" y="119"/>
                        <a:pt x="714" y="117"/>
                      </a:cubicBezTo>
                      <a:cubicBezTo>
                        <a:pt x="676" y="115"/>
                        <a:pt x="562" y="111"/>
                        <a:pt x="522" y="110"/>
                      </a:cubicBezTo>
                      <a:cubicBezTo>
                        <a:pt x="500" y="104"/>
                        <a:pt x="478" y="93"/>
                        <a:pt x="456" y="89"/>
                      </a:cubicBezTo>
                      <a:cubicBezTo>
                        <a:pt x="442" y="86"/>
                        <a:pt x="415" y="83"/>
                        <a:pt x="415" y="83"/>
                      </a:cubicBezTo>
                      <a:cubicBezTo>
                        <a:pt x="380" y="69"/>
                        <a:pt x="342" y="63"/>
                        <a:pt x="306" y="52"/>
                      </a:cubicBezTo>
                      <a:cubicBezTo>
                        <a:pt x="287" y="39"/>
                        <a:pt x="267" y="21"/>
                        <a:pt x="244" y="14"/>
                      </a:cubicBezTo>
                      <a:cubicBezTo>
                        <a:pt x="234" y="7"/>
                        <a:pt x="225" y="5"/>
                        <a:pt x="213" y="0"/>
                      </a:cubicBezTo>
                      <a:cubicBezTo>
                        <a:pt x="171" y="4"/>
                        <a:pt x="134" y="20"/>
                        <a:pt x="93" y="24"/>
                      </a:cubicBezTo>
                      <a:cubicBezTo>
                        <a:pt x="61" y="31"/>
                        <a:pt x="32" y="35"/>
                        <a:pt x="0" y="35"/>
                      </a:cubicBezTo>
                      <a:lnTo>
                        <a:pt x="21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3106080" y="1994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65160" y="2463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61720" y="30225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46080" y="3733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63400" y="4444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10800000">
            <a:off x="609480" y="1751760"/>
            <a:ext cx="7769520" cy="322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7360" y="1980720"/>
            <a:ext cx="7392240" cy="2898000"/>
            <a:chOff x="837360" y="1980720"/>
            <a:chExt cx="7392240" cy="2898000"/>
          </a:xfrm>
        </p:grpSpPr>
        <p:sp>
          <p:nvSpPr>
            <p:cNvPr id="110" name=""/>
            <p:cNvSpPr/>
            <p:nvPr/>
          </p:nvSpPr>
          <p:spPr>
            <a:xfrm>
              <a:off x="1311120" y="342900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Glo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03920" y="4602240"/>
              <a:ext cx="29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200" spc="-1" strike="noStrike">
                  <a:solidFill>
                    <a:srgbClr val="000000"/>
                  </a:solidFill>
                  <a:latin typeface="Arial"/>
                </a:rPr>
                <a:t>www.jesus-eucharistie.org/wisd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1981080"/>
              <a:ext cx="38862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Doubt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pinkie). "Ah yes, really?" One of the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est defen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 mechanism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against false belief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ethodical doubt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Fact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(the annular). "What exactly are we talking about?" Y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u have to dig down until you reach th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videnc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, find the original sources,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fine the terms used in the discussion, quantify the observations, get it in writing, etc.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Cause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middle finger). "But why?"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cience is deep, certain knowledge, 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i.e.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knowledge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through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cause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Morality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index). "Nothing overmuch!" How can you become wise, if you're too lazy to study, too proud to admit your mistakes, too drunk or drugged to think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5) </a:t>
              </a:r>
              <a:r>
                <a:rPr b="1" lang="fr-CA" sz="1000" spc="-1" strike="noStrike">
                  <a:solidFill>
                    <a:srgbClr val="000000"/>
                  </a:solidFill>
                  <a:latin typeface="Times New Roman"/>
                </a:rPr>
                <a:t>Books</a:t>
              </a:r>
              <a:r>
                <a:rPr b="0" lang="fr-CA" sz="1000" spc="-1" strike="noStrike">
                  <a:solidFill>
                    <a:srgbClr val="000000"/>
                  </a:solidFill>
                  <a:latin typeface="Times New Roman"/>
                </a:rPr>
                <a:t> (the thumb). "Any good books about this?" Existing good sources of information must be studied.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38080" y="1980720"/>
              <a:ext cx="3365640" cy="2832120"/>
              <a:chOff x="838080" y="1980720"/>
              <a:chExt cx="3365640" cy="28321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838080" y="1980720"/>
                <a:ext cx="3365640" cy="2832120"/>
                <a:chOff x="838080" y="1980720"/>
                <a:chExt cx="3365640" cy="2832120"/>
              </a:xfrm>
            </p:grpSpPr>
            <p:sp>
              <p:nvSpPr>
                <p:cNvPr id="115" name=""/>
                <p:cNvSpPr/>
                <p:nvPr/>
              </p:nvSpPr>
              <p:spPr>
                <a:xfrm flipV="1">
                  <a:off x="838080" y="3454920"/>
                  <a:ext cx="1403640" cy="1143000"/>
                </a:xfrm>
                <a:custGeom>
                  <a:avLst/>
                  <a:gdLst/>
                  <a:ahLst/>
                  <a:rect l="l" t="t" r="r" b="b"/>
                  <a:pathLst>
                    <a:path w="884" h="720">
                      <a:moveTo>
                        <a:pt x="0" y="720"/>
                      </a:moveTo>
                      <a:cubicBezTo>
                        <a:pt x="23" y="713"/>
                        <a:pt x="51" y="707"/>
                        <a:pt x="72" y="696"/>
                      </a:cubicBezTo>
                      <a:cubicBezTo>
                        <a:pt x="89" y="687"/>
                        <a:pt x="104" y="675"/>
                        <a:pt x="123" y="669"/>
                      </a:cubicBezTo>
                      <a:cubicBezTo>
                        <a:pt x="136" y="660"/>
                        <a:pt x="151" y="657"/>
                        <a:pt x="164" y="648"/>
                      </a:cubicBezTo>
                      <a:cubicBezTo>
                        <a:pt x="169" y="637"/>
                        <a:pt x="171" y="627"/>
                        <a:pt x="178" y="617"/>
                      </a:cubicBezTo>
                      <a:cubicBezTo>
                        <a:pt x="187" y="588"/>
                        <a:pt x="199" y="560"/>
                        <a:pt x="216" y="535"/>
                      </a:cubicBezTo>
                      <a:cubicBezTo>
                        <a:pt x="223" y="512"/>
                        <a:pt x="234" y="502"/>
                        <a:pt x="253" y="491"/>
                      </a:cubicBezTo>
                      <a:cubicBezTo>
                        <a:pt x="264" y="473"/>
                        <a:pt x="281" y="461"/>
                        <a:pt x="298" y="449"/>
                      </a:cubicBezTo>
                      <a:cubicBezTo>
                        <a:pt x="306" y="443"/>
                        <a:pt x="322" y="432"/>
                        <a:pt x="322" y="432"/>
                      </a:cubicBezTo>
                      <a:cubicBezTo>
                        <a:pt x="334" y="414"/>
                        <a:pt x="361" y="404"/>
                        <a:pt x="380" y="391"/>
                      </a:cubicBezTo>
                      <a:cubicBezTo>
                        <a:pt x="391" y="384"/>
                        <a:pt x="390" y="384"/>
                        <a:pt x="401" y="377"/>
                      </a:cubicBezTo>
                      <a:cubicBezTo>
                        <a:pt x="404" y="375"/>
                        <a:pt x="411" y="371"/>
                        <a:pt x="411" y="371"/>
                      </a:cubicBezTo>
                      <a:cubicBezTo>
                        <a:pt x="420" y="356"/>
                        <a:pt x="433" y="354"/>
                        <a:pt x="449" y="343"/>
                      </a:cubicBezTo>
                      <a:cubicBezTo>
                        <a:pt x="470" y="329"/>
                        <a:pt x="488" y="312"/>
                        <a:pt x="510" y="299"/>
                      </a:cubicBezTo>
                      <a:cubicBezTo>
                        <a:pt x="517" y="289"/>
                        <a:pt x="538" y="275"/>
                        <a:pt x="538" y="275"/>
                      </a:cubicBezTo>
                      <a:cubicBezTo>
                        <a:pt x="546" y="263"/>
                        <a:pt x="551" y="258"/>
                        <a:pt x="565" y="254"/>
                      </a:cubicBezTo>
                      <a:cubicBezTo>
                        <a:pt x="575" y="247"/>
                        <a:pt x="591" y="230"/>
                        <a:pt x="603" y="227"/>
                      </a:cubicBezTo>
                      <a:cubicBezTo>
                        <a:pt x="613" y="220"/>
                        <a:pt x="622" y="217"/>
                        <a:pt x="634" y="213"/>
                      </a:cubicBezTo>
                      <a:cubicBezTo>
                        <a:pt x="650" y="202"/>
                        <a:pt x="638" y="208"/>
                        <a:pt x="658" y="203"/>
                      </a:cubicBezTo>
                      <a:cubicBezTo>
                        <a:pt x="666" y="201"/>
                        <a:pt x="682" y="196"/>
                        <a:pt x="682" y="196"/>
                      </a:cubicBezTo>
                      <a:cubicBezTo>
                        <a:pt x="697" y="186"/>
                        <a:pt x="709" y="176"/>
                        <a:pt x="723" y="165"/>
                      </a:cubicBezTo>
                      <a:cubicBezTo>
                        <a:pt x="730" y="160"/>
                        <a:pt x="744" y="151"/>
                        <a:pt x="744" y="151"/>
                      </a:cubicBezTo>
                      <a:cubicBezTo>
                        <a:pt x="752" y="138"/>
                        <a:pt x="766" y="126"/>
                        <a:pt x="778" y="117"/>
                      </a:cubicBezTo>
                      <a:cubicBezTo>
                        <a:pt x="794" y="93"/>
                        <a:pt x="785" y="101"/>
                        <a:pt x="802" y="89"/>
                      </a:cubicBezTo>
                      <a:cubicBezTo>
                        <a:pt x="806" y="76"/>
                        <a:pt x="821" y="63"/>
                        <a:pt x="833" y="55"/>
                      </a:cubicBezTo>
                      <a:cubicBezTo>
                        <a:pt x="841" y="43"/>
                        <a:pt x="845" y="36"/>
                        <a:pt x="857" y="28"/>
                      </a:cubicBezTo>
                      <a:cubicBezTo>
                        <a:pt x="863" y="19"/>
                        <a:pt x="884" y="6"/>
                        <a:pt x="884" y="0"/>
                      </a:cubicBezTo>
                      <a:lnTo>
                        <a:pt x="867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2166840" y="3809160"/>
                  <a:ext cx="1784520" cy="1003320"/>
                </a:xfrm>
                <a:custGeom>
                  <a:avLst/>
                  <a:gdLst/>
                  <a:ahLst/>
                  <a:rect l="l" t="t" r="r" b="b"/>
                  <a:pathLst>
                    <a:path w="1124" h="632">
                      <a:moveTo>
                        <a:pt x="57" y="125"/>
                      </a:moveTo>
                      <a:cubicBezTo>
                        <a:pt x="80" y="119"/>
                        <a:pt x="71" y="82"/>
                        <a:pt x="99" y="74"/>
                      </a:cubicBezTo>
                      <a:cubicBezTo>
                        <a:pt x="110" y="66"/>
                        <a:pt x="122" y="50"/>
                        <a:pt x="133" y="46"/>
                      </a:cubicBezTo>
                      <a:cubicBezTo>
                        <a:pt x="147" y="27"/>
                        <a:pt x="171" y="14"/>
                        <a:pt x="191" y="2"/>
                      </a:cubicBezTo>
                      <a:cubicBezTo>
                        <a:pt x="222" y="4"/>
                        <a:pt x="234" y="0"/>
                        <a:pt x="256" y="15"/>
                      </a:cubicBezTo>
                      <a:cubicBezTo>
                        <a:pt x="268" y="48"/>
                        <a:pt x="250" y="6"/>
                        <a:pt x="270" y="32"/>
                      </a:cubicBezTo>
                      <a:cubicBezTo>
                        <a:pt x="279" y="44"/>
                        <a:pt x="289" y="78"/>
                        <a:pt x="294" y="94"/>
                      </a:cubicBezTo>
                      <a:cubicBezTo>
                        <a:pt x="292" y="189"/>
                        <a:pt x="301" y="270"/>
                        <a:pt x="219" y="327"/>
                      </a:cubicBezTo>
                      <a:cubicBezTo>
                        <a:pt x="210" y="342"/>
                        <a:pt x="189" y="353"/>
                        <a:pt x="171" y="358"/>
                      </a:cubicBezTo>
                      <a:cubicBezTo>
                        <a:pt x="158" y="366"/>
                        <a:pt x="133" y="392"/>
                        <a:pt x="119" y="396"/>
                      </a:cubicBezTo>
                      <a:cubicBezTo>
                        <a:pt x="100" y="402"/>
                        <a:pt x="84" y="412"/>
                        <a:pt x="68" y="423"/>
                      </a:cubicBezTo>
                      <a:cubicBezTo>
                        <a:pt x="66" y="427"/>
                        <a:pt x="64" y="431"/>
                        <a:pt x="61" y="434"/>
                      </a:cubicBezTo>
                      <a:cubicBezTo>
                        <a:pt x="58" y="437"/>
                        <a:pt x="54" y="437"/>
                        <a:pt x="51" y="440"/>
                      </a:cubicBezTo>
                      <a:cubicBezTo>
                        <a:pt x="35" y="457"/>
                        <a:pt x="20" y="483"/>
                        <a:pt x="6" y="502"/>
                      </a:cubicBezTo>
                      <a:cubicBezTo>
                        <a:pt x="0" y="521"/>
                        <a:pt x="5" y="531"/>
                        <a:pt x="20" y="540"/>
                      </a:cubicBezTo>
                      <a:cubicBezTo>
                        <a:pt x="34" y="560"/>
                        <a:pt x="58" y="560"/>
                        <a:pt x="78" y="571"/>
                      </a:cubicBezTo>
                      <a:cubicBezTo>
                        <a:pt x="96" y="581"/>
                        <a:pt x="109" y="592"/>
                        <a:pt x="129" y="598"/>
                      </a:cubicBezTo>
                      <a:cubicBezTo>
                        <a:pt x="155" y="615"/>
                        <a:pt x="142" y="611"/>
                        <a:pt x="167" y="615"/>
                      </a:cubicBezTo>
                      <a:cubicBezTo>
                        <a:pt x="207" y="631"/>
                        <a:pt x="260" y="630"/>
                        <a:pt x="301" y="632"/>
                      </a:cubicBezTo>
                      <a:cubicBezTo>
                        <a:pt x="322" y="631"/>
                        <a:pt x="342" y="631"/>
                        <a:pt x="363" y="629"/>
                      </a:cubicBezTo>
                      <a:cubicBezTo>
                        <a:pt x="382" y="627"/>
                        <a:pt x="398" y="612"/>
                        <a:pt x="417" y="608"/>
                      </a:cubicBezTo>
                      <a:cubicBezTo>
                        <a:pt x="434" y="605"/>
                        <a:pt x="448" y="604"/>
                        <a:pt x="465" y="598"/>
                      </a:cubicBezTo>
                      <a:cubicBezTo>
                        <a:pt x="478" y="594"/>
                        <a:pt x="493" y="587"/>
                        <a:pt x="507" y="584"/>
                      </a:cubicBezTo>
                      <a:cubicBezTo>
                        <a:pt x="521" y="581"/>
                        <a:pt x="548" y="578"/>
                        <a:pt x="548" y="578"/>
                      </a:cubicBezTo>
                      <a:cubicBezTo>
                        <a:pt x="602" y="556"/>
                        <a:pt x="661" y="547"/>
                        <a:pt x="719" y="543"/>
                      </a:cubicBezTo>
                      <a:cubicBezTo>
                        <a:pt x="739" y="537"/>
                        <a:pt x="760" y="521"/>
                        <a:pt x="781" y="519"/>
                      </a:cubicBezTo>
                      <a:cubicBezTo>
                        <a:pt x="803" y="517"/>
                        <a:pt x="824" y="517"/>
                        <a:pt x="846" y="516"/>
                      </a:cubicBezTo>
                      <a:cubicBezTo>
                        <a:pt x="899" y="506"/>
                        <a:pt x="950" y="496"/>
                        <a:pt x="1004" y="492"/>
                      </a:cubicBezTo>
                      <a:cubicBezTo>
                        <a:pt x="1029" y="494"/>
                        <a:pt x="1038" y="496"/>
                        <a:pt x="1059" y="502"/>
                      </a:cubicBezTo>
                      <a:cubicBezTo>
                        <a:pt x="1069" y="509"/>
                        <a:pt x="1078" y="512"/>
                        <a:pt x="1089" y="516"/>
                      </a:cubicBezTo>
                      <a:cubicBezTo>
                        <a:pt x="1099" y="525"/>
                        <a:pt x="1104" y="535"/>
                        <a:pt x="1117" y="540"/>
                      </a:cubicBezTo>
                      <a:cubicBezTo>
                        <a:pt x="1121" y="554"/>
                        <a:pt x="1124" y="566"/>
                        <a:pt x="1124" y="58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2851200" y="2972520"/>
                  <a:ext cx="1352520" cy="917640"/>
                </a:xfrm>
                <a:custGeom>
                  <a:avLst/>
                  <a:gdLst/>
                  <a:ahLst/>
                  <a:rect l="l" t="t" r="r" b="b"/>
                  <a:pathLst>
                    <a:path w="852" h="578">
                      <a:moveTo>
                        <a:pt x="693" y="0"/>
                      </a:moveTo>
                      <a:cubicBezTo>
                        <a:pt x="691" y="16"/>
                        <a:pt x="694" y="33"/>
                        <a:pt x="682" y="45"/>
                      </a:cubicBezTo>
                      <a:cubicBezTo>
                        <a:pt x="659" y="68"/>
                        <a:pt x="626" y="73"/>
                        <a:pt x="597" y="82"/>
                      </a:cubicBezTo>
                      <a:cubicBezTo>
                        <a:pt x="560" y="93"/>
                        <a:pt x="524" y="109"/>
                        <a:pt x="487" y="120"/>
                      </a:cubicBezTo>
                      <a:cubicBezTo>
                        <a:pt x="457" y="141"/>
                        <a:pt x="410" y="150"/>
                        <a:pt x="374" y="161"/>
                      </a:cubicBezTo>
                      <a:cubicBezTo>
                        <a:pt x="339" y="186"/>
                        <a:pt x="291" y="195"/>
                        <a:pt x="250" y="209"/>
                      </a:cubicBezTo>
                      <a:cubicBezTo>
                        <a:pt x="177" y="233"/>
                        <a:pt x="104" y="261"/>
                        <a:pt x="28" y="274"/>
                      </a:cubicBezTo>
                      <a:cubicBezTo>
                        <a:pt x="14" y="279"/>
                        <a:pt x="9" y="279"/>
                        <a:pt x="0" y="291"/>
                      </a:cubicBezTo>
                      <a:cubicBezTo>
                        <a:pt x="40" y="307"/>
                        <a:pt x="87" y="302"/>
                        <a:pt x="130" y="305"/>
                      </a:cubicBezTo>
                      <a:cubicBezTo>
                        <a:pt x="179" y="316"/>
                        <a:pt x="231" y="311"/>
                        <a:pt x="281" y="315"/>
                      </a:cubicBezTo>
                      <a:cubicBezTo>
                        <a:pt x="335" y="328"/>
                        <a:pt x="401" y="324"/>
                        <a:pt x="453" y="326"/>
                      </a:cubicBezTo>
                      <a:cubicBezTo>
                        <a:pt x="470" y="331"/>
                        <a:pt x="487" y="336"/>
                        <a:pt x="504" y="343"/>
                      </a:cubicBezTo>
                      <a:cubicBezTo>
                        <a:pt x="571" y="339"/>
                        <a:pt x="627" y="347"/>
                        <a:pt x="693" y="353"/>
                      </a:cubicBezTo>
                      <a:cubicBezTo>
                        <a:pt x="729" y="360"/>
                        <a:pt x="761" y="374"/>
                        <a:pt x="796" y="384"/>
                      </a:cubicBezTo>
                      <a:cubicBezTo>
                        <a:pt x="807" y="391"/>
                        <a:pt x="812" y="401"/>
                        <a:pt x="823" y="408"/>
                      </a:cubicBezTo>
                      <a:cubicBezTo>
                        <a:pt x="826" y="419"/>
                        <a:pt x="833" y="428"/>
                        <a:pt x="837" y="439"/>
                      </a:cubicBezTo>
                      <a:cubicBezTo>
                        <a:pt x="852" y="525"/>
                        <a:pt x="823" y="536"/>
                        <a:pt x="751" y="542"/>
                      </a:cubicBezTo>
                      <a:cubicBezTo>
                        <a:pt x="630" y="578"/>
                        <a:pt x="755" y="542"/>
                        <a:pt x="394" y="542"/>
                      </a:cubicBezTo>
                      <a:cubicBezTo>
                        <a:pt x="297" y="542"/>
                        <a:pt x="181" y="546"/>
                        <a:pt x="82" y="549"/>
                      </a:cubicBezTo>
                      <a:cubicBezTo>
                        <a:pt x="73" y="551"/>
                        <a:pt x="50" y="559"/>
                        <a:pt x="38" y="55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681280" y="1980720"/>
                  <a:ext cx="1301760" cy="1017360"/>
                </a:xfrm>
                <a:custGeom>
                  <a:avLst/>
                  <a:gdLst/>
                  <a:ahLst/>
                  <a:rect l="l" t="t" r="r" b="b"/>
                  <a:pathLst>
                    <a:path w="820" h="641">
                      <a:moveTo>
                        <a:pt x="155" y="0"/>
                      </a:moveTo>
                      <a:cubicBezTo>
                        <a:pt x="188" y="9"/>
                        <a:pt x="223" y="8"/>
                        <a:pt x="255" y="17"/>
                      </a:cubicBezTo>
                      <a:cubicBezTo>
                        <a:pt x="276" y="23"/>
                        <a:pt x="295" y="38"/>
                        <a:pt x="316" y="45"/>
                      </a:cubicBezTo>
                      <a:cubicBezTo>
                        <a:pt x="390" y="70"/>
                        <a:pt x="469" y="93"/>
                        <a:pt x="546" y="103"/>
                      </a:cubicBezTo>
                      <a:cubicBezTo>
                        <a:pt x="563" y="108"/>
                        <a:pt x="580" y="109"/>
                        <a:pt x="597" y="113"/>
                      </a:cubicBezTo>
                      <a:cubicBezTo>
                        <a:pt x="605" y="115"/>
                        <a:pt x="621" y="120"/>
                        <a:pt x="621" y="120"/>
                      </a:cubicBezTo>
                      <a:cubicBezTo>
                        <a:pt x="657" y="143"/>
                        <a:pt x="691" y="146"/>
                        <a:pt x="731" y="158"/>
                      </a:cubicBezTo>
                      <a:cubicBezTo>
                        <a:pt x="746" y="162"/>
                        <a:pt x="758" y="171"/>
                        <a:pt x="772" y="175"/>
                      </a:cubicBezTo>
                      <a:cubicBezTo>
                        <a:pt x="783" y="182"/>
                        <a:pt x="792" y="191"/>
                        <a:pt x="803" y="199"/>
                      </a:cubicBezTo>
                      <a:cubicBezTo>
                        <a:pt x="809" y="213"/>
                        <a:pt x="816" y="226"/>
                        <a:pt x="820" y="240"/>
                      </a:cubicBezTo>
                      <a:cubicBezTo>
                        <a:pt x="818" y="267"/>
                        <a:pt x="817" y="296"/>
                        <a:pt x="793" y="312"/>
                      </a:cubicBezTo>
                      <a:cubicBezTo>
                        <a:pt x="784" y="327"/>
                        <a:pt x="788" y="326"/>
                        <a:pt x="765" y="329"/>
                      </a:cubicBezTo>
                      <a:cubicBezTo>
                        <a:pt x="749" y="331"/>
                        <a:pt x="717" y="336"/>
                        <a:pt x="717" y="336"/>
                      </a:cubicBezTo>
                      <a:cubicBezTo>
                        <a:pt x="688" y="333"/>
                        <a:pt x="660" y="328"/>
                        <a:pt x="632" y="323"/>
                      </a:cubicBezTo>
                      <a:cubicBezTo>
                        <a:pt x="607" y="314"/>
                        <a:pt x="583" y="311"/>
                        <a:pt x="556" y="309"/>
                      </a:cubicBezTo>
                      <a:cubicBezTo>
                        <a:pt x="524" y="303"/>
                        <a:pt x="490" y="288"/>
                        <a:pt x="457" y="285"/>
                      </a:cubicBezTo>
                      <a:cubicBezTo>
                        <a:pt x="422" y="281"/>
                        <a:pt x="386" y="281"/>
                        <a:pt x="351" y="275"/>
                      </a:cubicBezTo>
                      <a:cubicBezTo>
                        <a:pt x="330" y="272"/>
                        <a:pt x="310" y="260"/>
                        <a:pt x="289" y="257"/>
                      </a:cubicBezTo>
                      <a:cubicBezTo>
                        <a:pt x="265" y="254"/>
                        <a:pt x="241" y="254"/>
                        <a:pt x="217" y="251"/>
                      </a:cubicBezTo>
                      <a:cubicBezTo>
                        <a:pt x="187" y="248"/>
                        <a:pt x="150" y="245"/>
                        <a:pt x="121" y="237"/>
                      </a:cubicBezTo>
                      <a:cubicBezTo>
                        <a:pt x="101" y="231"/>
                        <a:pt x="59" y="223"/>
                        <a:pt x="59" y="223"/>
                      </a:cubicBezTo>
                      <a:cubicBezTo>
                        <a:pt x="45" y="224"/>
                        <a:pt x="30" y="220"/>
                        <a:pt x="18" y="227"/>
                      </a:cubicBezTo>
                      <a:cubicBezTo>
                        <a:pt x="0" y="237"/>
                        <a:pt x="39" y="253"/>
                        <a:pt x="42" y="254"/>
                      </a:cubicBezTo>
                      <a:cubicBezTo>
                        <a:pt x="62" y="268"/>
                        <a:pt x="76" y="292"/>
                        <a:pt x="100" y="299"/>
                      </a:cubicBezTo>
                      <a:cubicBezTo>
                        <a:pt x="107" y="301"/>
                        <a:pt x="121" y="305"/>
                        <a:pt x="121" y="305"/>
                      </a:cubicBezTo>
                      <a:cubicBezTo>
                        <a:pt x="133" y="313"/>
                        <a:pt x="138" y="322"/>
                        <a:pt x="152" y="326"/>
                      </a:cubicBezTo>
                      <a:cubicBezTo>
                        <a:pt x="168" y="342"/>
                        <a:pt x="191" y="360"/>
                        <a:pt x="213" y="367"/>
                      </a:cubicBezTo>
                      <a:cubicBezTo>
                        <a:pt x="231" y="379"/>
                        <a:pt x="254" y="392"/>
                        <a:pt x="275" y="398"/>
                      </a:cubicBezTo>
                      <a:cubicBezTo>
                        <a:pt x="289" y="407"/>
                        <a:pt x="300" y="417"/>
                        <a:pt x="316" y="422"/>
                      </a:cubicBezTo>
                      <a:cubicBezTo>
                        <a:pt x="330" y="431"/>
                        <a:pt x="341" y="441"/>
                        <a:pt x="357" y="446"/>
                      </a:cubicBezTo>
                      <a:cubicBezTo>
                        <a:pt x="371" y="455"/>
                        <a:pt x="384" y="465"/>
                        <a:pt x="399" y="473"/>
                      </a:cubicBezTo>
                      <a:cubicBezTo>
                        <a:pt x="405" y="484"/>
                        <a:pt x="426" y="497"/>
                        <a:pt x="426" y="497"/>
                      </a:cubicBezTo>
                      <a:cubicBezTo>
                        <a:pt x="435" y="512"/>
                        <a:pt x="447" y="520"/>
                        <a:pt x="457" y="535"/>
                      </a:cubicBezTo>
                      <a:cubicBezTo>
                        <a:pt x="462" y="542"/>
                        <a:pt x="471" y="556"/>
                        <a:pt x="471" y="556"/>
                      </a:cubicBezTo>
                      <a:cubicBezTo>
                        <a:pt x="489" y="616"/>
                        <a:pt x="455" y="631"/>
                        <a:pt x="409" y="641"/>
                      </a:cubicBezTo>
                      <a:cubicBezTo>
                        <a:pt x="372" y="639"/>
                        <a:pt x="359" y="640"/>
                        <a:pt x="330" y="6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961920" y="2000880"/>
                  <a:ext cx="2243160" cy="615960"/>
                </a:xfrm>
                <a:custGeom>
                  <a:avLst/>
                  <a:gdLst/>
                  <a:ahLst/>
                  <a:rect l="l" t="t" r="r" b="b"/>
                  <a:pathLst>
                    <a:path w="1413" h="388">
                      <a:moveTo>
                        <a:pt x="1413" y="388"/>
                      </a:moveTo>
                      <a:cubicBezTo>
                        <a:pt x="1408" y="369"/>
                        <a:pt x="1397" y="375"/>
                        <a:pt x="1379" y="371"/>
                      </a:cubicBezTo>
                      <a:cubicBezTo>
                        <a:pt x="1371" y="369"/>
                        <a:pt x="1355" y="364"/>
                        <a:pt x="1355" y="364"/>
                      </a:cubicBezTo>
                      <a:cubicBezTo>
                        <a:pt x="1341" y="355"/>
                        <a:pt x="1330" y="345"/>
                        <a:pt x="1314" y="340"/>
                      </a:cubicBezTo>
                      <a:cubicBezTo>
                        <a:pt x="1275" y="315"/>
                        <a:pt x="1227" y="304"/>
                        <a:pt x="1183" y="292"/>
                      </a:cubicBezTo>
                      <a:cubicBezTo>
                        <a:pt x="1157" y="274"/>
                        <a:pt x="1087" y="253"/>
                        <a:pt x="1056" y="244"/>
                      </a:cubicBezTo>
                      <a:cubicBezTo>
                        <a:pt x="1037" y="231"/>
                        <a:pt x="1017" y="213"/>
                        <a:pt x="995" y="206"/>
                      </a:cubicBezTo>
                      <a:cubicBezTo>
                        <a:pt x="941" y="170"/>
                        <a:pt x="884" y="157"/>
                        <a:pt x="820" y="144"/>
                      </a:cubicBezTo>
                      <a:cubicBezTo>
                        <a:pt x="785" y="137"/>
                        <a:pt x="751" y="119"/>
                        <a:pt x="714" y="117"/>
                      </a:cubicBezTo>
                      <a:cubicBezTo>
                        <a:pt x="676" y="115"/>
                        <a:pt x="562" y="111"/>
                        <a:pt x="522" y="110"/>
                      </a:cubicBezTo>
                      <a:cubicBezTo>
                        <a:pt x="500" y="104"/>
                        <a:pt x="478" y="93"/>
                        <a:pt x="456" y="89"/>
                      </a:cubicBezTo>
                      <a:cubicBezTo>
                        <a:pt x="442" y="86"/>
                        <a:pt x="415" y="83"/>
                        <a:pt x="415" y="83"/>
                      </a:cubicBezTo>
                      <a:cubicBezTo>
                        <a:pt x="380" y="69"/>
                        <a:pt x="342" y="63"/>
                        <a:pt x="306" y="52"/>
                      </a:cubicBezTo>
                      <a:cubicBezTo>
                        <a:pt x="287" y="39"/>
                        <a:pt x="267" y="21"/>
                        <a:pt x="244" y="14"/>
                      </a:cubicBezTo>
                      <a:cubicBezTo>
                        <a:pt x="234" y="7"/>
                        <a:pt x="225" y="5"/>
                        <a:pt x="213" y="0"/>
                      </a:cubicBezTo>
                      <a:cubicBezTo>
                        <a:pt x="171" y="4"/>
                        <a:pt x="134" y="20"/>
                        <a:pt x="93" y="24"/>
                      </a:cubicBezTo>
                      <a:cubicBezTo>
                        <a:pt x="61" y="31"/>
                        <a:pt x="32" y="35"/>
                        <a:pt x="0" y="35"/>
                      </a:cubicBezTo>
                      <a:lnTo>
                        <a:pt x="21" y="1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06080" y="1994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65160" y="2463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61720" y="30225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46080" y="3733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63400" y="4444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73760" y="259092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7360" y="297180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Philosopher'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35:46Z</dcterms:created>
  <dc:creator>Stefan Jetchick</dc:creator>
  <dc:description/>
  <dc:language>en-US</dc:language>
  <cp:lastModifiedBy>sjj</cp:lastModifiedBy>
  <cp:lastPrinted>2010-04-07T19:37:04Z</cp:lastPrinted>
  <dcterms:modified xsi:type="dcterms:W3CDTF">2017-12-31T22:57:14Z</dcterms:modified>
  <cp:revision>43</cp:revision>
  <dc:subject/>
  <dc:title>PowerPoint Presentation</dc:title>
</cp:coreProperties>
</file>