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804-F638-4C08-A545-AA2B9965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C8E2-AC2E-4B87-ABAC-E6495CFF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81F-9929-4052-BA19-D38E9603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4D4-3A28-4B1E-A518-B06DD546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514-65D9-4C42-8456-C9EE56A1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C6F-1F1A-4846-91CA-A3D7C839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5F0-F665-44C2-8BD7-5C2967FE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3F0-F182-4827-B0F9-EC5FF81B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26F-FD57-4E51-8CB5-9DCE89CB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D7D-DC3D-4121-8CDB-FD9679DA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9CE-F2B0-4E73-A891-EAA8F23D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A32-9D83-4197-8DD3-2EBD317B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601A-EF21-4089-87A8-F735747E9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revoyance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09640" y="2438280"/>
            <a:ext cx="2219760" cy="76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ption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tally screwed up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99680" y="3505320"/>
            <a:ext cx="2527560" cy="76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ption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hould have done thi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82880" y="1371600"/>
            <a:ext cx="2997000" cy="76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ptio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urned into a total disas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revoyance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99760" y="2438280"/>
            <a:ext cx="2644920" cy="76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ption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Quelle foire bordéliq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97000" y="3505320"/>
            <a:ext cx="2943720" cy="76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ption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us aurions du faire ceci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97800" y="1371600"/>
            <a:ext cx="2575080" cy="76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ptio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'est avéré désastreu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4T01:53:36Z</dcterms:created>
  <dc:creator>sjj</dc:creator>
  <dc:description/>
  <dc:language>en-US</dc:language>
  <cp:lastModifiedBy>sjj</cp:lastModifiedBy>
  <dcterms:modified xsi:type="dcterms:W3CDTF">2019-03-24T17:07:15Z</dcterms:modified>
  <cp:revision>2</cp:revision>
  <dc:subject/>
  <dc:title>PowerPoint Presentation</dc:title>
</cp:coreProperties>
</file>