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E42-7FE4-4EAF-B39C-13F0EF51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BB9-FA95-482B-AA08-7DA05459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14E-70EF-45A6-8ACC-20093D8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160-6E83-4E1A-83D5-BD24EB4C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C84-ED1E-4E92-9FBA-FBABC6E3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9C1-D2B0-4962-AB31-80086BDE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FFE-E84A-4D25-9861-02151E3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2D1-4356-4576-8117-42F3770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466-BC2C-4D40-A028-958DB4F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2C6-9E17-4A93-96AC-585B235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72A-535E-4478-B433-48967DB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7C7-BCBC-41A0-AC0C-4FE5DE9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9D08-8A4E-4C75-AEAD-0A21D9020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219320"/>
            <a:ext cx="4038480" cy="4038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1981080"/>
            <a:ext cx="3200400" cy="3200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590920"/>
            <a:ext cx="25146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200400"/>
            <a:ext cx="182880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3733920"/>
            <a:ext cx="121932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640" y="32767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a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7432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V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920" y="21337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rava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1960" y="14479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ontemp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6760" y="4114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1219320"/>
            <a:ext cx="4038480" cy="4038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81080"/>
            <a:ext cx="3200400" cy="3200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90920"/>
            <a:ext cx="25146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200400"/>
            <a:ext cx="182880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733920"/>
            <a:ext cx="1219320" cy="121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276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am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7432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79840" y="21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1240" y="14479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ontemp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4114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Esc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2:36:41Z</dcterms:created>
  <dc:creator>Stefan Jetchick</dc:creator>
  <dc:description/>
  <dc:language>en-US</dc:language>
  <cp:lastModifiedBy>Stefan Jetchick</cp:lastModifiedBy>
  <dcterms:modified xsi:type="dcterms:W3CDTF">2005-01-06T17:39:40Z</dcterms:modified>
  <cp:revision>5</cp:revision>
  <dc:subject/>
  <dc:title>PowerPoint Presentation</dc:title>
</cp:coreProperties>
</file>