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1FA-C2E5-45AD-96F0-9617DC03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93D-BD66-4962-9ACA-BA67DA6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C40-2D85-42C1-8B46-2188666F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73F-5070-4668-AE3E-DD17559C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D5A-2AB7-4EBB-8C2D-6A2D4009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CB8-9434-40AF-B3BD-C9DB7DB5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124-9649-4B06-839E-1D5B04F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6B5-0BD2-424B-A4EB-39E4CF55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B6C-29E0-4554-A48A-B83C484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E6D-BF14-48DE-A663-2A9CB12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E70-D310-4F41-BACA-38B38F7E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E60-7E33-4AE7-B2DA-AF116D9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0B7-068B-4CBA-950E-82D999C1D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676520"/>
            <a:ext cx="381240" cy="1447560"/>
          </a:xfrm>
          <a:custGeom>
            <a:avLst/>
            <a:gdLst>
              <a:gd name="textAreaLeft" fmla="*/ 55800 w 381240"/>
              <a:gd name="textAreaRight" fmla="*/ 325440 w 381240"/>
              <a:gd name="textAreaTop" fmla="*/ 55800 h 1447560"/>
              <a:gd name="textAreaBottom" fmla="*/ 1391760 h 1447560"/>
            </a:gdLst>
            <a:ahLst/>
            <a:rect l="textAreaLeft" t="textAreaTop" r="textAreaRight" b="textAreaBottom"/>
            <a:pathLst>
              <a:path w="21600" h="81958">
                <a:moveTo>
                  <a:pt x="10800" y="0"/>
                </a:moveTo>
                <a:arcTo wR="10800" hR="10800" stAng="16200000" swAng="-5400000"/>
                <a:lnTo>
                  <a:pt x="0" y="71158"/>
                </a:lnTo>
                <a:arcTo wR="10800" hR="10800" stAng="10800000" swAng="-5400000"/>
                <a:lnTo>
                  <a:pt x="10800" y="8195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3886200" y="1752480"/>
            <a:ext cx="7632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4038480" y="3428280"/>
            <a:ext cx="7632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4114800" y="3428280"/>
            <a:ext cx="7632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61800" y="1752480"/>
            <a:ext cx="759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 rot="10800000">
            <a:off x="4267080" y="464832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 rot="10800000">
            <a:off x="4190760" y="4648320"/>
            <a:ext cx="7596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819520"/>
            <a:ext cx="3581280" cy="8380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16200000">
            <a:off x="4152960" y="4953600"/>
            <a:ext cx="7488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200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676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438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9:44:53Z</dcterms:created>
  <dc:creator>sjj</dc:creator>
  <dc:description/>
  <dc:language>en-US</dc:language>
  <cp:lastModifiedBy>sjj</cp:lastModifiedBy>
  <dcterms:modified xsi:type="dcterms:W3CDTF">2014-05-16T19:56:01Z</dcterms:modified>
  <cp:revision>1</cp:revision>
  <dc:subject/>
  <dc:title>PowerPoint Presentation</dc:title>
</cp:coreProperties>
</file>