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AF70-1B10-40D9-8AA7-DC8E26594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8052-502C-4100-B4E5-D0102EAE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37CC-5EC1-4432-B3D2-1EEB50E77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D44A-9354-462B-A50E-155FB08B9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DDBD-6C0D-4F00-BB0A-F008BC32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DB90-E04D-4904-955A-71F54920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04A7-0F05-4638-A515-75DAE926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E59B-72C2-4ABB-9453-EEC237C5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74A3-2558-4E0B-A231-41243498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56EA-B7DE-42FA-AF45-942F9B07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5247-ABD0-4C76-A55E-586D21A2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59C8-43C0-47FC-9175-ECC3B0E6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D3FB-4D47-4B8E-8C0D-3B8842D21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0" y="2286000"/>
            <a:ext cx="1295280" cy="22096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76720" y="3200400"/>
            <a:ext cx="1447560" cy="380880"/>
          </a:xfrm>
          <a:prstGeom prst="cube">
            <a:avLst>
              <a:gd name="adj" fmla="val 841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2286000"/>
            <a:ext cx="1447560" cy="380880"/>
          </a:xfrm>
          <a:prstGeom prst="cube">
            <a:avLst>
              <a:gd name="adj" fmla="val 841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19720" y="2286000"/>
            <a:ext cx="1295280" cy="22096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67080" y="16765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5" idx="4"/>
            <a:endCxn id="43" idx="0"/>
          </p:cNvCxnSpPr>
          <p:nvPr/>
        </p:nvCxnSpPr>
        <p:spPr>
          <a:xfrm flipH="1">
            <a:off x="4160880" y="2057400"/>
            <a:ext cx="297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1600200" y="32004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7" idx="6"/>
            <a:endCxn id="41" idx="2"/>
          </p:cNvCxnSpPr>
          <p:nvPr/>
        </p:nvCxnSpPr>
        <p:spPr>
          <a:xfrm>
            <a:off x="1981080" y="3390840"/>
            <a:ext cx="305280" cy="16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7T16:01:36Z</dcterms:created>
  <dc:creator> </dc:creator>
  <dc:description/>
  <dc:language>en-US</dc:language>
  <cp:lastModifiedBy> </cp:lastModifiedBy>
  <dcterms:modified xsi:type="dcterms:W3CDTF">2013-05-27T16:19:48Z</dcterms:modified>
  <cp:revision>2</cp:revision>
  <dc:subject/>
  <dc:title>PowerPoint Presentation</dc:title>
</cp:coreProperties>
</file>