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5D9-386A-4534-A0BE-6A3BABD6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BAE-C59F-4ECE-B7CD-15E742CB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8A5-4607-4CCE-B7FC-CE098204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3E6-EA2A-4E53-B159-362BFB14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6F4-45D1-4CEC-A723-DACE4B32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D6C-0E63-47FF-9814-E96439F5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050-73C5-4F8D-8629-A48995F9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650-F2DF-485C-887E-54938349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0D1-0C7C-4357-A085-18E913DE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D94-85AA-4B39-BF2D-3C357C6C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87F-1511-450B-9BA3-6CFD7725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545-804D-487B-8772-D07C9C6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94D3-0F14-4943-9F76-84ADB120A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rrow5" descr=""/>
          <p:cNvPicPr/>
          <p:nvPr/>
        </p:nvPicPr>
        <p:blipFill>
          <a:blip r:embed="rId1"/>
          <a:stretch/>
        </p:blipFill>
        <p:spPr>
          <a:xfrm>
            <a:off x="3886200" y="533520"/>
            <a:ext cx="3035160" cy="4481280"/>
          </a:xfrm>
          <a:prstGeom prst="rect">
            <a:avLst/>
          </a:prstGeom>
          <a:ln w="0">
            <a:noFill/>
          </a:ln>
        </p:spPr>
      </p:pic>
      <p:pic>
        <p:nvPicPr>
          <p:cNvPr id="42" name="glory5" descr=""/>
          <p:cNvPicPr/>
          <p:nvPr/>
        </p:nvPicPr>
        <p:blipFill>
          <a:blip r:embed="rId2"/>
          <a:stretch/>
        </p:blipFill>
        <p:spPr>
          <a:xfrm>
            <a:off x="6002280" y="2198520"/>
            <a:ext cx="2303640" cy="3287880"/>
          </a:xfrm>
          <a:prstGeom prst="rect">
            <a:avLst/>
          </a:prstGeom>
          <a:ln w="0">
            <a:noFill/>
          </a:ln>
        </p:spPr>
      </p:pic>
      <p:pic>
        <p:nvPicPr>
          <p:cNvPr id="43" name="sorrow5" descr=""/>
          <p:cNvPicPr/>
          <p:nvPr/>
        </p:nvPicPr>
        <p:blipFill>
          <a:blip r:embed="rId3"/>
          <a:stretch/>
        </p:blipFill>
        <p:spPr>
          <a:xfrm>
            <a:off x="2997360" y="990720"/>
            <a:ext cx="3035160" cy="448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2209680"/>
            <a:ext cx="114912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910520" y="2209680"/>
            <a:ext cx="114804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057560"/>
            <a:ext cx="2297160" cy="219096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1536" y="0"/>
                </a:moveTo>
                <a:lnTo>
                  <a:pt x="1536" y="1632"/>
                </a:lnTo>
                <a:lnTo>
                  <a:pt x="0" y="163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81760" y="4057560"/>
            <a:ext cx="2295360" cy="219096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1536" y="0"/>
                </a:moveTo>
                <a:lnTo>
                  <a:pt x="1536" y="1632"/>
                </a:lnTo>
                <a:lnTo>
                  <a:pt x="0" y="163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533520"/>
            <a:ext cx="1461960" cy="288432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520520" y="533520"/>
            <a:ext cx="1460520" cy="288432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3108240"/>
            <a:ext cx="2922480" cy="314028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1536" y="0"/>
                </a:moveTo>
                <a:lnTo>
                  <a:pt x="1536" y="1632"/>
                </a:lnTo>
                <a:lnTo>
                  <a:pt x="0" y="163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472000"/>
            <a:ext cx="7515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7400" y="5425920"/>
            <a:ext cx="17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mnes c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et sub P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22920" y="56386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ad Je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35560" y="56386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per Mar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3200" y="2209680"/>
            <a:ext cx="114948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132680" y="2209680"/>
            <a:ext cx="114768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162920" y="2108160"/>
            <a:ext cx="1231920" cy="2019240"/>
          </a:xfrm>
          <a:custGeom>
            <a:avLst/>
            <a:gdLst/>
            <a:ahLst/>
            <a:rect l="l" t="t" r="r" b="b"/>
            <a:pathLst>
              <a:path w="776" h="1272">
                <a:moveTo>
                  <a:pt x="0" y="1272"/>
                </a:moveTo>
                <a:cubicBezTo>
                  <a:pt x="27" y="1155"/>
                  <a:pt x="31" y="780"/>
                  <a:pt x="160" y="568"/>
                </a:cubicBezTo>
                <a:cubicBezTo>
                  <a:pt x="289" y="356"/>
                  <a:pt x="648" y="118"/>
                  <a:pt x="776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44400" y="2158920"/>
            <a:ext cx="1041480" cy="1041480"/>
          </a:xfrm>
          <a:custGeom>
            <a:avLst/>
            <a:gdLst/>
            <a:ahLst/>
            <a:rect l="l" t="t" r="r" b="b"/>
            <a:pathLst>
              <a:path w="656" h="656">
                <a:moveTo>
                  <a:pt x="656" y="656"/>
                </a:moveTo>
                <a:cubicBezTo>
                  <a:pt x="617" y="600"/>
                  <a:pt x="533" y="429"/>
                  <a:pt x="424" y="320"/>
                </a:cubicBezTo>
                <a:cubicBezTo>
                  <a:pt x="315" y="211"/>
                  <a:pt x="88" y="67"/>
                  <a:pt x="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5160" y="406440"/>
            <a:ext cx="1498680" cy="1968480"/>
          </a:xfrm>
          <a:custGeom>
            <a:avLst/>
            <a:gdLst/>
            <a:ahLst/>
            <a:rect l="l" t="t" r="r" b="b"/>
            <a:pathLst>
              <a:path w="944" h="1240">
                <a:moveTo>
                  <a:pt x="0" y="1240"/>
                </a:moveTo>
                <a:cubicBezTo>
                  <a:pt x="39" y="1141"/>
                  <a:pt x="75" y="863"/>
                  <a:pt x="232" y="656"/>
                </a:cubicBezTo>
                <a:cubicBezTo>
                  <a:pt x="389" y="449"/>
                  <a:pt x="796" y="137"/>
                  <a:pt x="944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520520" y="406440"/>
            <a:ext cx="1498680" cy="1968480"/>
          </a:xfrm>
          <a:custGeom>
            <a:avLst/>
            <a:gdLst/>
            <a:ahLst/>
            <a:rect l="l" t="t" r="r" b="b"/>
            <a:pathLst>
              <a:path w="944" h="1240">
                <a:moveTo>
                  <a:pt x="0" y="1240"/>
                </a:moveTo>
                <a:cubicBezTo>
                  <a:pt x="39" y="1141"/>
                  <a:pt x="75" y="863"/>
                  <a:pt x="232" y="656"/>
                </a:cubicBezTo>
                <a:cubicBezTo>
                  <a:pt x="389" y="449"/>
                  <a:pt x="796" y="137"/>
                  <a:pt x="944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220px-Ombrellino-keys.svg" descr=""/>
          <p:cNvPicPr/>
          <p:nvPr/>
        </p:nvPicPr>
        <p:blipFill>
          <a:blip r:embed="rId4"/>
          <a:stretch/>
        </p:blipFill>
        <p:spPr>
          <a:xfrm>
            <a:off x="1087560" y="2405160"/>
            <a:ext cx="1655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00_200_0df92967eef63d60ebd3f57931c05dbb-1363203329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sorrow5" descr=""/>
          <p:cNvPicPr/>
          <p:nvPr/>
        </p:nvPicPr>
        <p:blipFill>
          <a:blip r:embed="rId2"/>
          <a:stretch/>
        </p:blipFill>
        <p:spPr>
          <a:xfrm>
            <a:off x="3886200" y="533520"/>
            <a:ext cx="3035160" cy="4481280"/>
          </a:xfrm>
          <a:prstGeom prst="rect">
            <a:avLst/>
          </a:prstGeom>
          <a:ln w="0">
            <a:noFill/>
          </a:ln>
        </p:spPr>
      </p:pic>
      <p:pic>
        <p:nvPicPr>
          <p:cNvPr id="64" name="glory5" descr=""/>
          <p:cNvPicPr/>
          <p:nvPr/>
        </p:nvPicPr>
        <p:blipFill>
          <a:blip r:embed="rId3"/>
          <a:stretch/>
        </p:blipFill>
        <p:spPr>
          <a:xfrm>
            <a:off x="6002280" y="2198520"/>
            <a:ext cx="2303640" cy="3287880"/>
          </a:xfrm>
          <a:prstGeom prst="rect">
            <a:avLst/>
          </a:prstGeom>
          <a:ln w="0">
            <a:noFill/>
          </a:ln>
        </p:spPr>
      </p:pic>
      <p:pic>
        <p:nvPicPr>
          <p:cNvPr id="65" name="sorrow5" descr=""/>
          <p:cNvPicPr/>
          <p:nvPr/>
        </p:nvPicPr>
        <p:blipFill>
          <a:blip r:embed="rId4"/>
          <a:stretch/>
        </p:blipFill>
        <p:spPr>
          <a:xfrm>
            <a:off x="2997360" y="990720"/>
            <a:ext cx="3035160" cy="4481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2209680"/>
            <a:ext cx="114912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10520" y="2209680"/>
            <a:ext cx="114804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057560"/>
            <a:ext cx="2297160" cy="219096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1536" y="0"/>
                </a:moveTo>
                <a:lnTo>
                  <a:pt x="1536" y="1632"/>
                </a:lnTo>
                <a:lnTo>
                  <a:pt x="0" y="163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81760" y="4057560"/>
            <a:ext cx="2295360" cy="219096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1536" y="0"/>
                </a:moveTo>
                <a:lnTo>
                  <a:pt x="1536" y="1632"/>
                </a:lnTo>
                <a:lnTo>
                  <a:pt x="0" y="163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533520"/>
            <a:ext cx="1461960" cy="288432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520520" y="533520"/>
            <a:ext cx="1460520" cy="288432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3108240"/>
            <a:ext cx="2922480" cy="314028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1536" y="0"/>
                </a:moveTo>
                <a:lnTo>
                  <a:pt x="1536" y="1632"/>
                </a:lnTo>
                <a:lnTo>
                  <a:pt x="0" y="163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472000"/>
            <a:ext cx="7515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7400" y="5425920"/>
            <a:ext cx="17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mnes c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et sub P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22920" y="56386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ad Je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560" y="56386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per Mar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83200" y="2209680"/>
            <a:ext cx="114948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132680" y="2209680"/>
            <a:ext cx="1147680" cy="207504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8" y="1368"/>
                  <a:pt x="16" y="1008"/>
                  <a:pt x="144" y="720"/>
                </a:cubicBezTo>
                <a:cubicBezTo>
                  <a:pt x="272" y="432"/>
                  <a:pt x="520" y="216"/>
                  <a:pt x="76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0240" y="2095560"/>
            <a:ext cx="1231920" cy="2019240"/>
          </a:xfrm>
          <a:custGeom>
            <a:avLst/>
            <a:gdLst/>
            <a:ahLst/>
            <a:rect l="l" t="t" r="r" b="b"/>
            <a:pathLst>
              <a:path w="776" h="1272">
                <a:moveTo>
                  <a:pt x="0" y="1272"/>
                </a:moveTo>
                <a:cubicBezTo>
                  <a:pt x="27" y="1155"/>
                  <a:pt x="31" y="780"/>
                  <a:pt x="160" y="568"/>
                </a:cubicBezTo>
                <a:cubicBezTo>
                  <a:pt x="289" y="356"/>
                  <a:pt x="648" y="118"/>
                  <a:pt x="776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30320" y="2120760"/>
            <a:ext cx="1041480" cy="1041480"/>
          </a:xfrm>
          <a:custGeom>
            <a:avLst/>
            <a:gdLst/>
            <a:ahLst/>
            <a:rect l="l" t="t" r="r" b="b"/>
            <a:pathLst>
              <a:path w="656" h="656">
                <a:moveTo>
                  <a:pt x="656" y="656"/>
                </a:moveTo>
                <a:cubicBezTo>
                  <a:pt x="617" y="600"/>
                  <a:pt x="533" y="429"/>
                  <a:pt x="424" y="320"/>
                </a:cubicBezTo>
                <a:cubicBezTo>
                  <a:pt x="315" y="211"/>
                  <a:pt x="88" y="67"/>
                  <a:pt x="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162920" y="2108160"/>
            <a:ext cx="1231920" cy="2019240"/>
          </a:xfrm>
          <a:custGeom>
            <a:avLst/>
            <a:gdLst/>
            <a:ahLst/>
            <a:rect l="l" t="t" r="r" b="b"/>
            <a:pathLst>
              <a:path w="776" h="1272">
                <a:moveTo>
                  <a:pt x="0" y="1272"/>
                </a:moveTo>
                <a:cubicBezTo>
                  <a:pt x="27" y="1155"/>
                  <a:pt x="31" y="780"/>
                  <a:pt x="160" y="568"/>
                </a:cubicBezTo>
                <a:cubicBezTo>
                  <a:pt x="289" y="356"/>
                  <a:pt x="648" y="118"/>
                  <a:pt x="776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44400" y="2158920"/>
            <a:ext cx="1041480" cy="1041480"/>
          </a:xfrm>
          <a:custGeom>
            <a:avLst/>
            <a:gdLst/>
            <a:ahLst/>
            <a:rect l="l" t="t" r="r" b="b"/>
            <a:pathLst>
              <a:path w="656" h="656">
                <a:moveTo>
                  <a:pt x="656" y="656"/>
                </a:moveTo>
                <a:cubicBezTo>
                  <a:pt x="617" y="600"/>
                  <a:pt x="533" y="429"/>
                  <a:pt x="424" y="320"/>
                </a:cubicBezTo>
                <a:cubicBezTo>
                  <a:pt x="315" y="211"/>
                  <a:pt x="88" y="67"/>
                  <a:pt x="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5160" y="406440"/>
            <a:ext cx="1498680" cy="1968480"/>
          </a:xfrm>
          <a:custGeom>
            <a:avLst/>
            <a:gdLst/>
            <a:ahLst/>
            <a:rect l="l" t="t" r="r" b="b"/>
            <a:pathLst>
              <a:path w="944" h="1240">
                <a:moveTo>
                  <a:pt x="0" y="1240"/>
                </a:moveTo>
                <a:cubicBezTo>
                  <a:pt x="39" y="1141"/>
                  <a:pt x="75" y="863"/>
                  <a:pt x="232" y="656"/>
                </a:cubicBezTo>
                <a:cubicBezTo>
                  <a:pt x="389" y="449"/>
                  <a:pt x="796" y="137"/>
                  <a:pt x="944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20520" y="406440"/>
            <a:ext cx="1498680" cy="1968480"/>
          </a:xfrm>
          <a:custGeom>
            <a:avLst/>
            <a:gdLst/>
            <a:ahLst/>
            <a:rect l="l" t="t" r="r" b="b"/>
            <a:pathLst>
              <a:path w="944" h="1240">
                <a:moveTo>
                  <a:pt x="0" y="1240"/>
                </a:moveTo>
                <a:cubicBezTo>
                  <a:pt x="39" y="1141"/>
                  <a:pt x="75" y="863"/>
                  <a:pt x="232" y="656"/>
                </a:cubicBezTo>
                <a:cubicBezTo>
                  <a:pt x="389" y="449"/>
                  <a:pt x="796" y="137"/>
                  <a:pt x="944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9880" y="190512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952880"/>
            <a:ext cx="5105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2286000"/>
            <a:ext cx="5105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22860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3200" y="4616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hemin Saint-Lou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4280" y="19051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levard Lau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3184920" y="3718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u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44956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2767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3800" y="29401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pp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720" y="4159080"/>
            <a:ext cx="24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ergerville (Saint-Mich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33840" y="4597560"/>
            <a:ext cx="228600" cy="2174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79680" y="5181480"/>
            <a:ext cx="23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1450, Des </a:t>
            </a: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Grands-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1"/>
            <a:endCxn id="96" idx="0"/>
          </p:cNvCxnSpPr>
          <p:nvPr/>
        </p:nvCxnSpPr>
        <p:spPr>
          <a:xfrm rot="10800000">
            <a:off x="4577760" y="4814280"/>
            <a:ext cx="597600" cy="535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592360" y="1066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768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1257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828440" y="1257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3344040" y="3363120"/>
            <a:ext cx="1726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Grands-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8120" y="27432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suré/Cens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971800" y="3049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572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3049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9907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049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335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8380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3808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3049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8380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685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9144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133720" y="1523880"/>
            <a:ext cx="4952880" cy="1600200"/>
            <a:chOff x="2133720" y="1523880"/>
            <a:chExt cx="4952880" cy="1600200"/>
          </a:xfrm>
        </p:grpSpPr>
        <p:sp>
          <p:nvSpPr>
            <p:cNvPr id="118" name=""/>
            <p:cNvSpPr/>
            <p:nvPr/>
          </p:nvSpPr>
          <p:spPr>
            <a:xfrm flipV="1">
              <a:off x="2133720" y="1904760"/>
              <a:ext cx="4952880" cy="838080"/>
            </a:xfrm>
            <a:custGeom>
              <a:avLst/>
              <a:gdLst>
                <a:gd name="textAreaLeft" fmla="*/ 1089000 w 4952880"/>
                <a:gd name="textAreaRight" fmla="*/ 3863880 w 4952880"/>
                <a:gd name="textAreaTop" fmla="*/ 184320 h 838080"/>
                <a:gd name="textAreaBottom" fmla="*/ 653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2680" y="1523880"/>
              <a:ext cx="2514600" cy="533520"/>
            </a:xfrm>
            <a:prstGeom prst="can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2680" y="1523880"/>
              <a:ext cx="2514600" cy="27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33720" y="2438280"/>
              <a:ext cx="4952880" cy="68580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40000" y="2362320"/>
              <a:ext cx="455940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248520" y="11430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14479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124080" y="3505320"/>
            <a:ext cx="2971800" cy="990360"/>
            <a:chOff x="3124080" y="3505320"/>
            <a:chExt cx="2971800" cy="990360"/>
          </a:xfrm>
        </p:grpSpPr>
        <p:sp>
          <p:nvSpPr>
            <p:cNvPr id="126" name=""/>
            <p:cNvSpPr/>
            <p:nvPr/>
          </p:nvSpPr>
          <p:spPr>
            <a:xfrm flipV="1">
              <a:off x="3124080" y="3741120"/>
              <a:ext cx="2971800" cy="518400"/>
            </a:xfrm>
            <a:custGeom>
              <a:avLst/>
              <a:gdLst>
                <a:gd name="textAreaLeft" fmla="*/ 653400 w 2971800"/>
                <a:gd name="textAreaRight" fmla="*/ 2318400 w 2971800"/>
                <a:gd name="textAreaTop" fmla="*/ 113760 h 518400"/>
                <a:gd name="textAreaBottom" fmla="*/ 404640 h 51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5240" y="3505320"/>
              <a:ext cx="1508760" cy="330120"/>
            </a:xfrm>
            <a:prstGeom prst="can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55240" y="3505320"/>
              <a:ext cx="1508760" cy="167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071240"/>
              <a:ext cx="2971800" cy="4244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47560" y="4024080"/>
              <a:ext cx="2735640" cy="376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57600" y="4952880"/>
            <a:ext cx="1828800" cy="609840"/>
            <a:chOff x="3657600" y="4952880"/>
            <a:chExt cx="1828800" cy="609840"/>
          </a:xfrm>
        </p:grpSpPr>
        <p:sp>
          <p:nvSpPr>
            <p:cNvPr id="132" name=""/>
            <p:cNvSpPr/>
            <p:nvPr/>
          </p:nvSpPr>
          <p:spPr>
            <a:xfrm flipV="1">
              <a:off x="3657600" y="5097240"/>
              <a:ext cx="1828800" cy="319320"/>
            </a:xfrm>
            <a:custGeom>
              <a:avLst/>
              <a:gdLst>
                <a:gd name="textAreaLeft" fmla="*/ 402120 w 1828800"/>
                <a:gd name="textAreaRight" fmla="*/ 1426680 w 1828800"/>
                <a:gd name="textAreaTop" fmla="*/ 70200 h 319320"/>
                <a:gd name="textAreaBottom" fmla="*/ 249120 h 3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07600" y="4952880"/>
              <a:ext cx="928440" cy="203400"/>
            </a:xfrm>
            <a:prstGeom prst="can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07600" y="4952880"/>
              <a:ext cx="928440" cy="103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57600" y="5301360"/>
              <a:ext cx="1828800" cy="26136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33560" y="5272200"/>
              <a:ext cx="1683720" cy="23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800600" y="33526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47242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58672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59436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14479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6:19:35Z</dcterms:created>
  <dc:creator>Stefan Jetchick</dc:creator>
  <dc:description/>
  <dc:language>en-US</dc:language>
  <cp:lastModifiedBy> </cp:lastModifiedBy>
  <dcterms:modified xsi:type="dcterms:W3CDTF">2013-03-13T23:01:41Z</dcterms:modified>
  <cp:revision>12</cp:revision>
  <dc:subject/>
  <dc:title>PowerPoint Presentation</dc:title>
</cp:coreProperties>
</file>